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6BB-9664-422A-B2FC-1971DB3F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1E3-EF65-4136-AAFF-01210970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423-7986-4D25-BAB5-4F32C448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256-6CD3-4DF2-8EF7-D806308B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A6F-A659-42A1-92DC-17BEF754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629-C895-4BEB-BCB8-A5F9FF98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527-9D1E-4148-A61F-D2A569C9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860-2CE0-4AC4-B8FC-45974E1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FFA-63C9-4FF9-BA68-CB858661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5F9-7DC8-4B6B-8179-DA39F9F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D72-0425-473E-B3ED-40682A1E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5A2-EC3C-44F7-B679-B3FA4CB0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1733-1ADF-4B45-9F54-D4A85B8C9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versus Loc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412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s: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guidelines for designing XM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by discussions on xml-d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D7D-4CB5-4B03-9AAC-A34C29B5E1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Venetian Blin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reuse - the components are globally defined as reusabl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namespace control - can hide or expose the elements since they are nested within typ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exposure switching - elementFormDefault switches namespace exposure on or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d - components are inter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hesive - all related components are group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092-000C-4196-B09D-400F1C27C9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ussian Doll design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schema size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upled components is requi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Salami Slice design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document authors require the ability to use synonyms/aliases for tag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Venetian blind design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require flexibility in hiding/exposing namespaces in instance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 reuse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64560" y="5830920"/>
            <a:ext cx="954000" cy="733320"/>
          </a:xfrm>
          <a:prstGeom prst="cloudCallout">
            <a:avLst>
              <a:gd name="adj1" fmla="val -51333"/>
              <a:gd name="adj2" fmla="val 7381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15760" y="5973840"/>
            <a:ext cx="70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L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DBF-F3F6-4D42-84EA-B407157DF0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ould an element or type be declared global versus when should it be declared local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global element is an element declaration that is an immediate child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lt;schema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A local element is an element declaration that is nested within another component.  Ditto for complexTypes and simple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D6D-D635-41D4-B273-B84AE7BF5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>
            <a:off x="2498400" y="1467000"/>
            <a:ext cx="435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5040" y="131904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 typ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232000" y="2523960"/>
            <a:ext cx="456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96880" y="237636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 typ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88680" y="4057560"/>
            <a:ext cx="428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52160" y="389088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 element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782800" y="1800000"/>
            <a:ext cx="1524240" cy="39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363480" y="1981080"/>
            <a:ext cx="981000" cy="377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887280" y="2171880"/>
            <a:ext cx="47628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72920" y="3390840"/>
            <a:ext cx="18097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858760" y="3209400"/>
            <a:ext cx="1523880" cy="25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811240" y="4609800"/>
            <a:ext cx="157140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12560" y="575784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element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06320" y="4257720"/>
            <a:ext cx="123840" cy="14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600" y="579600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typ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2800" y="582480"/>
            <a:ext cx="5313600" cy="466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?xml version="1.0"?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schema xmlns:xsd="http://www.w3.org/2001/XMLSchema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rgetNamespace="http://www.publishing.org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mlns="http://www.publishing.org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mentFormDefault="qualifie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complexType name="Publication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element name="Title" type="xsd:string" minOccurs="1" maxOccurs="unbounded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element name="Author" type="xsd:string" minOccurs="1" maxOccurs="unbounded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element name="Date" type="xsd:year" minOccurs="1" maxOccurs="1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complexType name="Book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complexCont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extension base="Publication"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element name="ISBN" type="xsd:string" minOccurs="1" maxOccurs="1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element name="Publisher" type="xsd:string" minOccurs="1" maxOccurs="1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extens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complexCont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element name="BookCatalogue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xsd:element name="Book" type="Book" minOccurs="1" maxOccurs="unbounded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xsd:schem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87D-7B3B-4705-9585-4860BB7141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Design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30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n Dol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re nested (inlined) within other components - i.e., self-contained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mi Slic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re declared as separate element declarations, then assembled them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etian Blin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re defined as type definitions, then elements are constructed using th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61D-5C42-42AE-B384-A173BFEC35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2680" y="2227320"/>
            <a:ext cx="8908920" cy="26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440" y="2687760"/>
            <a:ext cx="8310600" cy="18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20800" y="3605040"/>
            <a:ext cx="7029360" cy="3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20800" y="3308400"/>
            <a:ext cx="7029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Dol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400" y="2363760"/>
            <a:ext cx="8867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element name="Book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complexTyp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sequenc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element name="Title" type="xsd:string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xsd:sequenc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xsd:complexTyp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65840" y="5054760"/>
            <a:ext cx="67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with components (boxes within boxes)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like a Russian D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233-6249-4BBC-BE1B-50878AB38C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77880" y="3265560"/>
            <a:ext cx="626112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84480" y="3575160"/>
            <a:ext cx="5554440" cy="184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84720" y="4460760"/>
            <a:ext cx="424332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4720" y="4194000"/>
            <a:ext cx="424332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82560" y="2639880"/>
            <a:ext cx="64789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74640" y="1979640"/>
            <a:ext cx="63532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ami Slic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960" y="2019240"/>
            <a:ext cx="719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element name="Title" type="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element name="Author" type="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complexTyp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sequenc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element ref="Title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xsd:element ref="Author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xsd:sequenc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xsd:complexTyp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13080" y="5697360"/>
            <a:ext cx="77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ce up the components into individual element declara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ssemble them together (using “ref”) - just li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mi sandw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51E-F7C2-42C4-8281-F0F27ED0E8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95600" y="5797440"/>
            <a:ext cx="491004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82640" y="4324320"/>
            <a:ext cx="5281560" cy="13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2640" y="3038400"/>
            <a:ext cx="4537080" cy="110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82640" y="1355760"/>
            <a:ext cx="4335480" cy="14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netian Blin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2480" y="1311120"/>
            <a:ext cx="58348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simpleType name="Titl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numeration value="Mr."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numeration value="Mrs."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numeration value="Dr.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simpleType name="Nam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minLength value="1"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complexType name="Publication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Title" type="Title”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Author" type="Name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xsd:element name="Book" type="Publication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60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74640" y="6116760"/>
            <a:ext cx="76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y out the components as individual type definitions, use elementFormDefaul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ide/expose component namespaces - just like slats on a Venetian bl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323720" y="4849920"/>
            <a:ext cx="11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23720" y="5091120"/>
            <a:ext cx="11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336680" y="12362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137960" y="123660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91800" y="6890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76320" y="120636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877680" y="1225440"/>
            <a:ext cx="24732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6520" y="8938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27080" y="469440"/>
            <a:ext cx="0" cy="816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97560" y="-428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8920" y="127476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3040" y="1419120"/>
            <a:ext cx="11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536-9CE9-4476-9771-74027BF8AA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Russian Dol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Content: nested, invisibl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: few reusabl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ed Scope: nested components have scope limited to the component they are nested with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: can hide (localize) name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: components are bundled into a single, tidy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upled: no dependencies on oth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hesive: all related components are group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765-ECD5-47AE-90ED-98D560E19F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Salami Slic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t Content: the components are globally decl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: components are re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cope: all components are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: namespac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osed; no namespace hiding i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pled: components are inter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: changes to components have a rippl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ve: related components are group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34D-0DE4-44E6-B7EA-0E5CBB9C17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8T13:29:21Z</dcterms:created>
  <dc:creator>Roger L. Costello</dc:creator>
  <dc:description/>
  <dc:language>en-US</dc:language>
  <cp:lastModifiedBy>Roger Costello</cp:lastModifiedBy>
  <dcterms:modified xsi:type="dcterms:W3CDTF">2001-06-14T20:57:10Z</dcterms:modified>
  <cp:revision>230</cp:revision>
  <dc:subject/>
  <dc:title>XML Schemas: Best Practices</dc:title>
</cp:coreProperties>
</file>