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B61-0F67-49A6-A465-406B6D57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66F-79F7-4213-AB6A-EF588D1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191-D904-4385-A1FF-0E03841A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9FE-9299-4221-A5A9-3D275983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F65-FA02-476C-9035-6D9750B2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457-61CA-4DE5-81B7-ED68A4FF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EDA-D902-4B90-8161-45C9116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DFB-3C10-4BA1-979C-1331CFB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D24-0571-4BE3-9D52-B0E87A79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7FC-3473-43D4-845B-2F3B140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B0D-CCAF-4F36-8616-1540A6C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8EF-D6A2-4E00-9321-CC0E30C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704-1CC1-4004-A912-D91181F1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e (Localize) Namespa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se Namespa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s: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guidelines for designing XM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by discussions on xml-d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670-D130-4E41-B1EE-0ADFC249B2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480" y="458640"/>
            <a:ext cx="8994600" cy="378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680" y="533520"/>
            <a:ext cx="8928720" cy="3717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:camera xmlns:my="http://www.camera.or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xsi="http://www.w3.org/2001/XMLSchema-instanc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si:schemaLocation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http://www.camera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mera.xs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escription&gt;Ergonomically designed casing for easy handling&lt;/descripti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zoom&gt;300mm&lt;/zo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-stop&gt;1.2&lt;/f-st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peed&gt;1/10,000 sec to 100 sec&lt;/spe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y:camer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2760" y="1828800"/>
            <a:ext cx="8337240" cy="2152800"/>
            <a:chOff x="482760" y="1828800"/>
            <a:chExt cx="8337240" cy="2152800"/>
          </a:xfrm>
        </p:grpSpPr>
        <p:sp>
          <p:nvSpPr>
            <p:cNvPr id="112" name=""/>
            <p:cNvSpPr/>
            <p:nvPr/>
          </p:nvSpPr>
          <p:spPr>
            <a:xfrm>
              <a:off x="1744920" y="1897200"/>
              <a:ext cx="553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tance document with namespaces hid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ocalized) within the 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760" y="1828800"/>
              <a:ext cx="8337240" cy="215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description&gt;Ergonomically designed casing for easy handling&lt;/descriptio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len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zoom&gt;300mm&lt;/zoo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f-stop&gt;1.2&lt;/f-st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len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manual_adap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speed&gt;1/10,000 sec to 100 sec&lt;/spe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manual_adap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4160" y="4497480"/>
            <a:ext cx="875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document with namespaces hidden (localized) in th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&gt; The fact tha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description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come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on schema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zoom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f-stop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s com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ympus schema, an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speed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 come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ax schema is totally transparent to the instanc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00680" y="8244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A16-3A7B-4DDD-8A3B-BE9F2149D0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Requirements for Hiding (Localizing)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ma must be desig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ementForm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se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lements whose namespaces are to be localized to the schema must be declared locally (recall that global elements must always be qualif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FormDefault only behaves as a “switch” when this requirement is m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8C9-3FE7-4C21-B982-A2506C3F7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0920" y="468360"/>
            <a:ext cx="7435080" cy="52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rgetNamespace="http://www.camera.or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nikon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olympus="http://www.olympus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pentax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Nikon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olympus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Olympus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Pentax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camera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body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nikon:body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lens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olympus:lens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manual_adapter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pentax:manual_adapter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4240" y="61563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ma is designed to expose 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50C-B008-4E71-BDDE-978634769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52560" y="401760"/>
            <a:ext cx="7335720" cy="46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07280" y="463680"/>
            <a:ext cx="7221600" cy="456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:camera xmlns:c="http://www.camera.or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nikon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olympus="http://www.olympus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pentax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xsi="http://www.w3.org/2001/XMLSchema-instanc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si:schemaLocation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http://www.camera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mera.xs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: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ikon:description&gt;Ergonomically designed casing for eas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ndling&lt;/nikon: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: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: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lympus:zoom&gt;300mm&lt;/olympus:zo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lympus:f-stop&gt;1.2&lt;/olympus:f-st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: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: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ntax:speed&gt;1/10,000 sec to 100 sec&lt;/pentax:spe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: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:camer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29800" y="57070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document with namespaces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73800" y="2585880"/>
            <a:ext cx="6368040" cy="520200"/>
            <a:chOff x="1873800" y="2585880"/>
            <a:chExt cx="6368040" cy="520200"/>
          </a:xfrm>
        </p:grpSpPr>
        <p:sp>
          <p:nvSpPr>
            <p:cNvPr id="124" name=""/>
            <p:cNvSpPr/>
            <p:nvPr/>
          </p:nvSpPr>
          <p:spPr>
            <a:xfrm>
              <a:off x="1928880" y="2609640"/>
              <a:ext cx="6186600" cy="443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3800" y="2585880"/>
              <a:ext cx="636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nikon:description&gt;Ergonomically designed casing for eas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andling&lt;/nikon:descriptio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04040" y="3463920"/>
            <a:ext cx="4021200" cy="520200"/>
            <a:chOff x="1904040" y="3463920"/>
            <a:chExt cx="4021200" cy="520200"/>
          </a:xfrm>
        </p:grpSpPr>
        <p:sp>
          <p:nvSpPr>
            <p:cNvPr id="127" name=""/>
            <p:cNvSpPr/>
            <p:nvPr/>
          </p:nvSpPr>
          <p:spPr>
            <a:xfrm>
              <a:off x="1915560" y="3488040"/>
              <a:ext cx="3989520" cy="45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4040" y="3463920"/>
              <a:ext cx="4021200" cy="520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olympus:zoom&gt;300mm&lt;/olympus:zoo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olympus:f-stop&gt;1.2&lt;/olympus:f-st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93960" y="4294080"/>
            <a:ext cx="5825880" cy="307080"/>
            <a:chOff x="1893960" y="4294080"/>
            <a:chExt cx="5825880" cy="307080"/>
          </a:xfrm>
        </p:grpSpPr>
        <p:sp>
          <p:nvSpPr>
            <p:cNvPr id="130" name=""/>
            <p:cNvSpPr/>
            <p:nvPr/>
          </p:nvSpPr>
          <p:spPr>
            <a:xfrm>
              <a:off x="1893960" y="4306680"/>
              <a:ext cx="5825880" cy="28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38240" y="4294080"/>
              <a:ext cx="572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pentax:speed&gt;1/10,000 sec to 100 sec&lt;/pentax:spe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100680" y="3168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A02-5725-440F-9EBB-14FA0D53F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Requirements for either Hiding or Exposing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382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FormDefault applies just to the schema that it is in.  It does not apply to schemas that it includes or imports.  Consequently, if you want to hide namespaces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mas involved must have set elementFormDefault="unqualified".  Likewise, if you want to expose namespaces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hemas involved must have set elementFormDefault="qualified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couple of slides shows what happens when a mix of elementFormDefault values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454-466D-42E8-B138-39BD6A771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0680" y="4916520"/>
            <a:ext cx="3171600" cy="13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120" y="2563920"/>
            <a:ext cx="2832120" cy="704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804960"/>
            <a:ext cx="3057480" cy="704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61120" y="2454120"/>
            <a:ext cx="2935080" cy="704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988640" y="3679560"/>
            <a:ext cx="190188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10080" y="2039760"/>
            <a:ext cx="0" cy="288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92840" y="3633840"/>
            <a:ext cx="169200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6680" y="32432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kon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280" y="269568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0240" y="1538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lympus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7280" y="10206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6600" y="3137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ntax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9280" y="265428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11360" y="6313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mera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37520" y="544032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8D3-6801-439F-B3C6-5DFDCD531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87000" y="5389560"/>
            <a:ext cx="70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ing/exposure mix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is 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Nikon and Pentax namespaces expos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he Camera and Olympus namespaces are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00680" y="3168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2560" y="520560"/>
            <a:ext cx="73198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7280" y="582480"/>
            <a:ext cx="7221600" cy="4356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:camera xmlns:my="http://www.camera.or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nikon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pentax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xsi="http://www.w3.org/2001/XMLSchema-instanc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si:schemaLocation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http://www.camera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mera.xs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ikon:description&gt;Ergonomically designed casing for eas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ndling&lt;/nikon: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lympus:zoom&gt;300mm&lt;/olympus:zo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lympus:f-stop&gt;1.2&lt;/olympus:f-sto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len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entax:speed&gt;1/10,000 sec to 100 sec&lt;/pentax:spe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anual_adap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y:camer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02600" y="3355920"/>
            <a:ext cx="4874760" cy="520200"/>
            <a:chOff x="1902600" y="3355920"/>
            <a:chExt cx="4874760" cy="520200"/>
          </a:xfrm>
        </p:grpSpPr>
        <p:sp>
          <p:nvSpPr>
            <p:cNvPr id="155" name=""/>
            <p:cNvSpPr/>
            <p:nvPr/>
          </p:nvSpPr>
          <p:spPr>
            <a:xfrm>
              <a:off x="1917360" y="3380040"/>
              <a:ext cx="4835520" cy="45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2600" y="3355920"/>
              <a:ext cx="4874760" cy="520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olympus:zoom&gt;300mm&lt;/olympus:zoo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olympus:f-stop&gt;1.2&lt;/olympus:f-st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292400" y="2301840"/>
            <a:ext cx="6856200" cy="2346120"/>
            <a:chOff x="1292400" y="2301840"/>
            <a:chExt cx="6856200" cy="2346120"/>
          </a:xfrm>
        </p:grpSpPr>
        <p:sp>
          <p:nvSpPr>
            <p:cNvPr id="158" name=""/>
            <p:cNvSpPr/>
            <p:nvPr/>
          </p:nvSpPr>
          <p:spPr>
            <a:xfrm>
              <a:off x="2329200" y="2376360"/>
              <a:ext cx="553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tance document with namespaces hid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ocalized) within the 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2400" y="2301840"/>
              <a:ext cx="685620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description&gt;Ergonomically designed casing for eas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andling&lt;/descriptio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bod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len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zoom&gt;300mm&lt;/zoom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f-stop&gt;1.2&lt;/f-stop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len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manual_adap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speed&gt;1/10,000 sec to 100 sec&lt;/spe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/manual_adap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29000" y="2478240"/>
            <a:ext cx="6368040" cy="520200"/>
            <a:chOff x="1629000" y="2478240"/>
            <a:chExt cx="6368040" cy="520200"/>
          </a:xfrm>
        </p:grpSpPr>
        <p:sp>
          <p:nvSpPr>
            <p:cNvPr id="161" name=""/>
            <p:cNvSpPr/>
            <p:nvPr/>
          </p:nvSpPr>
          <p:spPr>
            <a:xfrm>
              <a:off x="1684080" y="2501640"/>
              <a:ext cx="6186600" cy="442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9000" y="2478240"/>
              <a:ext cx="636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nikon:description&gt;Ergonomically designed casing for eas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andling&lt;/nikon:description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719360" y="4186080"/>
            <a:ext cx="5825880" cy="307080"/>
            <a:chOff x="1719360" y="4186080"/>
            <a:chExt cx="5825880" cy="307080"/>
          </a:xfrm>
        </p:grpSpPr>
        <p:sp>
          <p:nvSpPr>
            <p:cNvPr id="164" name=""/>
            <p:cNvSpPr/>
            <p:nvPr/>
          </p:nvSpPr>
          <p:spPr>
            <a:xfrm>
              <a:off x="1719360" y="4198680"/>
              <a:ext cx="5825880" cy="28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3640" y="4186080"/>
              <a:ext cx="572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pentax:speed&gt;1/10,000 sec to 100 sec&lt;/pentax:speed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E66-BBA5-413F-BFAC-EF81B2C61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When to Hide (Localize) Namespaces within the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simplicity, readability, and understandability of instance documents is of utmost importance. In many scenarios the users of the instance documents are not XML-experts. Namespaces would distract and confuse such users, where they are just concerned about structure and cont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amespaces in the instance provide no necessary additional inform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you need the flexibility of being able to change the inner components without impact to insta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.  Changing from using the Olympus schema to declar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zoom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-sto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 to another vendor’s schema is trans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DD0-C06F-40CF-8C26-73A52AD654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When to Expose Namespaces in Instanc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7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lineage (ownership) of the elements are important, e.g., for copyright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re are multiple elements with the same name then it may be necessary to qualify those elements to make clear their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hapter:body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uman:body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cessing (by an application) of the instance document elements is dependent upon knowledge of the namespaces of th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ing applications to go to the schema for such information may be costly in terms of spe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st may be negated as XML API’s (DOM, SAX) provide namespace information for each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5C4-EDA7-4BFB-93E0-05CC54A59E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two versions of all your schemas - one with elementFormDefault="qualified" and the other with elementFormDefault="unqualified"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schema designer adopts this practice then each schema designer will be able to make a choice on whether to hide or expose name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the use of global elements and attributes so that elementFormDefault may be used as an “exposure switc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4560" y="5830920"/>
            <a:ext cx="95400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15760" y="59738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3DC-ADAF-4034-BAAE-A640E11B03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 flipV="1">
            <a:off x="3314520" y="3109680"/>
            <a:ext cx="59364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57640" y="3072960"/>
            <a:ext cx="384480" cy="10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1880" y="2516040"/>
            <a:ext cx="3092400" cy="68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51560" y="2562120"/>
            <a:ext cx="298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schem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rgetNamespace=“A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1840" y="317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2536920"/>
            <a:ext cx="3092400" cy="681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400" y="2583000"/>
            <a:ext cx="298476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schem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rgetNamespace=“B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6680" y="3198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2200" y="4135320"/>
            <a:ext cx="5452920" cy="2071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90720" y="4165560"/>
            <a:ext cx="505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schem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rgetNamespace="C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import namespace="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hemaLocation="A.xs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:import namespace="B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hemaLocation="B.xs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2840" y="6173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cenario: Multiple Schemas, each with a Different 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CFD-1ACC-4F07-8D24-AC018159FE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e (Localize)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3920" y="2200320"/>
            <a:ext cx="5291280" cy="3567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3240" y="5813280"/>
            <a:ext cx="55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paces of the components are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le in the insta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2080" y="2228760"/>
            <a:ext cx="18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41560" y="2214720"/>
            <a:ext cx="5245200" cy="8283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myDo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Location=“C C.xs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6760" y="5270400"/>
            <a:ext cx="1546560" cy="408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myDo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9720" y="3154320"/>
            <a:ext cx="1657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9720" y="3554280"/>
            <a:ext cx="1657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2680" y="3954600"/>
            <a:ext cx="165708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9720" y="4349880"/>
            <a:ext cx="165744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22680" y="4749840"/>
            <a:ext cx="16570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8480" y="1827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A8E-1800-436D-A6B6-88A29FF33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se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3920" y="2200320"/>
            <a:ext cx="5291280" cy="3567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62080" y="2228760"/>
            <a:ext cx="18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2214720"/>
            <a:ext cx="5245200" cy="8283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myDo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Location=“C C.xs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4160" y="5345280"/>
            <a:ext cx="1546200" cy="407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myDoc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97120" y="3165480"/>
            <a:ext cx="1657440" cy="409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97120" y="3560760"/>
            <a:ext cx="1657440" cy="409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09720" y="3960720"/>
            <a:ext cx="1657440" cy="409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97120" y="4373640"/>
            <a:ext cx="1657440" cy="409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2440" y="4773600"/>
            <a:ext cx="1657440" cy="409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800" y="5813280"/>
            <a:ext cx="58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paces of the components are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insta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08480" y="1827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53F-054D-45F1-AADE-65ABAB541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e (Localize)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spaces of the elements used in an instance document are hidden within the schem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namespace complexities are localized to the schemas.  The complexities are not propagated to instance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DE5-9876-4363-AA20-64E1B2258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se Namesp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spaces of the elements used in an instance document are made visible in instance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B0F-39BD-4B8D-A7C5-82A9E086C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33840" y="2573280"/>
            <a:ext cx="4986000" cy="2511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6160" y="3984480"/>
            <a:ext cx="356220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FormDefault - the Exposure “Switch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270400" y="32418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960800" y="3044520"/>
            <a:ext cx="3096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3680" y="3056040"/>
            <a:ext cx="267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289240" y="3614760"/>
            <a:ext cx="267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2400" y="2778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71080" y="33368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59520" y="3179520"/>
            <a:ext cx="0" cy="77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40520" y="40402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Form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1240" y="5724360"/>
            <a:ext cx="3914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chema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ementFormDefault=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6400" y="5753160"/>
            <a:ext cx="4128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chema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ementFormDefault=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960" y="5761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1360" y="31258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08440" y="2212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0E2-61A8-4710-96D9-4EB84354C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Design the below Schemas to Hide (Localize) Namespaces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Design them to Expose Namesp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83000" y="4916520"/>
            <a:ext cx="1954080" cy="13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mera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5120" y="3244680"/>
            <a:ext cx="1668600" cy="704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kon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84720" y="3249720"/>
            <a:ext cx="2089080" cy="704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lympus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4680" y="3240000"/>
            <a:ext cx="2089080" cy="704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ntax.x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394000" y="3962520"/>
            <a:ext cx="149688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10080" y="3962160"/>
            <a:ext cx="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92840" y="3951360"/>
            <a:ext cx="153324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15E-E7FA-494F-97D2-8911D0636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3320" y="480960"/>
            <a:ext cx="7435080" cy="52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rgetNamespace="http://www.camera.org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nikon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olympus="http://www.olympus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pentax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nikon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Nikon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olympus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Olympus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xsd:import namespace="http://www.pentax.co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hemaLocation="Pentax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camera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body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nikon:body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lens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olympus:lens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manual_adapter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="pentax:manual_adapter_type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80200" y="6156360"/>
            <a:ext cx="56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hema is designed to hide 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E0F-C177-474E-B414-D8AFB5C2A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3:29:21Z</dcterms:created>
  <dc:creator>Roger L. Costello</dc:creator>
  <dc:description/>
  <dc:language>en-US</dc:language>
  <cp:lastModifiedBy>Roger Costello</cp:lastModifiedBy>
  <dcterms:modified xsi:type="dcterms:W3CDTF">2001-06-14T18:27:10Z</dcterms:modified>
  <cp:revision>200</cp:revision>
  <dc:subject/>
  <dc:title>XML Schemas: Best Practices</dc:title>
</cp:coreProperties>
</file>