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F47CD-DB6E-45CB-B3AB-85DF4B6C6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FEC5A-5F19-49C0-8ED4-37D36F936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663D6-00E2-4255-8930-3407B5A0D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784EF-927E-4A17-AEB6-B3EF6167D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79635-1729-48B2-9267-17EE65472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18C1A-8027-4E8C-B1C4-29DE44655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D44AA-7FCC-4EED-811C-845F82BDF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46F00-6EE4-4AF0-9D2F-062482A38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277DD-571D-40D9-8802-50C7CC2B3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4FC73-E3DF-456D-9D0A-6159AF358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4BA37-82EC-48C5-910E-F601430E0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32334-068B-4684-A633-64C4488D3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95228-C296-4480-A50B-3864D1233B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ment versus Type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44124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Schemas: Best Practices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t of guidelines for designing XML Schemas</a:t>
            </a:r>
            <a:endParaRPr b="0" lang="en-US" sz="28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d by discussions on xml-dev</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AD00B6-50CD-4627-BCFC-59B52ED3EB6E}"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sue</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892160"/>
            <a:ext cx="7772400" cy="110808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should a component be declared as an element versus defined as a typ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
          <p:cNvSpPr/>
          <p:nvPr/>
        </p:nvSpPr>
        <p:spPr>
          <a:xfrm>
            <a:off x="1212840" y="2968560"/>
            <a:ext cx="7191360" cy="3816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Warranty" be declared as an el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element name="Warranty"&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element&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as a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complexType name="Warranty"&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complexType&g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8E943E3-9C6C-49C6-8B2D-B347CC66FB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ideline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When in doubt, make it a typ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always create an element from the typ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If the component is never intended to be an element in an instance document then make it a typ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If the item’s content is to be reused by other items then make it a typ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7E04C7-9D73-48D5-872C-E43BEA1CAE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idelines (concluded)</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If the item is intended to be used as an element in instance documents, and it’s required that sometimes it be nillable and other times not, then it must be defined it as a type</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If the item is intended to be used as an element in instance documents and synonyms/aliases are to be allowed to substitute for the element, then it must be declared as an element [the synonyms/aliases are also declared as elements and form a substitutionGroup]</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EC9585-3F1C-4B4F-B5BE-7546524437D6}"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8T13:29:21Z</dcterms:created>
  <dc:creator>Roger L. Costello</dc:creator>
  <dc:description/>
  <dc:language>en-US</dc:language>
  <cp:lastModifiedBy>Roger Costello</cp:lastModifiedBy>
  <dcterms:modified xsi:type="dcterms:W3CDTF">2001-06-19T19:26:33Z</dcterms:modified>
  <cp:revision>223</cp:revision>
  <dc:subject/>
  <dc:title>XML Schemas: Best Practices</dc:title>
</cp:coreProperties>
</file>