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499-6A03-4E1A-B4AE-FB90367A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5D5E-A5AB-4037-A106-F2D2FAD2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A781-7ED5-47FE-8232-61141CE0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EB3-AA5A-4842-9490-58F7CD2D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9C3-E1CA-40EE-8CAE-B0E91275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6CC-49AA-478B-9153-76ABBDEF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51A-7364-41D9-9B28-82B1DF2A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D51-DDC3-484B-9D2B-1A4140F3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B69-DA11-48D6-9F0E-7D79ACA3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D479-497F-4D45-BABB-066B7897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6EE-F6C6-4EAC-ABB4-1940DB13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DA8-03D3-4822-AC14-9417A2BB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AAB0-E28C-4A25-97E9-BA0BDAC61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20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st Practi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412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Schemas: Best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of guidelines for designing XML Sc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d by discussions on xml-d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57B7-93A4-40A5-B961-EA20717862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s - big ... powerful ... no experienc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nything new it is oftentimes difficult to know how to “get starte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pose is to shed light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sign issues involved in creating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ous designs and their pros and 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402A-8709-429F-8E7E-7E906552F3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’s Creating the Guidelin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guidelines are being developed collectively by discussions among members of the xml-dev list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4280" y="4362480"/>
            <a:ext cx="1440000" cy="20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 Cost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t Arno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ul Spenc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y Pulvermac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 Bull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line Clew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die Robertss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 R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is Nor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59120" y="4354560"/>
            <a:ext cx="130500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nald Bourr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 Clea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k Jelliff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ivo Lainev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c van der Vli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 Hun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ke Ripl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 Hod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Schles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53080" y="4376880"/>
            <a:ext cx="1492200" cy="21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Lany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jay Sangh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in Co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Pass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athan Bo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 Engl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Thomps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 Br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 Grei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line W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ry Molendij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85320" y="6407280"/>
            <a:ext cx="49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re welcome to join the discu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81640" y="4367160"/>
            <a:ext cx="149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tin Bry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 Nentw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4513-42B6-4248-9AB7-A2446AAFAA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complete summary of discussions se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xfront.com/BestPracticesHomepag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114-7B37-42E1-8A1C-26B7782ACB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e or Expo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the schema to hide (localize) within the schema the namespaces of all the components being used, or design it to expose the namespaces in instance docum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ro, One, or Many Namespa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ypical project will involve the creation of multiple schemas.  Do we design each schema to have the same namespace, or all different namespaces, or no namespa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DEC-985C-4172-ABD0-64C1365F11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or Loc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we define our schema components globally or locally? What are the impli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 or Ty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we define our schema components as elements or types (i.e., complexType or simpleType)?  What are the impli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17DB-1770-4E9A-A3F3-A9DE96CDF1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Namespace - targetNamespace or XMLSche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reasons why you should make the targetNamespace the default namespace.  Learn w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ng Variable Content Co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veral approaches to creating an element whose content may vary.  Each approach has its advantages and dis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850-A3C0-4A7E-A360-D70FDC5177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ble Content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design our schemas so that instance documents can contain elements above and beyond what the schema specif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ing XML Sch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Schemas is not all powerful.  What do we do when we have a constraint that cannot be expressed with XML Schem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else?  (Suggestions welco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609-14F6-45BF-8105-ECE91913C4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8T13:29:21Z</dcterms:created>
  <dc:creator>Roger L. Costello</dc:creator>
  <dc:description/>
  <dc:language>en-US</dc:language>
  <cp:lastModifiedBy>Roger L. Costello</cp:lastModifiedBy>
  <dcterms:modified xsi:type="dcterms:W3CDTF">2001-06-22T11:57:52Z</dcterms:modified>
  <cp:revision>254</cp:revision>
  <dc:subject/>
  <dc:title>XML Schemas: Best Practices</dc:title>
</cp:coreProperties>
</file>