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567280" y="144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6388-0E79-42E2-9638-2EAEB1AA5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-63360" y="-228600"/>
            <a:ext cx="348588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 Directory Description Language (RDDL)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nounced "riddle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ger L. Cos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using RD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: a browser receives an XML document containing vocabulary from the http://www.xfront.com/juicers namespace, and it would like to present a nicely styled display.  The browser follows the namespace URL to the RDDL document (shown on the previous slide), scans through the RDDL document looking for a &lt;resource&gt; element whose nature is http://www.w3.org/1999/XSL/Transform  and whose purpose is http://www.rddl.org/purposes#browser-viewing.  It then follows the xlink:href to juicers1.xsl to obtain the stylesheet.  Now it styles the instance document using the stylesheet.  Pretty cool, ay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space spec says that a namespace must be a URI.  A URI can either be a URL or a URN.  I recommend that when you create a namespace you make it a U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recommend that the namespace URL be a valid URL, which points to a RDDL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RD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urpose of RDDL is to answer the question, "What's at the end of a namespace?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you create a namespace you may want to provide pointers to some information (resources) for the namespace.  The resources may include such things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fication document that defines the name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chema that defines the name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application that may be used to process the name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tylesheet for styling instance document using the name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logo for the name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TD for the name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RDF schema, a Schematron schem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RDDL document is a document containing pointers to resources for a name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3240" y="4305240"/>
            <a:ext cx="2114640" cy="217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4360" y="400212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xfront.com/jui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33080" y="45943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i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57320" y="475920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3960" y="513540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19000" y="511488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88880" y="544032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9280" y="577836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49560" y="5756400"/>
            <a:ext cx="72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a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56840" y="526716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11600" y="2189160"/>
            <a:ext cx="1260360" cy="193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60680" y="3130560"/>
            <a:ext cx="1027080" cy="8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87480" y="193500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DDL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25720" y="2357280"/>
            <a:ext cx="1038600" cy="1736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68f6"/>
                </a:solidFill>
                <a:latin typeface="Times New Roman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68f6"/>
                </a:solidFill>
                <a:latin typeface="Times New Roman"/>
              </a:rPr>
              <a:t>XML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68f6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68f6"/>
                </a:solidFill>
                <a:latin typeface="Times New Roman"/>
              </a:rPr>
              <a:t>Style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68f6"/>
                </a:solidFill>
                <a:latin typeface="Times New Roman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8720" y="1592280"/>
            <a:ext cx="803160" cy="10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824360" y="754200"/>
            <a:ext cx="1569960" cy="172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62720" y="2933640"/>
            <a:ext cx="803160" cy="10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42200" y="4297320"/>
            <a:ext cx="803160" cy="10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0640" y="5686560"/>
            <a:ext cx="803160" cy="107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826160" y="2141640"/>
            <a:ext cx="1571400" cy="72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9360" y="3267000"/>
            <a:ext cx="1768680" cy="149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64080" y="3649680"/>
            <a:ext cx="1857240" cy="1162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69120" y="1353960"/>
            <a:ext cx="87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uicers.x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76680" y="26892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uicers.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27080" y="406224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uicers.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43640" y="545004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uicer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8720" y="271440"/>
            <a:ext cx="803160" cy="10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43560" y="334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uicers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3983040"/>
            <a:ext cx="2203560" cy="21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RDDL documents using the RDD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5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DDL language is a combination of XHTML + XLink + a single new element called resour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624120"/>
            <a:ext cx="797472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ddl:resource xlink:type="simp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link:href="http://wwwxfront.com/juicers.xs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link:role="http://www.w3.org/2001/XMLSchema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&lt;a href="http://www.xfront.com/juicers.xsd"&gt;XML Schema&lt;/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juicers name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ddl:resour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9560" y="5769000"/>
            <a:ext cx="739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resource element indicates that, for the juicers namespace, there is an XML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the URL indicated by href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DDL: for humans and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8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DL uses XHTML so that humans can view the document.  It uses the resource element and XLink for machines to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2080" y="2932200"/>
            <a:ext cx="797472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ddl:resource xlink:type="simp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link:href="http://wwwxfront.com/juicers.xs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link:role="http://www.w3.org/2001/XMLSchema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&lt;a href="http://www.xfront.com/juicers.xsd"&gt;XML Schema&lt;/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juicers name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ddl:resour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57200" y="5051520"/>
            <a:ext cx="713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mans will see this XHTML and follow this hyperlink (browsers will simply ign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unknown resource element, so humans will not see the resource elemen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955600" y="4565160"/>
            <a:ext cx="74520" cy="50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010120" y="4268520"/>
            <a:ext cx="100080" cy="84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1040" y="5559480"/>
            <a:ext cx="810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hines will ignore the XHTML, go straight to the resource element and follow the xlink:hre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machines uses the xlink:role attribute to understand what is th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the document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resource element is pointing 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187280" y="3327120"/>
            <a:ext cx="297000" cy="2252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link:role - Identifies 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the resource being referenc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xlink:role attribute is used to identif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resource being pointed at.  The value of this attribute must be a URL.  In order for machines to make sense of it, there must be standard URLs for each na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si.edu/in-notes/iana/assignments/media-types/application/xml-dtd identifies a DTD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w3.org/2000/01/rdf-schema# identifies an RDF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w3.org/2001/XMLSchema identifies an XML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w3.org/1999/XSL/Transform identifies a stylsh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rddl.org/natures/software#java identifies software written in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http://www.rddl.org/natures for a complete list of n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38720" y="647640"/>
            <a:ext cx="5650200" cy="49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DOCTYPE html PUBLIC "-//XML-DEV//DTD XHTML RDDL 1.0//E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http://www.rddl.org/rddl-xhtml.dtd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tml xmlns="http://www.w3.org/1999/xhtml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mlns:xlink="http://www.w3.org/1999/xlink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mlns:rddl="http://www.rddl.org/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title&gt;A RDDL document for juicers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a RDDL document for the juicers name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rddl:resource xlink:type="simpl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link:href="http://wwwxfront.com/juicers.xs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link:role="http://www.w3.org/2001/XMLSchema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&lt;a href="http://www.xfront.com/juicers.xsd"&gt;XML Schema&lt;/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the juicers namesp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rddl:resour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04200" y="5665680"/>
            <a:ext cx="689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the RDDL document at http://www.xfront.com/juicers, i.e., it is the RDD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 for the namespace http://www.xfront.com/jui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link:arcrole - Identifies the purpose of the resour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tentimes there will be multiple resources with the same nature.  For example, there may be multiple styleshee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tylesheet for brow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tylesheet for cell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tylesheet for palm pi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that all these stylesheet resources are of the sam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tyling), but each has a differen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(optional) xlink:arcrole attribute allows us to identify the purpose of a 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value of xlink:arcrole must be a URL.  For machines to make sense of it, you must use a standard UR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rddl.org/purposes/software#normative-reference indicates that the resource is the normative 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rddl.org/purposes/software#non-normative-reference indicates that the resource is the non-normative 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rddl.org/purposes#entities indicates that the DTD only contains ent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rddl.org/purposes#schema-validation  indicates that the schema is to be used for validation (the nature would indicate whether the schema is an XML Schema, or a RELAX schema, et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http://www.rddl.org/purposes for a complete list of purpose UR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4600" y="76320"/>
            <a:ext cx="4819680" cy="679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!DOCTYPE html PUBLIC "-//XML-DEV//DTD XHTML RDDL 1.0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"http://www.rddl.org/rddl-xhtml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tml xmlns="http://www.w3.org/1999/xhtml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mlns:rddl="http://www.rddl.org/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title&gt;A second RDDL document for juicers&lt;/tit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p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is a second RDDL document for the juicers names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p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rddl:resource xlink:type="simple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link:href="http://wwwxfront.com/juicers1.xsl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link:role="http://www.w3.org/1999/XSL/Transform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link:arcrole="http://www.rddl.org/purposes#browser-viewing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p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&lt;a href="http://www.xfront.com/juicers-browser.xsl"&gt;XSL Stylesheet&lt;/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be used to style a juicers document for viewing in a brows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p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rddl:resourc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rddl:resource xlink:type="simple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link:href="http://wwwxfront.com/juicers2.xsl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link:role="http://www.w3.org/1999/XSL/Transform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link:arcrole="http://www.rddl.org/purposes#cellphone-viewing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p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&lt;a href="http://www.xfront.com/juicers-cellphone.xsl"&gt;XSL Stylesheet&lt;/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be used to style a juicers document for viewing in a cellpho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p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rddl:resourc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rddl:resource xlink:type="simple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link:href="http://wwwxfront.com/juicers3.xsl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link:role="http://www.w3.org/1999/XSL/Transform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link:arcrole="http://www.rddl.org/purposes#palm-pilot-viewing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p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&lt;a href="http://www.xfront.com/juicers-palm-pilot.xsl"&gt;XSL Stylesheet&lt;/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be used to style a juicers document for viewing in a palm pi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p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rddl:resourc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84480" y="3098880"/>
            <a:ext cx="2474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is RDDL docum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o three resources, and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urces have the same 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y are all XSLT stylesheets), 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resource has a different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691240" y="2992320"/>
            <a:ext cx="1014480" cy="2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03600" y="3228840"/>
            <a:ext cx="221328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933360" y="3228840"/>
            <a:ext cx="2783160" cy="19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5200" y="1849320"/>
            <a:ext cx="140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second RD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 fo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uicers name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1:41:34Z</dcterms:created>
  <dc:creator>Roger L. Costello</dc:creator>
  <dc:description/>
  <dc:language>en-US</dc:language>
  <cp:lastModifiedBy>costello</cp:lastModifiedBy>
  <dcterms:modified xsi:type="dcterms:W3CDTF">2002-01-07T17:43:57Z</dcterms:modified>
  <cp:revision>63</cp:revision>
  <dc:subject/>
  <dc:title>XML APIs (Part 1) The Simple API for XML (SAX)</dc:title>
</cp:coreProperties>
</file>