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71A-89CC-454B-B5AF-1C61F407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BF7-315B-4969-A0E5-EF938747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4DE-4544-429E-8B45-55F2BB1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C65-1066-484D-8966-E99411F5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6A7-FFB9-4DA9-ADDF-345CD64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F14-46E5-4035-94CE-3DDA6614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2C9-6490-43A2-B9AE-CB12160C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CCD-9B60-40A7-810F-9FD4C7AA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A0A-5491-48F7-B64E-FB3F3240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278-F8FC-4001-B8C8-A73F6E7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3F2-C688-472D-AADA-4E86B8BB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923-4C54-49FB-9B1D-AEFAF6F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C976-ADB5-4EA7-A777-D7BCFE3AB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28680" y="1052640"/>
            <a:ext cx="8307360" cy="4946400"/>
            <a:chOff x="328680" y="1052640"/>
            <a:chExt cx="8307360" cy="49464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0" t="0" r="14944" b="36607"/>
            <a:stretch/>
          </p:blipFill>
          <p:spPr>
            <a:xfrm>
              <a:off x="328680" y="1052640"/>
              <a:ext cx="8296200" cy="49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53880" y="5978520"/>
              <a:ext cx="82821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618400" y="1077840"/>
              <a:ext cx="15840" cy="491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183200" y="3873240"/>
              <a:ext cx="78552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210200" y="3924360"/>
              <a:ext cx="24494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05160" y="4175280"/>
              <a:ext cx="238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preprocess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ma, insert 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notation for e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/attribut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wing the legal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llegal valu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17870" b="61345"/>
          <a:stretch/>
        </p:blipFill>
        <p:spPr>
          <a:xfrm>
            <a:off x="162000" y="1176480"/>
            <a:ext cx="8010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35287" b="60145"/>
          <a:stretch/>
        </p:blipFill>
        <p:spPr>
          <a:xfrm>
            <a:off x="1506600" y="641520"/>
            <a:ext cx="63118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056" b="59167"/>
          <a:stretch/>
        </p:blipFill>
        <p:spPr>
          <a:xfrm>
            <a:off x="264960" y="917640"/>
            <a:ext cx="7407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2:42:29Z</dcterms:created>
  <dc:creator>Roger L. Costello</dc:creator>
  <dc:description/>
  <dc:language>en-US</dc:language>
  <cp:lastModifiedBy>Roger L. Costello</cp:lastModifiedBy>
  <dcterms:modified xsi:type="dcterms:W3CDTF">2006-12-18T14:16:15Z</dcterms:modified>
  <cp:revision>2</cp:revision>
  <dc:subject/>
  <dc:title>Slide 1</dc:title>
</cp:coreProperties>
</file>