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8567280" y="1440"/>
            <a:ext cx="8168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2B5F8-41C5-4C93-AA79-C1B1F8BB14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roduction to XML,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ML Namespaces,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ML Schem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ger L. Costell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MITRE Corpo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ML Family</a:t>
            </a:r>
            <a:br>
              <a:rPr sz="4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Programmatically accessing XML data using SAX/DO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85800" y="1981080"/>
            <a:ext cx="7772400" cy="19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 some point a software program will want to access and manipulate the data that is in the XML docu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standard Application Programming Interface (API) would avoid duplication of eff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X and DOM are two standard XML AP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941480" y="5289480"/>
            <a:ext cx="1866960" cy="1109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195280" y="5564160"/>
            <a:ext cx="1402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u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313160" y="5138640"/>
            <a:ext cx="534960" cy="12477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3889080" y="5583960"/>
            <a:ext cx="1356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AX/D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361120" y="5365800"/>
            <a:ext cx="1304640" cy="866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570640" y="5392800"/>
            <a:ext cx="917640" cy="75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X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21040" y="5805360"/>
            <a:ext cx="4827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875120" y="5788080"/>
            <a:ext cx="4827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ML Family</a:t>
            </a:r>
            <a:br>
              <a:rPr sz="4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Querying XML data using XQuer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85800" y="1981080"/>
            <a:ext cx="7772400" cy="11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 may wish to provide a query tool so that the data can be queri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418440" y="3683160"/>
            <a:ext cx="834840" cy="19969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416640" y="4362480"/>
            <a:ext cx="841320" cy="7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XM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160880" y="4295880"/>
            <a:ext cx="1279440" cy="939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335120" y="4348080"/>
            <a:ext cx="94356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e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816280" y="4591080"/>
            <a:ext cx="1344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459400" y="4575240"/>
            <a:ext cx="971640" cy="1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467320" y="4897440"/>
            <a:ext cx="971640" cy="14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773440" y="4965840"/>
            <a:ext cx="1344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911240" y="4309920"/>
            <a:ext cx="9435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e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741680" y="4727520"/>
            <a:ext cx="1080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ML Family</a:t>
            </a:r>
            <a:br>
              <a:rPr sz="4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nnecting XML documents through hyperlinks using XLink and XPoint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63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 might wish to provide hyperlinking capabilities in your XML data, so that you can express the relationship between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177920" y="3533760"/>
            <a:ext cx="2349360" cy="2832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093320" y="6323040"/>
            <a:ext cx="2604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 XML docu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699160" y="3495600"/>
            <a:ext cx="2349360" cy="2832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297400" y="6302520"/>
            <a:ext cx="31305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other XML docu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211400" y="4172040"/>
            <a:ext cx="20649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ease check out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thi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excell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view of Anna and the King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69360" y="4870440"/>
            <a:ext cx="204516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 is my review of Jodi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ster’s new movie, Anna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King 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359080" y="3751200"/>
            <a:ext cx="3644640" cy="2145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487600" y="3751200"/>
            <a:ext cx="3364920" cy="87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6757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6757"/>
              </a:path>
            </a:pathLst>
          </a:custGeom>
          <a:noFill/>
          <a:ln cap="rnd"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ML Family</a:t>
            </a:r>
            <a:br>
              <a:rPr sz="4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 standard way of describing metadata using RD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tadata is important - it enables us to find thing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ource Description Framework (RDF) is an XML vocabulary for providing metadata for any resource on the Web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218200" y="5029200"/>
            <a:ext cx="1622160" cy="1469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b resour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document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vice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tire web site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t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3684240" y="5764320"/>
            <a:ext cx="1506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195200" y="5342040"/>
            <a:ext cx="2408760" cy="824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o created it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en was it created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ow long is the data valid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611360" y="6093000"/>
            <a:ext cx="109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ta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ML Family</a:t>
            </a:r>
            <a:br>
              <a:rPr sz="4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Expressing the data's business rules using XML Schem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71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do we confirm that our XML data is conforming to all the business rules of the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ML Schemas is an XML vocabulary for expressing the data's business rul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774800" y="4913280"/>
            <a:ext cx="6811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666800" y="4788000"/>
            <a:ext cx="987480" cy="814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433680" y="4753080"/>
            <a:ext cx="1554120" cy="814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ML Sche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cess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487680" y="6114960"/>
            <a:ext cx="1514520" cy="5907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ML Sche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662200" y="5181480"/>
            <a:ext cx="771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H="1" flipV="1">
            <a:off x="4193640" y="5574960"/>
            <a:ext cx="1800" cy="530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4992840" y="4795560"/>
            <a:ext cx="690480" cy="322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653800" y="4568760"/>
            <a:ext cx="146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 is val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984920" y="5127480"/>
            <a:ext cx="653760" cy="2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631120" y="5151600"/>
            <a:ext cx="166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 is inval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ML Family</a:t>
            </a:r>
            <a:br>
              <a:rPr sz="4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Using multiple vocabularies? Avoid name collisions  using namespac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80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se that you create an XML document using multiple XML vocabula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ample. The medical XML vocabulary plus the NIST (measurements standards) XML vocabulary. It is not too difficult to imagine the medical XML vocabulary containing a tag called "foot".  Likewise, the NIST XML vocabulary may contain a tag called "foot".  Same name, ve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fferent semantics.  How do we distinguish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urpose of namespaces is to provide a syntax by which we can distinguish vocabulari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90800" y="5734080"/>
            <a:ext cx="1901160" cy="1008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foot&gt;…&lt;/foot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foot&gt;…&lt;/foot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3827160" y="594504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553640" y="5716440"/>
            <a:ext cx="355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uman foot? Measurement foot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a group of systems which pass around data, here are some things to consi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do we organize the dat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do we transform the dat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do we programmatically access the dat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do we query the dat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do we relate one document to anothe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do we express metadat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do we express the data's business r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do we distinguish data with the same name but different semantic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$$$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takes a lot of time and money to build and maintain all these capabilities yoursel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w mainstream commercial companies will create them for y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ML and its Family of Technolog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85880" y="2313000"/>
            <a:ext cx="2446200" cy="30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nt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e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a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siness r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tinguish na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133600" y="2351160"/>
            <a:ext cx="2164320" cy="30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S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X/D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Que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Link/XPoin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D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ML Sche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spa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5560" y="2554200"/>
            <a:ext cx="3300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2798640" y="2928960"/>
            <a:ext cx="2301840" cy="1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908000" y="4024440"/>
            <a:ext cx="3192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31840" y="4390920"/>
            <a:ext cx="3081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732040" y="4767120"/>
            <a:ext cx="2394000" cy="1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222720" y="5146560"/>
            <a:ext cx="1930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420920" y="3308400"/>
            <a:ext cx="3657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1736640" y="3657600"/>
            <a:ext cx="3398760" cy="1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ML Namespaces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oiding name collision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abling domain-specific XML vocabul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ger L. Costell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MITRE Corpo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ML - Family of Technolog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630600" y="3738600"/>
            <a:ext cx="905040" cy="9046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356000" y="2922480"/>
            <a:ext cx="905040" cy="9050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sp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046320" y="2787480"/>
            <a:ext cx="905040" cy="9050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SLT/XPa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713120" y="4114800"/>
            <a:ext cx="905040" cy="9050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ML Schem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08400" y="4697280"/>
            <a:ext cx="904680" cy="9050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D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446200" y="3665520"/>
            <a:ext cx="905040" cy="9050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Que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060640" y="4608360"/>
            <a:ext cx="904680" cy="9050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473720" y="5091120"/>
            <a:ext cx="904680" cy="9050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X/D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025720" y="2637000"/>
            <a:ext cx="904680" cy="9046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AP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SDL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DD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78400" y="2789280"/>
            <a:ext cx="905040" cy="9046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link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Poi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54520" y="2017800"/>
            <a:ext cx="904680" cy="9046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DD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52840" y="5459400"/>
            <a:ext cx="904680" cy="9050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h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781600" y="3871800"/>
            <a:ext cx="905040" cy="9050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lem that Namespaces Addre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12800" y="2590920"/>
            <a:ext cx="1631880" cy="15951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756320" y="2590920"/>
            <a:ext cx="1631880" cy="15951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38760" y="2257560"/>
            <a:ext cx="234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edical XML Vocabul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433400" y="2239920"/>
            <a:ext cx="319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IST (msrmt stds) XML Vocabul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754280" y="422100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783440" y="2808360"/>
            <a:ext cx="115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oskelet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639440" y="3300480"/>
            <a:ext cx="61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705040" y="3147840"/>
            <a:ext cx="56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od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866960" y="3605040"/>
            <a:ext cx="58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p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457360" y="3502080"/>
            <a:ext cx="69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09960" y="3129120"/>
            <a:ext cx="509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o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942440" y="2843280"/>
            <a:ext cx="51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641560" y="301320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e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835880" y="3425760"/>
            <a:ext cx="64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319360" y="370368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ilome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246640" y="3220920"/>
            <a:ext cx="509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o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379680" y="4635360"/>
            <a:ext cx="1309680" cy="1595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83200" y="3962520"/>
            <a:ext cx="1256400" cy="1326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4240080" y="3846600"/>
            <a:ext cx="1326960" cy="1558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334680" y="4919760"/>
            <a:ext cx="1390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&gt;…&lt;/foot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342600" y="5645160"/>
            <a:ext cx="1390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&gt;…&lt;/foot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H="1" flipV="1">
            <a:off x="4760640" y="5091120"/>
            <a:ext cx="501480" cy="1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243760" y="4827600"/>
            <a:ext cx="29667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s this a a human foot, or 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asurement foot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a machine processes th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cument, how will it b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ble to distinguish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070440" y="6173640"/>
            <a:ext cx="181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ML docu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e Solu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e solution is to avoid name conflicts by requiring every tag name to be unique. 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ody_foo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versu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srmt_foo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will one domain know what tag names other domains are using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may need long names, e.g.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uman_female_body_foo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versu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uman_male_body_fo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Namespace Solu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649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ep 1. Each domain shall assign a label to their XML vocabulary.  This label is called a namespa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85800" y="4016520"/>
            <a:ext cx="1632240" cy="15951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729320" y="4016520"/>
            <a:ext cx="1631880" cy="15951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212840" y="3683160"/>
            <a:ext cx="23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MA Medical Name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23920" y="3657600"/>
            <a:ext cx="1614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IST Name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756440" y="4233960"/>
            <a:ext cx="115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oskelet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612440" y="4726080"/>
            <a:ext cx="61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678040" y="4573440"/>
            <a:ext cx="56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od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839960" y="5030640"/>
            <a:ext cx="58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p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430360" y="4927680"/>
            <a:ext cx="69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82960" y="4554360"/>
            <a:ext cx="509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o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915800" y="4268880"/>
            <a:ext cx="51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614560" y="443880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e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808880" y="4851360"/>
            <a:ext cx="64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292360" y="512928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ilome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219640" y="4646520"/>
            <a:ext cx="509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o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Namespace Solution (concluded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130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ep 2. Qualify each tag with namespace qualifi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16200" y="3936960"/>
            <a:ext cx="2824200" cy="2249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668320" y="4875120"/>
            <a:ext cx="210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med:foot&gt;…&lt;/med:foot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674440" y="5600880"/>
            <a:ext cx="240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msrmt:foot&gt;…&lt;/msrmt:foot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070440" y="6173640"/>
            <a:ext cx="181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ML docu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703240" y="3951360"/>
            <a:ext cx="2827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ssociate "med" with AMA Medic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ssociate "msrmt" with NI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H="1" flipV="1">
            <a:off x="4714560" y="5073480"/>
            <a:ext cx="1353960" cy="314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>
            <a:off x="5011200" y="5397480"/>
            <a:ext cx="1057320" cy="330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123960" y="5132520"/>
            <a:ext cx="3036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us, we have achieved ou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al of disambiguating th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g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amespace = Labe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's the format of the labe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621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all that a namespace is a name we give to a collection of tags.  Example, the AMA namespace is comprised of body, nerve, endoskeleton, etc ta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we give a namespace any name?  No, a namespace name must be formatted as a URI (URI = URL + URN).  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631160" y="5643720"/>
            <a:ext cx="439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ttp://www.ama.org/namespaces/medic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623240" y="6145200"/>
            <a:ext cx="336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ttp://www.nist.org/namesp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ML Schemas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suring that your data business rules are m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ger L. Costell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MITRE Corpo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XML Schema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An XML vocabulary for expressing your data's business ru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712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362600" y="1676520"/>
            <a:ext cx="3899520" cy="1159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location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latitude&gt;32.904237&lt;/latitud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longitude&gt;73.620290&lt;/longitud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uncertainty units="meters"&gt;2&lt;/uncertainty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/location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029240" y="2938320"/>
            <a:ext cx="763452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s this data valid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be valid, it must meet thes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nstraint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. The location must be comprised of a latitude, follow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y a longitude, followed by an indication of the uncertain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 the lat/lon measure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. The latitude must be a decimal with a value between -90 to +9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. The longitude must be a decimal with a value between -180 to +18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. For both latitude and longitude the number of digits to the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 the decimal point must be exactly six digi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. The value of uncertainty must be a non-negative inte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. The uncertainty units must be either meters or fee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86360" y="6378480"/>
            <a:ext cx="682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e can express all these data constaints using XML Sche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alidating your da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03920" y="2320920"/>
            <a:ext cx="3899520" cy="1159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location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latitude&gt;32.904237&lt;/latitud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longitude&gt;73.620290&lt;/longitud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uncertainty units="meters"&gt;2&lt;/uncertainty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/location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12560" y="4437000"/>
            <a:ext cx="3855240" cy="946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check that the latitude is between -90 and +9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check that the longitude is between -180 and +18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check that the fraction digits is 6 for lat and l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405080" y="5383080"/>
            <a:ext cx="161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ML Sche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530680" y="3406680"/>
            <a:ext cx="1578240" cy="1049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ML Sche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id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294080" y="2905200"/>
            <a:ext cx="1228680" cy="752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257720" y="4249440"/>
            <a:ext cx="1272960" cy="654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7099200" y="3935520"/>
            <a:ext cx="476280" cy="1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525080" y="3738600"/>
            <a:ext cx="129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 is ok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M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and its Family of Technologies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85800" y="1981080"/>
            <a:ext cx="77724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’s all about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ucturing the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cessing and manipulating the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355760" y="4362480"/>
            <a:ext cx="1879560" cy="1135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477800" y="4689360"/>
            <a:ext cx="16308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uter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721400" y="4362480"/>
            <a:ext cx="1879560" cy="1135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843080" y="4689360"/>
            <a:ext cx="16308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uter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60880" y="487692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703680" y="4427640"/>
            <a:ext cx="679320" cy="377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697560" y="4375080"/>
            <a:ext cx="6904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125360" y="3492360"/>
            <a:ext cx="6124680" cy="24782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ssing Data between Syst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85800" y="1981080"/>
            <a:ext cx="7772400" cy="11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ose that you’ve got moving target data that you want to pass between some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731600" y="4259160"/>
            <a:ext cx="493488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uid:093a2da1-q345-739r, 32.904237, 73.62029, 2 me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uid:093a2da1-q345-739r, 32.904236, 73.62029, 2 me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uid:093a2da1-q345-739r, 32.904235, 73.62029, 2 me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ssing Data between Syst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1981080"/>
            <a:ext cx="7772400" cy="10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st thing you might do is agree on how you will structure your dat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559160" y="4114800"/>
            <a:ext cx="6044400" cy="1003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uid:093a2da1-q345-739r /32.904237/73.62029/2 me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uid:093a2da1-q345-739r/32.904236/73.62029/2 me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uid:093a2da1-q345-739r/32.904235/73.62029/2 me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577520" y="3800520"/>
            <a:ext cx="62650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d                                             / latitude      / longitude /uncertain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71160" y="5614920"/>
            <a:ext cx="783180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e we are using a slash to delimit (separate) each field and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riage return to delimit each reco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ternative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717280" y="1022400"/>
            <a:ext cx="4165200" cy="3711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target id=" uuid:093a2da1-q345-739r"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location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latitude&gt;32.904237&lt;/latitud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longitude&gt;73.62029&lt;/longitud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uncertainty units="meters"&gt;2&lt;/uncertainty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/location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location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latitude&gt;32.904236&lt;/latitud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longitude&gt;73.62029&lt;/longitud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uncertainty units="meters"&gt;2&lt;/uncertainty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/location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location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latitude&gt;32.904235&lt;/latitud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longitude&gt;73.62029&lt;/longitud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uncertainty units="meters"&gt;2&lt;/uncertainty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/location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/target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45120" y="5732640"/>
            <a:ext cx="783972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e we are delimiting each data item with a start and e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a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are enclosing each record also within a start-end ta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aris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24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1000"/>
          </a:bodyPr>
          <a:p>
            <a:pPr marL="277560" indent="-2775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lash-delimi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v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25560" indent="-1850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ttle space overhe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dv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25560" indent="-1850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gid format (cannot shuffle the data aroun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g-delimited (XM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v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25560" indent="-1850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lexible format (can shuffle the data aroun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25560" indent="-1850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gs enhance ability to search for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25560" indent="-1850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gs enhance ability to extract subsets of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dv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25560" indent="-1850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rbose (XML Bloa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 of XM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ML is about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ganizing your dat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wrapping the data within tag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ML i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tensi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you can create your own set of tags to be used to markup your data (contrast with HTML where there is a fixed set of tags).  That is, you can create your ow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ML vocabula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 the previous slide we started creating 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TI vocabula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ML is called 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eta-langu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it's a language that describes how to create your own language (your own XML vocabular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ML Family</a:t>
            </a:r>
            <a:br>
              <a:rPr sz="4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ransforming XML using XSL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34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8000"/>
          </a:bodyPr>
          <a:p>
            <a:pPr marL="301680" indent="-3016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w that your data is organized in a nice fashion (i.e., it's in XML format), you may want to transform i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vert it into an HTML document for display on the we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lter, rearrange the data before sending it to a cl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vert it to an old legacy data format for continued interoperation with legacy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ML Stylesheet Language Transformations (XSLT) is an XML vocabulary for describing how to transform an XML docu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380960" y="5014800"/>
            <a:ext cx="887400" cy="636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X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111480" y="5014800"/>
            <a:ext cx="1165320" cy="636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S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cess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238560" y="6145200"/>
            <a:ext cx="887400" cy="636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S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3657600" y="5655960"/>
            <a:ext cx="0" cy="484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259000" y="5289480"/>
            <a:ext cx="852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4276800" y="4974840"/>
            <a:ext cx="9684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253120" y="4711680"/>
            <a:ext cx="90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94080" y="5289480"/>
            <a:ext cx="933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59240" y="5081760"/>
            <a:ext cx="74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284720" y="5280120"/>
            <a:ext cx="914400" cy="376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49520" y="5402160"/>
            <a:ext cx="64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11T12:24:39Z</dcterms:created>
  <dc:creator>Roger L. Costello</dc:creator>
  <dc:description/>
  <dc:language>en-US</dc:language>
  <cp:lastModifiedBy>Roger Costello</cp:lastModifiedBy>
  <dcterms:modified xsi:type="dcterms:W3CDTF">2002-01-18T21:45:16Z</dcterms:modified>
  <cp:revision>182</cp:revision>
  <dc:subject/>
  <dc:title>XML</dc:title>
</cp:coreProperties>
</file>