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30C-7F00-4CA9-858C-8D25F22E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8F6-B5F3-4C66-940B-AAD4103D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EED-85D7-422D-97D2-D76883CF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5FD-11AF-4708-978E-33C860A5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524-4D5A-4320-B1E2-60E1D35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C5C-92BE-4338-AB13-CF66F22E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126-057C-400D-A919-C6FE045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AE8-1AD4-4626-8659-1820693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097-0C35-4DB6-BF3D-C608BCE0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537-836C-4CC8-9FB8-98D75F1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917-B0A0-4585-9FF0-4D964C3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219-800A-4644-874F-858665D1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60" y="-15732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[2002].  Roger L. Costello.  All Rights Reserv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84120" y="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2C46-8620-4880-A018-9EA2703CC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chemas Reference Man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er L. Cost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Technologies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FB0-C25C-4224-9720-CCA955C450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53960" y="2575080"/>
            <a:ext cx="71683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 default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49640" y="5572080"/>
            <a:ext cx="70448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20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B35-5EEC-4681-BC4B-20CB8CC50E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a default,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080" y="3289320"/>
            <a:ext cx="25524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0880" y="216864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local attribute which ref's to a global attribute declaration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72240" y="3197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53320" y="3514680"/>
            <a:ext cx="597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global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98A-EE81-4562-B38A-FDCE5124D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8640" y="2138400"/>
            <a:ext cx="53744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 default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48560" y="5135400"/>
            <a:ext cx="7154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3F2-3660-4CDD-A13C-32D7877611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3009960"/>
            <a:ext cx="24516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800" y="1889280"/>
            <a:ext cx="77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global attribute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0960" y="2917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02480" y="3235320"/>
            <a:ext cx="4958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ype cannot be ID , or a type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s from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574-60CF-4172-A887-1116E1568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52160" y="2138400"/>
            <a:ext cx="66380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 default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48560" y="5135400"/>
            <a:ext cx="7154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2E-8E33-4496-A006-967D6A2FF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760" y="3100320"/>
            <a:ext cx="25524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0880" y="1855800"/>
            <a:ext cx="76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local attribute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6960" y="3305160"/>
            <a:ext cx="614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ype cannot be ID , or a type which derives from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62720" y="3005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21F-7A08-4ADE-88B1-C210C6D11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54680" y="2575080"/>
            <a:ext cx="70095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 fixed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3960" y="5572080"/>
            <a:ext cx="5645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Specifying 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20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0E6-C0F9-4C84-BA5B-BD8738F57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a fixed value,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5320" y="3289320"/>
            <a:ext cx="25524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216864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A local attribute which ref's to a global attribute declaration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7640" y="3197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5480" y="3514680"/>
            <a:ext cx="60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global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D01-ABA6-4317-9951-FF78154BB1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59360" y="2138400"/>
            <a:ext cx="52160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 fixed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2880" y="5135400"/>
            <a:ext cx="5711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07B-AA9C-484F-B2DE-4EBC4D9786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9080" y="3009960"/>
            <a:ext cx="206316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800" y="1889280"/>
            <a:ext cx="77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A global attribute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0960" y="2917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06800" y="3235320"/>
            <a:ext cx="480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ype cannot be ID , or a type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s from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ACB-99A7-4E55-BD17-3895EDFC2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two Powerpoint documents showed how to write schemas.  Many (but not all) of the features of XML Schemas was prese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this document is to serve as a complete reference manual.  For each XML Schema component (attribute, element, complexType, simpleType, group, attributeGroup, and annotation) I summarize the capabilities of the components, and explain each capability.  As always, there will be lots of examples.  I hope that you find this us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B16-04AF-44B5-9F8D-E0FD451DB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3240" y="2138400"/>
            <a:ext cx="64792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 fixed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2880" y="5135400"/>
            <a:ext cx="5638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489-C731-44CB-8EBA-26F444A65C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88720" y="3219480"/>
            <a:ext cx="212724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640" y="1889280"/>
            <a:ext cx="82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Attribute which uses an existing type (either a built-in type or a user-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).  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07520" y="3286080"/>
            <a:ext cx="5193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wo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0960" y="29703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E4D-EAAB-43E9-B610-0A84EB924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61160" y="2575080"/>
            <a:ext cx="45439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52520" y="5572080"/>
            <a:ext cx="6640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&lt;!-- src has no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Assigning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20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3BE-7CB5-4CD5-8E08-693351EA6E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,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3289320"/>
            <a:ext cx="18439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000" y="2168640"/>
            <a:ext cx="85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Attribute which ref's to a global attribute declaration. 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0960" y="3197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07520" y="3514680"/>
            <a:ext cx="519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DFE-61C2-4981-8D3D-0987CB50A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58280" y="2138400"/>
            <a:ext cx="36842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51440" y="5135400"/>
            <a:ext cx="6750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src has no 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Assigning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747-EC12-4962-9E9C-5E76700712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89080" y="3009960"/>
            <a:ext cx="2063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800" y="1889280"/>
            <a:ext cx="77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A global attribute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. 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0960" y="31971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13280" y="35146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80D-C47E-489C-A5C5-5FE4AF8095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9720" y="2138400"/>
            <a:ext cx="401364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type="xsd:anyURI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52880" y="5135400"/>
            <a:ext cx="6520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src has no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Assign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72B-2470-4C08-8B89-542A8A8651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" y="2732040"/>
            <a:ext cx="91256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2680" y="1855800"/>
            <a:ext cx="746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A local attribute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83080" y="4613400"/>
            <a:ext cx="60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impleType cannot be a restriction of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0000" y="45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437-D8DD-4C19-9385-8414229795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58280" y="2173320"/>
            <a:ext cx="675648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default="http://www.xfront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49640" y="5572080"/>
            <a:ext cx="70448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200" y="2606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5E4-8538-4763-8DBC-5884DD5094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a default,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9000" y="2987640"/>
            <a:ext cx="7478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0160" y="2168640"/>
            <a:ext cx="83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A local attribute which ref's to a global attribute declaration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1840" y="3513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4800" y="3830760"/>
            <a:ext cx="60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global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ECF-6C82-4DA9-9A0A-82447CB81B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ms used to declar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120" y="1843200"/>
            <a:ext cx="8564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the items that you use in declaring attrib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declare what will be the name of the attribute i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refer-to an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declare the datatype of the attribute's value i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give the attribute a defaul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give the attribute a fixed (constant)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specify whether the attribute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a default or fixed value is specified in th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have the 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default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39640" y="6162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.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E11-10D4-429A-AD53-BF637EE0DE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53600" y="1631880"/>
            <a:ext cx="605412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 default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48560" y="5135400"/>
            <a:ext cx="7154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200" y="20653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9DE-6ED6-41A4-8FF1-C436AF0D55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80440" y="3009960"/>
            <a:ext cx="57038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600" y="1889280"/>
            <a:ext cx="76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A global attribute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95800" y="4734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9840" y="5051520"/>
            <a:ext cx="498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impleType cannot be a restriction of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458-F98C-4503-A3BC-CCCCF088B7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48560" y="5135400"/>
            <a:ext cx="7154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     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/BestPractices.html"/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7200" y="1631880"/>
            <a:ext cx="640296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default="http://www.xfront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715-8313-476D-9D54-544A0C458D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0400" y="2732040"/>
            <a:ext cx="8685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680" y="1855800"/>
            <a:ext cx="746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A local attribute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3080" y="4613400"/>
            <a:ext cx="60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impleType cannot be a restriction of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0000" y="45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7D2-E39A-440F-A88C-3EB29B6574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58280" y="2173320"/>
            <a:ext cx="675648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fixed="http://www.xfront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3600" y="5572080"/>
            <a:ext cx="56016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200" y="2606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DB3-6D2D-4AE0-B941-8B67ECCC77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a fixed value,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80800" y="2987640"/>
            <a:ext cx="7038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0160" y="2168640"/>
            <a:ext cx="83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A local attribute which ref's to a global attribute declaration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1840" y="3513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4800" y="3830760"/>
            <a:ext cx="605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global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AF7-C7AC-4363-AB04-EF899C8821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3600" y="1631880"/>
            <a:ext cx="605412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 fixed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52880" y="5135400"/>
            <a:ext cx="5711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200" y="20653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3FC-C8CA-4CA4-925E-FE5C523919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82240" y="3009960"/>
            <a:ext cx="52635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0160" y="188928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A global attribute which creates a user-defined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95800" y="4734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9840" y="5051520"/>
            <a:ext cx="498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impleType cannot be a restriction of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371-C8DA-47EE-86B8-A984D364BF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52880" y="5135400"/>
            <a:ext cx="5711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57200" y="1631880"/>
            <a:ext cx="640296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 fixed="http://www.xfront.com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082-0D00-4ECE-9813-D479E9D06B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2920" y="2716200"/>
            <a:ext cx="63594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200" y="1855800"/>
            <a:ext cx="64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A local attribute which creates a user-defined type in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0000" y="45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26120" y="4608360"/>
            <a:ext cx="512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6BD-314D-469F-88CD-120A4BBA76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ms used to declar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" y="2112840"/>
            <a:ext cx="8997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d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associate a unique identifier to the attribute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d has no representation in the instance document.  It is p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to the schema.  The type of this value must be xsd: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overri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hich is specified on the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).  There are two possible values 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the 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the attribute mus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742-BBBC-4EDE-AF0F-7F1F62FB4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58280" y="2173320"/>
            <a:ext cx="675648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6840" y="5572080"/>
            <a:ext cx="52524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&lt;!-- src has no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Assigning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200" y="26067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BE9-934D-459D-B818-48BCA531DD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ref's to a 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3320" y="2971800"/>
            <a:ext cx="4712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4480" y="2168640"/>
            <a:ext cx="670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A local attribute which ref's to a global attribute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1840" y="35132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8400" y="3830760"/>
            <a:ext cx="519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9F5-95DA-4DAB-A8F9-B7F54DF127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2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41720" y="5937120"/>
            <a:ext cx="60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must be namespace-qualified since it was declared glob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53600" y="1631880"/>
            <a:ext cx="605412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5135400"/>
            <a:ext cx="5362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&lt;!-- src has no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Assigning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200" y="20653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2A8-81E5-432C-BD93-EBD38D215C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5480" y="3009960"/>
            <a:ext cx="3817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480" y="1889280"/>
            <a:ext cx="64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A global attribute which creates a user-defined type 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95800" y="4734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8480" y="50515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506-72DA-4C8B-92C9-A7937355C0E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522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51080" y="59371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 attribut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space-qualified since it is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5135400"/>
            <a:ext cx="5362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/&gt;                                                     &lt;!-- src has no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imag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sr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http://www.xfront.com"/&gt;  &lt;!-- Assigning src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200" y="25718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080" y="517680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65320" y="560844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7200" y="1631880"/>
            <a:ext cx="640296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imag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ref="src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attribute name="src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anyURI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BestPractices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http://www.xfront.com/isbn.htm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attribu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2BC-C9B7-4D60-BE90-CEE07E1CB0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5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tating the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30040" y="3835440"/>
            <a:ext cx="33768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0520" y="1190520"/>
            <a:ext cx="75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For each of the previous forms, we can inline an annotatio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34280" y="1771560"/>
            <a:ext cx="46832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15560" y="3686040"/>
            <a:ext cx="3093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123-513C-4CD9-B30E-AC227A04DE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5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nativ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46520" y="4808520"/>
            <a:ext cx="42285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0160" y="1190520"/>
            <a:ext cx="72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For each of the previous forms, we can add non-native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32840" y="1844640"/>
            <a:ext cx="5146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10000" y="3478320"/>
            <a:ext cx="237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non-n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 must 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a namespac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…/XML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46880" y="3319560"/>
            <a:ext cx="40104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627-5FB7-47AE-995E-72E6A67372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="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800" y="1144440"/>
            <a:ext cx="869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: When woul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be used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 This value is useful when you create a master type which lists all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, and then subtypes can delete the attributes that are not need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's an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00440" y="4329000"/>
            <a:ext cx="68875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 name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Cont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ase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length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height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width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radius" type="xsd:nonNegativeInteger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="prohibited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diameter" type="xsd:nonNegativeInteger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="prohibited"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Cont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06840" y="2502000"/>
            <a:ext cx="51368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 name=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length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height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width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radius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attribute name="diameter" type="xsd:nonNegativeInteger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549-F90B-4827-B780-ED0E0DE94C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datatype specif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8960" y="2284560"/>
            <a:ext cx="783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declare an attribute without specifying a datatype. 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ttribute name="shap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ttribute is unconstrained with respect to the type of value it can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unconstrained attributes is a very useful techn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creating a complexType containing uncon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, and then create other complexTypes which derive by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hich constrain the shape attribute to a specific datatype.  That's ni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258-AA58-4CED-BCAD-2A90E9BFAE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notes about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600" y="1986120"/>
            <a:ext cx="85158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t is illegal to declare an attribute whose name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l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ttribute is built-in to schema validators.  So, you can use i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 documents without declaring it in your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Namespace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attributes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w3.org/2001/XMLSchema-in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. You can use these attributes in your instance documents with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ing them in your sch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 name that you give to an attribute, cannot have a colon in 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, &lt;attribute name="air:velocity" …/&gt; is not 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 now know everything there is to know about attributes!  Give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t on the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9CB-ED09-4F88-8E2B-FB96178F7FC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50080" y="4322880"/>
            <a:ext cx="387360" cy="43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versus local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560" y="1952640"/>
            <a:ext cx="713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may be declared locally or glob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ays to create local attribute declar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 Inline an attribute declaration within a complex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 Inline an attribute declaration within an attribute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Global attribute declarations are immediate children of &lt;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68720" y="4130640"/>
            <a:ext cx="496008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complexType name="Airpla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 name="altitude" type="xsd:intege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 ref="speed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Group ref="physicalCharacteristics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 name="speed" type="xsd:decim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Group name="physicalCharacteristic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 name="weight" type="xsd:decim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attribute name="wing-span" type="xsd:decim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xsd:attributeGrou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7560" y="440388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5862600"/>
            <a:ext cx="387360" cy="43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5480" y="59436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9000" y="5397480"/>
            <a:ext cx="499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3960" y="5637240"/>
            <a:ext cx="499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70720" y="5286240"/>
            <a:ext cx="387360" cy="43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0760" y="53672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3CC-8F00-4DE5-8509-16D3956C7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972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ms used to declar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200" y="1581120"/>
            <a:ext cx="8937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items that you use in declaring el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declare what will be the name of the element i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refer-to an element decla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declare the datatype of the element's value i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associate a unique identifier to the element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d has no representation in the instance document.  It is p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to the schema.  The type of this value must be xsd: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overri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hich is specified on the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).  There are two possible values 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igned the 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the element mus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this to indicate that the element is only a placeholder for other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are in its substitutionGroup.  The default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69560" y="64976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.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E19-A9C3-46C9-96C6-CDE938B7FC8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3972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ms used to declar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9480" y="1547640"/>
            <a:ext cx="903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prohibit this element from being replaced by an element in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itutionGroup, or prohibit this element's type from being replaced b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give the element a default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to give the element a fixed (constant)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this to specify the minimum number of times that the element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in an instance document. The default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this to specify the maximum number of times that the element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in an instance document. The default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.  No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less than or equal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this to assert that if there's no value available for the element th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stance document we indicate it with the xsi:null attribute. The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fal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this to indicate that this element can substitute for the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d by the substitution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51B-8672-4D8F-ACF1-EF30BFA993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versus loc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4920" y="1568520"/>
            <a:ext cx="709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may be declared locally or glob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ays to create local element declar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 Inline an element declaration within a complex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 Inline an element declaration within a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Global element declarations are immediate children of &lt;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69800" y="3746520"/>
            <a:ext cx="448308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complexType name="Publicatio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element ref="Autho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group ref="bookElements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group name="bookElement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element name="Date" type="xsd:date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xsd:element name="ISBN" type="xsd:string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xsd:grou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823720" y="4168800"/>
            <a:ext cx="404640" cy="439560"/>
            <a:chOff x="5823720" y="4168800"/>
            <a:chExt cx="404640" cy="439560"/>
          </a:xfrm>
        </p:grpSpPr>
        <p:sp>
          <p:nvSpPr>
            <p:cNvPr id="303" name=""/>
            <p:cNvSpPr/>
            <p:nvPr/>
          </p:nvSpPr>
          <p:spPr>
            <a:xfrm>
              <a:off x="5826240" y="4168800"/>
              <a:ext cx="387360" cy="43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23720" y="424944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01520" y="5937120"/>
            <a:ext cx="404640" cy="439560"/>
            <a:chOff x="5501520" y="5937120"/>
            <a:chExt cx="404640" cy="439560"/>
          </a:xfrm>
        </p:grpSpPr>
        <p:sp>
          <p:nvSpPr>
            <p:cNvPr id="306" name=""/>
            <p:cNvSpPr/>
            <p:nvPr/>
          </p:nvSpPr>
          <p:spPr>
            <a:xfrm>
              <a:off x="5503680" y="5937120"/>
              <a:ext cx="387360" cy="43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01520" y="5983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359000" y="5519880"/>
            <a:ext cx="451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3960" y="5759280"/>
            <a:ext cx="451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599080" y="5396040"/>
            <a:ext cx="387360" cy="439560"/>
            <a:chOff x="5599080" y="5396040"/>
            <a:chExt cx="387360" cy="439560"/>
          </a:xfrm>
        </p:grpSpPr>
        <p:sp>
          <p:nvSpPr>
            <p:cNvPr id="311" name=""/>
            <p:cNvSpPr/>
            <p:nvPr/>
          </p:nvSpPr>
          <p:spPr>
            <a:xfrm>
              <a:off x="5599080" y="5396040"/>
              <a:ext cx="387360" cy="43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49120" y="5476680"/>
              <a:ext cx="31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17E-D843-4D02-89FC-1326DD91F16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560" y="1987560"/>
            <a:ext cx="8937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as an optional attribut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&lt;xs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 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ault 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local elements must no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all elements mus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ment declaration may overri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  This element must be namespace-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6EC-C005-4C02-A9AB-02F8508A86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ust elements be namespace-qualifi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48920" y="2214720"/>
            <a:ext cx="38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:aircraft&gt;Boeing 747&lt;/a:aircraf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529000" y="2522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960" y="3114720"/>
            <a:ext cx="8304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lement must be namespace-qualified in instance documents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hen the element (e.g., aircraft) was declared you spec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element was declared globall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re was no value specified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element was declare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 schema has:  &lt;schema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44C-0A2B-477A-AE0D-133B92EC0A1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7 ways to declar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following slides I have identified 17 different ways to declar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way to declare an element I have provided an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d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ample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ll the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C11-9155-4B7D-B24B-CF97717E799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3324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2720" y="2571840"/>
            <a:ext cx="260712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40" y="1855800"/>
            <a:ext cx="75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local element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default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89280" y="3216240"/>
            <a:ext cx="502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specify a simple data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37440" y="27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48C-6541-4402-8DF6-4A2EB4A23F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4280" y="2575080"/>
            <a:ext cx="79149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default="Boeing 747"  maxOccurs="2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55400" y="5572080"/>
            <a:ext cx="462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3D7-222F-4EA5-BE89-E583F7744C4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0520" y="1889280"/>
            <a:ext cx="77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global element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default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10320" y="2917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8600" y="2711520"/>
            <a:ext cx="348048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7920" y="3216240"/>
            <a:ext cx="522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specify a simple data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7B2-2C46-42BA-BD9C-CC0009FE77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25000" y="2575080"/>
            <a:ext cx="59446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default="Boeing 747"  type="xsd:string"/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55400" y="5572080"/>
            <a:ext cx="462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EF8-C145-4BB5-A0C8-3B80EBC079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8000" y="1987560"/>
            <a:ext cx="9096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has an optional attribut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&lt;xs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 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gal values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ault valu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local attributes must no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all attributes mus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-qualified 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tribute declaration may overri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d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/&gt;  This attribute must be namespace-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nstanc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164-1E0B-4BAF-AE5C-7B1E7CA639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3324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440" y="2571840"/>
            <a:ext cx="25858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9040" y="1855800"/>
            <a:ext cx="75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local element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fixed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8560" y="3216240"/>
            <a:ext cx="512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specify a simple data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7440" y="27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7D5-256C-4839-9C65-E74636A9436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24640" y="2575080"/>
            <a:ext cx="77565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fixed="Boeing 747"  maxOccurs="2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53600" y="5572080"/>
            <a:ext cx="5060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Boeing 747&lt;/aircraft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4FA-54BB-4DFE-854A-6D22076F7AF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0520" y="1889280"/>
            <a:ext cx="773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global element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fixed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10320" y="2917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8600" y="2711520"/>
            <a:ext cx="34804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67920" y="3216240"/>
            <a:ext cx="522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specify a simple data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B9D-938E-42A2-83E5-BB49239950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25720" y="2575080"/>
            <a:ext cx="5785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fixed="Boeing 747"  type="xsd:string"/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53600" y="5572080"/>
            <a:ext cx="5060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Boeing 747&lt;/aircraft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BE2-C2FE-4810-8259-5F6F512A3A0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31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o default/fixed val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800" y="1889280"/>
            <a:ext cx="84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A local element which uses an existing type (either a simple type or a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).  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2720" y="2798640"/>
            <a:ext cx="260712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89280" y="3443400"/>
            <a:ext cx="502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specify either a simple type or th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a complex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37440" y="2982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463-25D5-4735-8DAF-2EC2E984A98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30400" y="2575080"/>
            <a:ext cx="61927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 maxOccurs="2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56840" y="5572080"/>
            <a:ext cx="4525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Assigning aircraft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3080" y="55087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7D1-5F26-471C-8873-EE080C2AC69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1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, ref's to a global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7600" y="2168640"/>
            <a:ext cx="798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A local element which ref's to a global element declaration. No default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3440" y="3287880"/>
            <a:ext cx="25858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88200" y="3618000"/>
            <a:ext cx="50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37440" y="3157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3E2-8452-4AAA-AB4C-0562BB078DB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35800" y="2575080"/>
            <a:ext cx="451188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type="xsd:string"/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56840" y="5572080"/>
            <a:ext cx="4525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Assigning aircraft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3080" y="55087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9A9-35B6-4D29-A0FE-6660C4A3883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o default/fixed val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1240" y="1889280"/>
            <a:ext cx="76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A global element which uses an existing type (either a simple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type). 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62800" y="29703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1080" y="2763720"/>
            <a:ext cx="34804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0040" y="3268800"/>
            <a:ext cx="5228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specify the name of either a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r a complex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A80-E0CE-453B-9F64-7B4BA0DF4C6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35800" y="2575080"/>
            <a:ext cx="42069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type="xsd:string"/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56840" y="5572080"/>
            <a:ext cx="4525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Assigning aircraft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6040" y="3008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3080" y="55087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DC2-C9E5-426C-A269-677C6AFE98D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ust attributes be namespace-qualifi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0040" y="2197080"/>
            <a:ext cx="6331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mage i:src="http://www.xfront.com/BestPractices.htm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529000" y="25225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7840" y="3114720"/>
            <a:ext cx="887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tribute must be namespace-qualified in instance documents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hen the attribute (e.g., src) was declared you specifi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attribute was declared globally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re was no value specified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attribute was declare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 schema has:  &lt;schema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Form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56A-B58A-4481-A68A-B51D51EE7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000" y="2814480"/>
            <a:ext cx="884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4120" y="185580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A local element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87600" y="4327560"/>
            <a:ext cx="606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simple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38640" y="3867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6C4-2830-4C96-90F5-7B8195253EF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29680" y="1911240"/>
            <a:ext cx="642600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default="Boeing 747"  maxOccurs="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F-16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A-10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55400" y="5572080"/>
            <a:ext cx="462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6040" y="2344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B15-FE73-4813-8B6A-5BCB58CF1ED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4840" y="2838600"/>
            <a:ext cx="788940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d"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3040" y="1855800"/>
            <a:ext cx="743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A global element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38640" y="3867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6680" y="4327560"/>
            <a:ext cx="522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simple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374-3003-4E8D-9726-BA5BE172A3C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46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92480" y="1509840"/>
            <a:ext cx="4367160" cy="37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default="Boeing 747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F-16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A-10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55400" y="5816520"/>
            <a:ext cx="4621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&lt;!--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Not using the default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8120" y="19432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080" y="58579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B83-3896-441D-AE75-AC14166827D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2560" y="2789280"/>
            <a:ext cx="85932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3400" y="1855800"/>
            <a:ext cx="741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A local element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56280" y="39546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91440" y="4327560"/>
            <a:ext cx="522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simple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DC5-D788-41AA-A3E5-73908893F8E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30400" y="1998720"/>
            <a:ext cx="626760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fixed="Boeing 747"  maxOccurs="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53600" y="5572080"/>
            <a:ext cx="5060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Boeing 747&lt;/aircraft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6040" y="2432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8C8-4174-4B3C-A6FD-ED859B05DAF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fixed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3720" y="2814480"/>
            <a:ext cx="800460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d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2680" y="1855800"/>
            <a:ext cx="75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A global element which defines a simple type inline, and specifie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alue for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38640" y="3867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86680" y="4327560"/>
            <a:ext cx="522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simple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5CC-8FF2-46D0-8745-56BB966BD4D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35080" y="1631880"/>
            <a:ext cx="420876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fixed="Boeing 747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53600" y="5572080"/>
            <a:ext cx="5060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/&gt;                                    &lt;!-- Us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Boeing 747&lt;/aircraft&gt;  &lt;!-- Specifying the fixed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6040" y="20653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EBD-9494-4C69-A86E-CD2C77534EC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simple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360" y="2789280"/>
            <a:ext cx="9029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7360" y="1855800"/>
            <a:ext cx="585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A local element which defines a simple type in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fault or fix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87600" y="4327560"/>
            <a:ext cx="60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38640" y="39718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C4B-7374-4A26-AC3B-E200E4B07B4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35440" y="1998720"/>
            <a:ext cx="465984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maxOccurs="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F-16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A-10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6840" y="5572080"/>
            <a:ext cx="4525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Assigning aircraft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6040" y="24321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C83-739F-45F6-8041-8CB912C97C3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 ways to declar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following slides I have identified 20 different ways to declare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ach way to declare an attribute I have provided an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d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xample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ll the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101-8871-4DD7-B7E1-3CB3DDFC6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simple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8080" y="2814480"/>
            <a:ext cx="83001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d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6280" y="1855800"/>
            <a:ext cx="599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A global element which defines a simple type in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fault or fix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38640" y="3867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86680" y="4327560"/>
            <a:ext cx="522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2BF-AF94-4178-9D0F-BD7D22B1403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62960" y="2016000"/>
            <a:ext cx="420696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restriction base="xsd: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numeration value="Boeing 747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restri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imple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56840" y="5572080"/>
            <a:ext cx="4525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F-16&lt;/aircraft&gt;  &lt;!-- Assigning aircraft a valu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200" y="244944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3080" y="550872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69C-33E0-4D1C-B7C0-C3A5931F44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element with complex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360" y="2789280"/>
            <a:ext cx="90291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7360" y="1855800"/>
            <a:ext cx="60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A local element which defines a complexType in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87600" y="4327560"/>
            <a:ext cx="60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Occ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p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38640" y="39718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5E3-F1CF-4EA6-8F12-0E47C881DB2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62600" y="2120760"/>
            <a:ext cx="51123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 maxOccurs="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typ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5840" y="5572080"/>
            <a:ext cx="17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type&gt;F-16&lt;/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aircraf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200" y="2554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EFB-9129-4401-9846-616B14D5763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element with complex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8240" y="2814480"/>
            <a:ext cx="83001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d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6280" y="1855800"/>
            <a:ext cx="622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A global element which defines a complexType in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38640" y="3867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86680" y="4327560"/>
            <a:ext cx="522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ll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the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not hav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485-FBEE-4C9F-A57D-6737208F18D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61160" y="1928880"/>
            <a:ext cx="458208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aircraf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xsd:element name="type" type="xsd:string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name="ElementExampl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xsd:element ref="aircraft" maxOccurs="2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seque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complex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xsd: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65840" y="5572080"/>
            <a:ext cx="17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aircraf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type&gt;F-16&lt;/ty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aircraf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200" y="23623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3080" y="56134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620-5D04-488F-B89B-7A6070641D4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15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tating the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59600" y="1665360"/>
            <a:ext cx="326124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0520" y="1190520"/>
            <a:ext cx="75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For each of the previous forms, we can inline an annotatio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560" y="1717560"/>
            <a:ext cx="45676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0480" y="3632040"/>
            <a:ext cx="297792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48600" y="4265640"/>
            <a:ext cx="326124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155-DEBA-4C88-A1BF-5E320208837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22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native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8520" y="4805280"/>
            <a:ext cx="4147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0160" y="1260360"/>
            <a:ext cx="72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For each of the previous forms, we can add non-native attribu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34280" y="1914480"/>
            <a:ext cx="50655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41840" y="2394000"/>
            <a:ext cx="237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non-n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 must c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a namespac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…/XML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48320" y="3389400"/>
            <a:ext cx="39297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37240" y="4799160"/>
            <a:ext cx="4147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 other: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ther: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A5B-9CDD-4B91-876B-E4A09672749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23920" y="21477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so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13F-84E2-4B2A-AAC3-88E333D887C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23920" y="21477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so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7E9-5D7C-403E-A629-1695CEBEA72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ttribute with 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7680" y="3100320"/>
            <a:ext cx="25524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880" y="1855800"/>
            <a:ext cx="76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local attribute which uses an existing type (either a built-in type 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defined type), and specifies a default value for the attrib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44960" y="3305160"/>
            <a:ext cx="607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opt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only legal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d then its value defaults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ype cannot be ID, or a type which derives from 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viously the value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of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compatible with the datatyp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7640" y="3005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74A-91A1-4811-BE83-42B95F823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23920" y="21477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so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48A-30DB-42DA-94B1-AE9AB57BCB5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23920" y="21477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so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DB7-7127-4778-8E88-305B1BE0D58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23920" y="214776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ing so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F12-334E-4F6B-8C30-E9FC2ABA68D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11:52:33Z</dcterms:created>
  <dc:creator>Roger L. Costello</dc:creator>
  <dc:description/>
  <dc:language>en-US</dc:language>
  <cp:lastModifiedBy>costello</cp:lastModifiedBy>
  <dcterms:modified xsi:type="dcterms:W3CDTF">2002-03-30T19:57:52Z</dcterms:modified>
  <cp:revision>288</cp:revision>
  <dc:subject/>
  <dc:title>XML Schemas Reference Manual</dc:title>
</cp:coreProperties>
</file>