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D531-93C2-4B68-8B8D-89946F063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9D00-03AD-492D-830B-986D533E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3921-546B-49C6-8E70-DEDCC3ED7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DF20-D51C-4EEC-9642-D8CA82396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5101-C50A-4779-8EB6-1DD66FBF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E701-7E3E-4ADC-BBE4-6986F2F7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CEA8-804A-482B-8026-1219132D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AF9E-CAEA-41F6-BD9C-070CDEEF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9D43-003D-4AE4-81D9-3705FEC7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F7D7-49B2-4DA7-8791-F7C62021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85B7-4EE0-4851-94CE-C84F00B0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14D3-33D7-46A5-AA02-B82A4F51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025F-708F-4129-BC32-51B4F37FC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XML Schemas as a Source of Meta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ger L. Coste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Perspective of Sche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 Perspective: use Schemas to describe constraints on instance document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nt/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occur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ship to other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Perspective:  use Schemas to give metadata for a resource, or class of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content/type to specify properties of a re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number of occurrences to indicate the number of occurrences of the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Namespace represents the overall class of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Type is used to represent a specific class of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me of the element represents the value of the meta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ype provides metadata about th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the class of juicers has a property, name.  The type of name is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values for the properties are put into a separate document (the instance document).  This is good.  The instance document is for a specific resource.  It enables us to reuse the schema document for many resources.  Separate the metadata description from the metadata val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chema Equivalent of rdf: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df:type is used to indicate the type of a re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Type may be used to indicate the type of a re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7T13:00:06Z</dcterms:created>
  <dc:creator>Roger L. Costello</dc:creator>
  <dc:description/>
  <dc:language>en-US</dc:language>
  <cp:lastModifiedBy>Roger L. Costello</cp:lastModifiedBy>
  <dcterms:modified xsi:type="dcterms:W3CDTF">2001-04-28T09:59:38Z</dcterms:modified>
  <cp:revision>6</cp:revision>
  <dc:subject/>
  <dc:title>Using XML Schemas as a Source of Metadata</dc:title>
</cp:coreProperties>
</file>