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F68-060A-4E35-A7D3-BF525537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872-D38F-4C5D-B615-9F2E513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078-28D4-484C-96E7-686F6BB7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7BA-B7ED-4844-BA0A-974ABB12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A5E-9A26-435C-80FA-9382EFB0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D41-CDDF-496D-9651-CFE59A4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32C-2374-4DF3-AA2C-2E2F8F62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3F3-CFAC-4611-A266-B5E3F23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313-BCE4-40F5-9ECC-4B6386A9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F71-FEB8-4A0D-BE37-72A4B4B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CC9-A708-43E9-A0A4-F1EE96B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12E-AE2B-48A8-A00E-B6D568DB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78CD-6FE3-415A-8531-4CAB2D3C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mparis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t-Centric XM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su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lithic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46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t-Centric Desig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chem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9280" y="2973240"/>
            <a:ext cx="157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5200" y="2171880"/>
            <a:ext cx="2427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-Life-and-Time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72480" y="2973240"/>
            <a:ext cx="138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n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1120" y="3892680"/>
            <a:ext cx="2782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-and-Last-Freedom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22640" y="2286000"/>
            <a:ext cx="1144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0040" y="3149640"/>
            <a:ext cx="115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08240" y="3238560"/>
            <a:ext cx="11588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90480" y="4991040"/>
            <a:ext cx="153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70320" y="4954680"/>
            <a:ext cx="105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1160" y="588636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 is validated against BookStore.xsd, which imports Book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ook XML document is validated against Book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t-Centric Desig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tyleshee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9280" y="2973240"/>
            <a:ext cx="157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55200" y="2171880"/>
            <a:ext cx="2427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-Life-and-Time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72480" y="2973240"/>
            <a:ext cx="138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ns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1120" y="3892680"/>
            <a:ext cx="2782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-and-Last-Freedom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2640" y="2286000"/>
            <a:ext cx="1144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0040" y="3149640"/>
            <a:ext cx="115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08240" y="3238560"/>
            <a:ext cx="115884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90120" y="4991040"/>
            <a:ext cx="148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9960" y="4954680"/>
            <a:ext cx="1000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2240" y="588636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 is styled using BookStore.xsl, which imports Book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ook XML document is styled using Book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olithic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chem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17000" y="2360520"/>
            <a:ext cx="157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9640" y="4378320"/>
            <a:ext cx="153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89480" y="4341960"/>
            <a:ext cx="105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91160" y="5886360"/>
            <a:ext cx="71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 is validated against BookStore.xsd, which imports Book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olithic Des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yleshee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7000" y="2360520"/>
            <a:ext cx="1573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09280" y="4378320"/>
            <a:ext cx="1483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89120" y="4341960"/>
            <a:ext cx="1000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92240" y="5886360"/>
            <a:ext cx="66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kStore.xml is styled using BookStore.xsl, which imports Book.x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37:40Z</dcterms:created>
  <dc:creator>ROGER L. COSTELLO</dc:creator>
  <dc:description/>
  <dc:language>en-US</dc:language>
  <cp:lastModifiedBy>ROGER L. COSTELLO</cp:lastModifiedBy>
  <dcterms:modified xsi:type="dcterms:W3CDTF">2005-11-02T18:18:30Z</dcterms:modified>
  <cp:revision>7</cp:revision>
  <dc:subject/>
  <dc:title>Slide 1</dc:title>
</cp:coreProperties>
</file>