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9E0-F65B-4CD8-8721-8F7D03BB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C8D-B64F-4FA1-8CDA-84E3625F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547-2385-460F-802D-2F22A8A4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16C-87A1-4811-B2DE-783E4CD5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E11-A025-47B7-A8A6-A8D1B526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C13-257C-4A02-AE29-14DA790F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2A7-9D03-484F-8EC6-1F4EE60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40F-7A3A-4655-A8BA-E0F52A9A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A29-C3FF-43D2-B1DA-A3E83DF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532-9FEF-4CB8-8288-7B84A6E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E48-CB01-4333-BB9D-46E41FB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21C-212E-461C-BCFA-0A259BE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20D-F15A-4602-97CB-71B77B76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11080" y="1693800"/>
            <a:ext cx="5053320" cy="2147760"/>
            <a:chOff x="1711080" y="1693800"/>
            <a:chExt cx="5053320" cy="2147760"/>
          </a:xfrm>
        </p:grpSpPr>
        <p:sp>
          <p:nvSpPr>
            <p:cNvPr id="42" name=""/>
            <p:cNvSpPr/>
            <p:nvPr/>
          </p:nvSpPr>
          <p:spPr>
            <a:xfrm>
              <a:off x="1711080" y="1693800"/>
              <a:ext cx="1410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84960" y="3198960"/>
              <a:ext cx="1043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01840" y="2579760"/>
              <a:ext cx="1410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24080" y="2028960"/>
              <a:ext cx="95256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943360" y="3076200"/>
              <a:ext cx="113328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33920" y="291456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86440" y="27036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a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800360" y="1509840"/>
            <a:ext cx="5093280" cy="3625560"/>
            <a:chOff x="1800360" y="1509840"/>
            <a:chExt cx="5093280" cy="3625560"/>
          </a:xfrm>
        </p:grpSpPr>
        <p:sp>
          <p:nvSpPr>
            <p:cNvPr id="104" name=""/>
            <p:cNvSpPr/>
            <p:nvPr/>
          </p:nvSpPr>
          <p:spPr>
            <a:xfrm>
              <a:off x="3452040" y="150984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 Langu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3880" y="2841480"/>
              <a:ext cx="25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mma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tructure, form, synta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74320" y="2833560"/>
              <a:ext cx="21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ule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ata relationshi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1800" y="3465360"/>
              <a:ext cx="0" cy="12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45640" y="474984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x 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125440" y="3494160"/>
              <a:ext cx="6966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036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4080" y="3479760"/>
              <a:ext cx="666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37720" y="418320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 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1440" y="3449520"/>
              <a:ext cx="0" cy="12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57360" y="47671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70160" y="1836720"/>
              <a:ext cx="101592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5920" y="1822320"/>
              <a:ext cx="1060200" cy="10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45960" y="792000"/>
            <a:ext cx="4902480" cy="3481560"/>
            <a:chOff x="345960" y="792000"/>
            <a:chExt cx="4902480" cy="34815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0" t="0" r="51581" b="55383"/>
            <a:stretch/>
          </p:blipFill>
          <p:spPr>
            <a:xfrm>
              <a:off x="345960" y="792000"/>
              <a:ext cx="4722840" cy="34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flipV="1">
              <a:off x="3984480" y="1622160"/>
              <a:ext cx="20808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33040" y="2389320"/>
              <a:ext cx="1715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alidat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 doc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ains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8080" y="1131840"/>
            <a:ext cx="56084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933560" y="2324160"/>
            <a:ext cx="4486320" cy="3085920"/>
            <a:chOff x="1933560" y="2324160"/>
            <a:chExt cx="4486320" cy="3085920"/>
          </a:xfrm>
        </p:grpSpPr>
        <p:sp>
          <p:nvSpPr>
            <p:cNvPr id="55" name=""/>
            <p:cNvSpPr/>
            <p:nvPr/>
          </p:nvSpPr>
          <p:spPr>
            <a:xfrm>
              <a:off x="1933560" y="2324160"/>
              <a:ext cx="647640" cy="57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2240" y="2666880"/>
              <a:ext cx="990720" cy="119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81640" y="2914560"/>
              <a:ext cx="94284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29080" y="4181400"/>
              <a:ext cx="13334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4781520"/>
              <a:ext cx="1333440" cy="628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2590920"/>
              <a:ext cx="5619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62320" y="326700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4480" y="2895480"/>
              <a:ext cx="457200" cy="30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29000" y="3619440"/>
              <a:ext cx="618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162320" y="4762440"/>
              <a:ext cx="5335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96000" y="3619080"/>
              <a:ext cx="618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24360" y="3781440"/>
              <a:ext cx="457200" cy="30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53160" y="369108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62280" y="247644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57680" y="2610000"/>
              <a:ext cx="181080" cy="21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38800" y="380988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05200" y="370512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0000" y="4952880"/>
              <a:ext cx="181080" cy="21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886040" y="1771560"/>
            <a:ext cx="6124320" cy="1809720"/>
            <a:chOff x="1886040" y="1771560"/>
            <a:chExt cx="6124320" cy="1809720"/>
          </a:xfrm>
        </p:grpSpPr>
        <p:sp>
          <p:nvSpPr>
            <p:cNvPr id="74" name=""/>
            <p:cNvSpPr/>
            <p:nvPr/>
          </p:nvSpPr>
          <p:spPr>
            <a:xfrm>
              <a:off x="1886040" y="177156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86040" y="290520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eleton1-5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90920" y="2133720"/>
              <a:ext cx="123840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10160" y="231444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or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76520" y="205740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476520" y="287604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29320" y="263844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86040" y="1771560"/>
            <a:ext cx="1600200" cy="676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86040" y="2905200"/>
            <a:ext cx="1600200" cy="676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0920" y="2133720"/>
            <a:ext cx="12384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6520" y="2057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476520" y="28760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29320" y="26384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86040" y="24652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! (or,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600120" y="1743120"/>
            <a:ext cx="7904160" cy="3162240"/>
            <a:chOff x="600120" y="1743120"/>
            <a:chExt cx="7904160" cy="3162240"/>
          </a:xfrm>
        </p:grpSpPr>
        <p:sp>
          <p:nvSpPr>
            <p:cNvPr id="89" name=""/>
            <p:cNvSpPr/>
            <p:nvPr/>
          </p:nvSpPr>
          <p:spPr>
            <a:xfrm>
              <a:off x="600120" y="174312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0120" y="2876400"/>
              <a:ext cx="1600200" cy="676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eleton1-5.x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05000" y="2104920"/>
              <a:ext cx="1238400" cy="10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6760" y="2523960"/>
              <a:ext cx="961920" cy="409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idator.x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0600" y="20289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190600" y="284760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3400" y="2610000"/>
              <a:ext cx="60012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43520" y="3314880"/>
              <a:ext cx="123804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7960" y="4229280"/>
              <a:ext cx="1600200" cy="67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.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38800" y="3962160"/>
              <a:ext cx="5047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1560" y="3828960"/>
              <a:ext cx="7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8280" y="3656160"/>
              <a:ext cx="156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! (or, err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2604" t="4291" r="47138" b="52536"/>
          <a:stretch/>
        </p:blipFill>
        <p:spPr>
          <a:xfrm>
            <a:off x="1863720" y="1981080"/>
            <a:ext cx="61279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398" t="10742" r="37099" b="44276"/>
          <a:stretch/>
        </p:blipFill>
        <p:spPr>
          <a:xfrm>
            <a:off x="816120" y="1965240"/>
            <a:ext cx="7254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21:11:50Z</dcterms:created>
  <dc:creator>Roger L. Costello</dc:creator>
  <dc:description/>
  <dc:language>en-US</dc:language>
  <cp:lastModifiedBy>costello</cp:lastModifiedBy>
  <dcterms:modified xsi:type="dcterms:W3CDTF">2007-06-27T15:11:20Z</dcterms:modified>
  <cp:revision>17</cp:revision>
  <dc:subject/>
  <dc:title>Slide 1</dc:title>
</cp:coreProperties>
</file>