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5"/>
          <p:cNvSpPr/>
          <p:nvPr/>
        </p:nvSpPr>
        <p:spPr>
          <a:xfrm>
            <a:off x="8567280" y="1440"/>
            <a:ext cx="8168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AA243-0556-4C25-BE00-737C7A40DF21}" type="slidenum">
              <a:rPr b="0" lang="en-US" sz="1200" spc="-1" strike="noStrike">
                <a:solidFill>
                  <a:srgbClr val="cecec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Verdana"/>
              </a:rPr>
              <a:t>Quick Intro to XPath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6916680" y="6313320"/>
            <a:ext cx="2152800" cy="43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Roger L. Costel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14 December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AutoShape 2051"/>
          <p:cNvSpPr/>
          <p:nvPr/>
        </p:nvSpPr>
        <p:spPr>
          <a:xfrm>
            <a:off x="3017880" y="1498680"/>
            <a:ext cx="1130400" cy="901800"/>
          </a:xfrm>
          <a:custGeom>
            <a:avLst/>
            <a:gdLst/>
            <a:ahLst/>
            <a:rect l="l" t="t" r="r" b="b"/>
            <a:pathLst>
              <a:path w="1130300" h="901700">
                <a:moveTo>
                  <a:pt x="1" y="344418"/>
                </a:moveTo>
                <a:lnTo>
                  <a:pt x="431739" y="344420"/>
                </a:lnTo>
                <a:lnTo>
                  <a:pt x="565150" y="0"/>
                </a:lnTo>
                <a:lnTo>
                  <a:pt x="698561" y="344420"/>
                </a:lnTo>
                <a:lnTo>
                  <a:pt x="1130299" y="344418"/>
                </a:lnTo>
                <a:lnTo>
                  <a:pt x="781014" y="557279"/>
                </a:lnTo>
                <a:lnTo>
                  <a:pt x="914431" y="901698"/>
                </a:lnTo>
                <a:lnTo>
                  <a:pt x="565150" y="688833"/>
                </a:lnTo>
                <a:lnTo>
                  <a:pt x="215869" y="901698"/>
                </a:lnTo>
                <a:lnTo>
                  <a:pt x="349286" y="557279"/>
                </a:lnTo>
                <a:lnTo>
                  <a:pt x="1" y="344418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Rectangle 2052"/>
          <p:cNvSpPr/>
          <p:nvPr/>
        </p:nvSpPr>
        <p:spPr>
          <a:xfrm>
            <a:off x="3187800" y="1806480"/>
            <a:ext cx="84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ocu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AutoShape 2053"/>
          <p:cNvSpPr/>
          <p:nvPr/>
        </p:nvSpPr>
        <p:spPr>
          <a:xfrm>
            <a:off x="136440" y="2787480"/>
            <a:ext cx="1735200" cy="6400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Rectangle 2054"/>
          <p:cNvSpPr/>
          <p:nvPr/>
        </p:nvSpPr>
        <p:spPr>
          <a:xfrm>
            <a:off x="222840" y="2806560"/>
            <a:ext cx="1620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?xml version=“1.0”?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Rectangle 2055"/>
          <p:cNvSpPr/>
          <p:nvPr/>
        </p:nvSpPr>
        <p:spPr>
          <a:xfrm>
            <a:off x="6176880" y="2803680"/>
            <a:ext cx="1057320" cy="495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Rectangle 2056"/>
          <p:cNvSpPr/>
          <p:nvPr/>
        </p:nvSpPr>
        <p:spPr>
          <a:xfrm>
            <a:off x="6212520" y="2833560"/>
            <a:ext cx="1019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tness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Rectangle 2057"/>
          <p:cNvSpPr/>
          <p:nvPr/>
        </p:nvSpPr>
        <p:spPr>
          <a:xfrm>
            <a:off x="1285920" y="3959280"/>
            <a:ext cx="1057320" cy="49536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Rectangle 2058"/>
          <p:cNvSpPr/>
          <p:nvPr/>
        </p:nvSpPr>
        <p:spPr>
          <a:xfrm>
            <a:off x="1467360" y="3989520"/>
            <a:ext cx="722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Rectangle 2059"/>
          <p:cNvSpPr/>
          <p:nvPr/>
        </p:nvSpPr>
        <p:spPr>
          <a:xfrm>
            <a:off x="4197240" y="3932280"/>
            <a:ext cx="1057320" cy="49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Rectangle 2060"/>
          <p:cNvSpPr/>
          <p:nvPr/>
        </p:nvSpPr>
        <p:spPr>
          <a:xfrm>
            <a:off x="4379040" y="3962520"/>
            <a:ext cx="722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Rectangle 2061"/>
          <p:cNvSpPr/>
          <p:nvPr/>
        </p:nvSpPr>
        <p:spPr>
          <a:xfrm>
            <a:off x="7002360" y="3941640"/>
            <a:ext cx="1057320" cy="49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Rectangle 2062"/>
          <p:cNvSpPr/>
          <p:nvPr/>
        </p:nvSpPr>
        <p:spPr>
          <a:xfrm>
            <a:off x="7184160" y="3971880"/>
            <a:ext cx="722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Line 2063"/>
          <p:cNvSpPr/>
          <p:nvPr/>
        </p:nvSpPr>
        <p:spPr>
          <a:xfrm>
            <a:off x="1020600" y="2235240"/>
            <a:ext cx="5664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Line 2064"/>
          <p:cNvSpPr/>
          <p:nvPr/>
        </p:nvSpPr>
        <p:spPr>
          <a:xfrm>
            <a:off x="1014480" y="2241720"/>
            <a:ext cx="0" cy="522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Line 2065"/>
          <p:cNvSpPr/>
          <p:nvPr/>
        </p:nvSpPr>
        <p:spPr>
          <a:xfrm>
            <a:off x="6702480" y="2254320"/>
            <a:ext cx="0" cy="522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Line 2066"/>
          <p:cNvSpPr/>
          <p:nvPr/>
        </p:nvSpPr>
        <p:spPr>
          <a:xfrm>
            <a:off x="1790640" y="3618000"/>
            <a:ext cx="57578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Line 2067"/>
          <p:cNvSpPr/>
          <p:nvPr/>
        </p:nvSpPr>
        <p:spPr>
          <a:xfrm>
            <a:off x="1817640" y="3637080"/>
            <a:ext cx="0" cy="29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Line 2068"/>
          <p:cNvSpPr/>
          <p:nvPr/>
        </p:nvSpPr>
        <p:spPr>
          <a:xfrm>
            <a:off x="4722840" y="3619440"/>
            <a:ext cx="0" cy="30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Line 2069"/>
          <p:cNvSpPr/>
          <p:nvPr/>
        </p:nvSpPr>
        <p:spPr>
          <a:xfrm>
            <a:off x="7531200" y="3632040"/>
            <a:ext cx="0" cy="30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Rectangle 2070"/>
          <p:cNvSpPr/>
          <p:nvPr/>
        </p:nvSpPr>
        <p:spPr>
          <a:xfrm>
            <a:off x="531720" y="4946760"/>
            <a:ext cx="1057320" cy="49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Rectangle 2071"/>
          <p:cNvSpPr/>
          <p:nvPr/>
        </p:nvSpPr>
        <p:spPr>
          <a:xfrm>
            <a:off x="713520" y="4976640"/>
            <a:ext cx="722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Rectangle 2072"/>
          <p:cNvSpPr/>
          <p:nvPr/>
        </p:nvSpPr>
        <p:spPr>
          <a:xfrm>
            <a:off x="2117880" y="4917960"/>
            <a:ext cx="1056960" cy="49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Rectangle 2073"/>
          <p:cNvSpPr/>
          <p:nvPr/>
        </p:nvSpPr>
        <p:spPr>
          <a:xfrm>
            <a:off x="2143800" y="4948200"/>
            <a:ext cx="10364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voriteCol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Line 2074"/>
          <p:cNvSpPr/>
          <p:nvPr/>
        </p:nvSpPr>
        <p:spPr>
          <a:xfrm>
            <a:off x="1036800" y="4686480"/>
            <a:ext cx="1609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Line 2075"/>
          <p:cNvSpPr/>
          <p:nvPr/>
        </p:nvSpPr>
        <p:spPr>
          <a:xfrm>
            <a:off x="1023840" y="4695840"/>
            <a:ext cx="0" cy="22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Line 2076"/>
          <p:cNvSpPr/>
          <p:nvPr/>
        </p:nvSpPr>
        <p:spPr>
          <a:xfrm>
            <a:off x="2647800" y="4680000"/>
            <a:ext cx="0" cy="22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Oval 2077"/>
          <p:cNvSpPr/>
          <p:nvPr/>
        </p:nvSpPr>
        <p:spPr>
          <a:xfrm>
            <a:off x="601560" y="5948280"/>
            <a:ext cx="808200" cy="770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Line 2078"/>
          <p:cNvSpPr/>
          <p:nvPr/>
        </p:nvSpPr>
        <p:spPr>
          <a:xfrm>
            <a:off x="1789200" y="4460760"/>
            <a:ext cx="0" cy="235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Line 2079"/>
          <p:cNvSpPr/>
          <p:nvPr/>
        </p:nvSpPr>
        <p:spPr>
          <a:xfrm>
            <a:off x="6729480" y="3311640"/>
            <a:ext cx="0" cy="312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Rectangle 2080"/>
          <p:cNvSpPr/>
          <p:nvPr/>
        </p:nvSpPr>
        <p:spPr>
          <a:xfrm>
            <a:off x="767160" y="6068880"/>
            <a:ext cx="477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e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Line 2081"/>
          <p:cNvSpPr/>
          <p:nvPr/>
        </p:nvSpPr>
        <p:spPr>
          <a:xfrm>
            <a:off x="998640" y="5452920"/>
            <a:ext cx="0" cy="482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Oval 2082"/>
          <p:cNvSpPr/>
          <p:nvPr/>
        </p:nvSpPr>
        <p:spPr>
          <a:xfrm>
            <a:off x="2259000" y="5927760"/>
            <a:ext cx="808200" cy="770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Rectangle 2083"/>
          <p:cNvSpPr/>
          <p:nvPr/>
        </p:nvSpPr>
        <p:spPr>
          <a:xfrm>
            <a:off x="2299680" y="6048360"/>
            <a:ext cx="731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gr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Line 2084"/>
          <p:cNvSpPr/>
          <p:nvPr/>
        </p:nvSpPr>
        <p:spPr>
          <a:xfrm>
            <a:off x="2655720" y="5432400"/>
            <a:ext cx="0" cy="482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Rectangle 2085"/>
          <p:cNvSpPr/>
          <p:nvPr/>
        </p:nvSpPr>
        <p:spPr>
          <a:xfrm>
            <a:off x="3470400" y="4927680"/>
            <a:ext cx="1057320" cy="49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Rectangle 2086"/>
          <p:cNvSpPr/>
          <p:nvPr/>
        </p:nvSpPr>
        <p:spPr>
          <a:xfrm>
            <a:off x="3651840" y="4957920"/>
            <a:ext cx="722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Rectangle 2087"/>
          <p:cNvSpPr/>
          <p:nvPr/>
        </p:nvSpPr>
        <p:spPr>
          <a:xfrm>
            <a:off x="5056200" y="4898880"/>
            <a:ext cx="1057320" cy="49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Rectangle 2088"/>
          <p:cNvSpPr/>
          <p:nvPr/>
        </p:nvSpPr>
        <p:spPr>
          <a:xfrm>
            <a:off x="5082480" y="4929120"/>
            <a:ext cx="10364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voriteCol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Line 2089"/>
          <p:cNvSpPr/>
          <p:nvPr/>
        </p:nvSpPr>
        <p:spPr>
          <a:xfrm>
            <a:off x="3975120" y="4667400"/>
            <a:ext cx="1609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Line 2090"/>
          <p:cNvSpPr/>
          <p:nvPr/>
        </p:nvSpPr>
        <p:spPr>
          <a:xfrm>
            <a:off x="3962520" y="4676760"/>
            <a:ext cx="0" cy="22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Line 2091"/>
          <p:cNvSpPr/>
          <p:nvPr/>
        </p:nvSpPr>
        <p:spPr>
          <a:xfrm>
            <a:off x="5586480" y="4660920"/>
            <a:ext cx="0" cy="22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Oval 2092"/>
          <p:cNvSpPr/>
          <p:nvPr/>
        </p:nvSpPr>
        <p:spPr>
          <a:xfrm>
            <a:off x="3540240" y="5929200"/>
            <a:ext cx="807840" cy="770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Line 2093"/>
          <p:cNvSpPr/>
          <p:nvPr/>
        </p:nvSpPr>
        <p:spPr>
          <a:xfrm>
            <a:off x="4727520" y="4441680"/>
            <a:ext cx="0" cy="235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Rectangle 2094"/>
          <p:cNvSpPr/>
          <p:nvPr/>
        </p:nvSpPr>
        <p:spPr>
          <a:xfrm>
            <a:off x="3667320" y="6049800"/>
            <a:ext cx="5533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v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Line 2095"/>
          <p:cNvSpPr/>
          <p:nvPr/>
        </p:nvSpPr>
        <p:spPr>
          <a:xfrm>
            <a:off x="3936960" y="5433840"/>
            <a:ext cx="0" cy="482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Oval 2096"/>
          <p:cNvSpPr/>
          <p:nvPr/>
        </p:nvSpPr>
        <p:spPr>
          <a:xfrm>
            <a:off x="5197320" y="5908680"/>
            <a:ext cx="808200" cy="770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Rectangle 2097"/>
          <p:cNvSpPr/>
          <p:nvPr/>
        </p:nvSpPr>
        <p:spPr>
          <a:xfrm>
            <a:off x="5242680" y="6029280"/>
            <a:ext cx="7239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b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Line 2098"/>
          <p:cNvSpPr/>
          <p:nvPr/>
        </p:nvSpPr>
        <p:spPr>
          <a:xfrm>
            <a:off x="5594400" y="5413320"/>
            <a:ext cx="0" cy="482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Rectangle 2099"/>
          <p:cNvSpPr/>
          <p:nvPr/>
        </p:nvSpPr>
        <p:spPr>
          <a:xfrm>
            <a:off x="6337440" y="4937040"/>
            <a:ext cx="1056960" cy="49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Rectangle 2100"/>
          <p:cNvSpPr/>
          <p:nvPr/>
        </p:nvSpPr>
        <p:spPr>
          <a:xfrm>
            <a:off x="6518880" y="4967280"/>
            <a:ext cx="722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Rectangle 2101"/>
          <p:cNvSpPr/>
          <p:nvPr/>
        </p:nvSpPr>
        <p:spPr>
          <a:xfrm>
            <a:off x="7923240" y="4908600"/>
            <a:ext cx="1057320" cy="49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Rectangle 2102"/>
          <p:cNvSpPr/>
          <p:nvPr/>
        </p:nvSpPr>
        <p:spPr>
          <a:xfrm>
            <a:off x="7949160" y="4938840"/>
            <a:ext cx="10364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voriteCol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Line 2103"/>
          <p:cNvSpPr/>
          <p:nvPr/>
        </p:nvSpPr>
        <p:spPr>
          <a:xfrm>
            <a:off x="6842160" y="4676760"/>
            <a:ext cx="1609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Line 2104"/>
          <p:cNvSpPr/>
          <p:nvPr/>
        </p:nvSpPr>
        <p:spPr>
          <a:xfrm>
            <a:off x="6829560" y="4686480"/>
            <a:ext cx="0" cy="22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Line 2105"/>
          <p:cNvSpPr/>
          <p:nvPr/>
        </p:nvSpPr>
        <p:spPr>
          <a:xfrm>
            <a:off x="8453520" y="4670280"/>
            <a:ext cx="0" cy="222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Oval 2106"/>
          <p:cNvSpPr/>
          <p:nvPr/>
        </p:nvSpPr>
        <p:spPr>
          <a:xfrm>
            <a:off x="6407280" y="5938920"/>
            <a:ext cx="807840" cy="769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Line 2107"/>
          <p:cNvSpPr/>
          <p:nvPr/>
        </p:nvSpPr>
        <p:spPr>
          <a:xfrm>
            <a:off x="7594560" y="4451400"/>
            <a:ext cx="0" cy="235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Rectangle 2108"/>
          <p:cNvSpPr/>
          <p:nvPr/>
        </p:nvSpPr>
        <p:spPr>
          <a:xfrm>
            <a:off x="6534360" y="6059520"/>
            <a:ext cx="5533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Line 2109"/>
          <p:cNvSpPr/>
          <p:nvPr/>
        </p:nvSpPr>
        <p:spPr>
          <a:xfrm>
            <a:off x="6804000" y="5443560"/>
            <a:ext cx="0" cy="482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Oval 2110"/>
          <p:cNvSpPr/>
          <p:nvPr/>
        </p:nvSpPr>
        <p:spPr>
          <a:xfrm>
            <a:off x="8064360" y="5918040"/>
            <a:ext cx="808200" cy="770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Rectangle 2111"/>
          <p:cNvSpPr/>
          <p:nvPr/>
        </p:nvSpPr>
        <p:spPr>
          <a:xfrm>
            <a:off x="8035200" y="6039000"/>
            <a:ext cx="876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yel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Line 2112"/>
          <p:cNvSpPr/>
          <p:nvPr/>
        </p:nvSpPr>
        <p:spPr>
          <a:xfrm>
            <a:off x="8461440" y="5423040"/>
            <a:ext cx="0" cy="482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Text Box 66"/>
          <p:cNvSpPr/>
          <p:nvPr/>
        </p:nvSpPr>
        <p:spPr>
          <a:xfrm>
            <a:off x="2390760" y="3882960"/>
            <a:ext cx="1039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Times New Roman"/>
              </a:rPr>
              <a:t>That'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Times New Roman"/>
              </a:rPr>
              <a:t>its par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Line 68"/>
          <p:cNvSpPr/>
          <p:nvPr/>
        </p:nvSpPr>
        <p:spPr>
          <a:xfrm flipV="1">
            <a:off x="3198960" y="3084120"/>
            <a:ext cx="2931840" cy="1111320"/>
          </a:xfrm>
          <a:prstGeom prst="line">
            <a:avLst/>
          </a:prstGeom>
          <a:ln w="255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AutoShape 2051"/>
          <p:cNvSpPr/>
          <p:nvPr/>
        </p:nvSpPr>
        <p:spPr>
          <a:xfrm>
            <a:off x="3017880" y="1498680"/>
            <a:ext cx="1130400" cy="901800"/>
          </a:xfrm>
          <a:custGeom>
            <a:avLst/>
            <a:gdLst/>
            <a:ahLst/>
            <a:rect l="l" t="t" r="r" b="b"/>
            <a:pathLst>
              <a:path w="1130300" h="901700">
                <a:moveTo>
                  <a:pt x="1" y="344418"/>
                </a:moveTo>
                <a:lnTo>
                  <a:pt x="431739" y="344420"/>
                </a:lnTo>
                <a:lnTo>
                  <a:pt x="565150" y="0"/>
                </a:lnTo>
                <a:lnTo>
                  <a:pt x="698561" y="344420"/>
                </a:lnTo>
                <a:lnTo>
                  <a:pt x="1130299" y="344418"/>
                </a:lnTo>
                <a:lnTo>
                  <a:pt x="781014" y="557279"/>
                </a:lnTo>
                <a:lnTo>
                  <a:pt x="914431" y="901698"/>
                </a:lnTo>
                <a:lnTo>
                  <a:pt x="565150" y="688833"/>
                </a:lnTo>
                <a:lnTo>
                  <a:pt x="215869" y="901698"/>
                </a:lnTo>
                <a:lnTo>
                  <a:pt x="349286" y="557279"/>
                </a:lnTo>
                <a:lnTo>
                  <a:pt x="1" y="344418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Rectangle 2052"/>
          <p:cNvSpPr/>
          <p:nvPr/>
        </p:nvSpPr>
        <p:spPr>
          <a:xfrm>
            <a:off x="3187800" y="1806480"/>
            <a:ext cx="84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ocu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AutoShape 2053"/>
          <p:cNvSpPr/>
          <p:nvPr/>
        </p:nvSpPr>
        <p:spPr>
          <a:xfrm>
            <a:off x="136440" y="2787480"/>
            <a:ext cx="1735200" cy="6400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Rectangle 2054"/>
          <p:cNvSpPr/>
          <p:nvPr/>
        </p:nvSpPr>
        <p:spPr>
          <a:xfrm>
            <a:off x="222840" y="2806560"/>
            <a:ext cx="1620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?xml version=“1.0”?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Rectangle 2055"/>
          <p:cNvSpPr/>
          <p:nvPr/>
        </p:nvSpPr>
        <p:spPr>
          <a:xfrm>
            <a:off x="6176880" y="2803680"/>
            <a:ext cx="1057320" cy="495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Rectangle 2056"/>
          <p:cNvSpPr/>
          <p:nvPr/>
        </p:nvSpPr>
        <p:spPr>
          <a:xfrm>
            <a:off x="6212520" y="2833560"/>
            <a:ext cx="1019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tness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Rectangle 2057"/>
          <p:cNvSpPr/>
          <p:nvPr/>
        </p:nvSpPr>
        <p:spPr>
          <a:xfrm>
            <a:off x="1285920" y="3959280"/>
            <a:ext cx="1057320" cy="49536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Rectangle 2058"/>
          <p:cNvSpPr/>
          <p:nvPr/>
        </p:nvSpPr>
        <p:spPr>
          <a:xfrm>
            <a:off x="1467360" y="3989520"/>
            <a:ext cx="722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Rectangle 2059"/>
          <p:cNvSpPr/>
          <p:nvPr/>
        </p:nvSpPr>
        <p:spPr>
          <a:xfrm>
            <a:off x="4197240" y="3932280"/>
            <a:ext cx="1057320" cy="49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Rectangle 2060"/>
          <p:cNvSpPr/>
          <p:nvPr/>
        </p:nvSpPr>
        <p:spPr>
          <a:xfrm>
            <a:off x="4379040" y="3962520"/>
            <a:ext cx="722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Rectangle 2061"/>
          <p:cNvSpPr/>
          <p:nvPr/>
        </p:nvSpPr>
        <p:spPr>
          <a:xfrm>
            <a:off x="7002360" y="3941640"/>
            <a:ext cx="1057320" cy="49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Rectangle 2062"/>
          <p:cNvSpPr/>
          <p:nvPr/>
        </p:nvSpPr>
        <p:spPr>
          <a:xfrm>
            <a:off x="7184160" y="3971880"/>
            <a:ext cx="722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Line 2063"/>
          <p:cNvSpPr/>
          <p:nvPr/>
        </p:nvSpPr>
        <p:spPr>
          <a:xfrm>
            <a:off x="1020600" y="2235240"/>
            <a:ext cx="5664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Line 2064"/>
          <p:cNvSpPr/>
          <p:nvPr/>
        </p:nvSpPr>
        <p:spPr>
          <a:xfrm>
            <a:off x="1014480" y="2241720"/>
            <a:ext cx="0" cy="522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Line 2065"/>
          <p:cNvSpPr/>
          <p:nvPr/>
        </p:nvSpPr>
        <p:spPr>
          <a:xfrm>
            <a:off x="6702480" y="2254320"/>
            <a:ext cx="0" cy="522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Line 2066"/>
          <p:cNvSpPr/>
          <p:nvPr/>
        </p:nvSpPr>
        <p:spPr>
          <a:xfrm>
            <a:off x="1790640" y="3618000"/>
            <a:ext cx="57578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Line 2067"/>
          <p:cNvSpPr/>
          <p:nvPr/>
        </p:nvSpPr>
        <p:spPr>
          <a:xfrm>
            <a:off x="1817640" y="3637080"/>
            <a:ext cx="0" cy="29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Line 2068"/>
          <p:cNvSpPr/>
          <p:nvPr/>
        </p:nvSpPr>
        <p:spPr>
          <a:xfrm>
            <a:off x="4722840" y="3619440"/>
            <a:ext cx="0" cy="30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Line 2069"/>
          <p:cNvSpPr/>
          <p:nvPr/>
        </p:nvSpPr>
        <p:spPr>
          <a:xfrm>
            <a:off x="7531200" y="3632040"/>
            <a:ext cx="0" cy="30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Rectangle 2070"/>
          <p:cNvSpPr/>
          <p:nvPr/>
        </p:nvSpPr>
        <p:spPr>
          <a:xfrm>
            <a:off x="531720" y="4946760"/>
            <a:ext cx="1057320" cy="49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Rectangle 2071"/>
          <p:cNvSpPr/>
          <p:nvPr/>
        </p:nvSpPr>
        <p:spPr>
          <a:xfrm>
            <a:off x="713520" y="4976640"/>
            <a:ext cx="722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Rectangle 2072"/>
          <p:cNvSpPr/>
          <p:nvPr/>
        </p:nvSpPr>
        <p:spPr>
          <a:xfrm>
            <a:off x="2117880" y="4917960"/>
            <a:ext cx="1056960" cy="49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Rectangle 2073"/>
          <p:cNvSpPr/>
          <p:nvPr/>
        </p:nvSpPr>
        <p:spPr>
          <a:xfrm>
            <a:off x="2143800" y="4948200"/>
            <a:ext cx="10364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voriteCol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Line 2074"/>
          <p:cNvSpPr/>
          <p:nvPr/>
        </p:nvSpPr>
        <p:spPr>
          <a:xfrm>
            <a:off x="1036800" y="4686480"/>
            <a:ext cx="1609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Line 2075"/>
          <p:cNvSpPr/>
          <p:nvPr/>
        </p:nvSpPr>
        <p:spPr>
          <a:xfrm>
            <a:off x="1023840" y="4695840"/>
            <a:ext cx="0" cy="22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Line 2076"/>
          <p:cNvSpPr/>
          <p:nvPr/>
        </p:nvSpPr>
        <p:spPr>
          <a:xfrm>
            <a:off x="2647800" y="4680000"/>
            <a:ext cx="0" cy="22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Oval 2077"/>
          <p:cNvSpPr/>
          <p:nvPr/>
        </p:nvSpPr>
        <p:spPr>
          <a:xfrm>
            <a:off x="601560" y="5948280"/>
            <a:ext cx="808200" cy="770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Line 2078"/>
          <p:cNvSpPr/>
          <p:nvPr/>
        </p:nvSpPr>
        <p:spPr>
          <a:xfrm>
            <a:off x="1789200" y="4460760"/>
            <a:ext cx="0" cy="235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Line 2079"/>
          <p:cNvSpPr/>
          <p:nvPr/>
        </p:nvSpPr>
        <p:spPr>
          <a:xfrm>
            <a:off x="6729480" y="3311640"/>
            <a:ext cx="0" cy="312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Rectangle 2080"/>
          <p:cNvSpPr/>
          <p:nvPr/>
        </p:nvSpPr>
        <p:spPr>
          <a:xfrm>
            <a:off x="767160" y="6068880"/>
            <a:ext cx="477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e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Line 2081"/>
          <p:cNvSpPr/>
          <p:nvPr/>
        </p:nvSpPr>
        <p:spPr>
          <a:xfrm>
            <a:off x="998640" y="5452920"/>
            <a:ext cx="0" cy="482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Oval 2082"/>
          <p:cNvSpPr/>
          <p:nvPr/>
        </p:nvSpPr>
        <p:spPr>
          <a:xfrm>
            <a:off x="2259000" y="5927760"/>
            <a:ext cx="808200" cy="770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Rectangle 2083"/>
          <p:cNvSpPr/>
          <p:nvPr/>
        </p:nvSpPr>
        <p:spPr>
          <a:xfrm>
            <a:off x="2299680" y="6048360"/>
            <a:ext cx="731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gr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Line 2084"/>
          <p:cNvSpPr/>
          <p:nvPr/>
        </p:nvSpPr>
        <p:spPr>
          <a:xfrm>
            <a:off x="2655720" y="5432400"/>
            <a:ext cx="0" cy="482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Rectangle 2085"/>
          <p:cNvSpPr/>
          <p:nvPr/>
        </p:nvSpPr>
        <p:spPr>
          <a:xfrm>
            <a:off x="3470400" y="4927680"/>
            <a:ext cx="1057320" cy="49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Rectangle 2086"/>
          <p:cNvSpPr/>
          <p:nvPr/>
        </p:nvSpPr>
        <p:spPr>
          <a:xfrm>
            <a:off x="3651840" y="4957920"/>
            <a:ext cx="722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Rectangle 2087"/>
          <p:cNvSpPr/>
          <p:nvPr/>
        </p:nvSpPr>
        <p:spPr>
          <a:xfrm>
            <a:off x="5056200" y="4898880"/>
            <a:ext cx="1057320" cy="49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Rectangle 2088"/>
          <p:cNvSpPr/>
          <p:nvPr/>
        </p:nvSpPr>
        <p:spPr>
          <a:xfrm>
            <a:off x="5082480" y="4929120"/>
            <a:ext cx="10364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voriteCol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Line 2089"/>
          <p:cNvSpPr/>
          <p:nvPr/>
        </p:nvSpPr>
        <p:spPr>
          <a:xfrm>
            <a:off x="3975120" y="4667400"/>
            <a:ext cx="1609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Line 2090"/>
          <p:cNvSpPr/>
          <p:nvPr/>
        </p:nvSpPr>
        <p:spPr>
          <a:xfrm>
            <a:off x="3962520" y="4676760"/>
            <a:ext cx="0" cy="22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Line 2091"/>
          <p:cNvSpPr/>
          <p:nvPr/>
        </p:nvSpPr>
        <p:spPr>
          <a:xfrm>
            <a:off x="5586480" y="4660920"/>
            <a:ext cx="0" cy="22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Oval 2092"/>
          <p:cNvSpPr/>
          <p:nvPr/>
        </p:nvSpPr>
        <p:spPr>
          <a:xfrm>
            <a:off x="3540240" y="5929200"/>
            <a:ext cx="807840" cy="770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Line 2093"/>
          <p:cNvSpPr/>
          <p:nvPr/>
        </p:nvSpPr>
        <p:spPr>
          <a:xfrm>
            <a:off x="4727520" y="4441680"/>
            <a:ext cx="0" cy="235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Rectangle 2094"/>
          <p:cNvSpPr/>
          <p:nvPr/>
        </p:nvSpPr>
        <p:spPr>
          <a:xfrm>
            <a:off x="3667320" y="6049800"/>
            <a:ext cx="5533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v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Line 2095"/>
          <p:cNvSpPr/>
          <p:nvPr/>
        </p:nvSpPr>
        <p:spPr>
          <a:xfrm>
            <a:off x="3936960" y="5433840"/>
            <a:ext cx="0" cy="482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Oval 2096"/>
          <p:cNvSpPr/>
          <p:nvPr/>
        </p:nvSpPr>
        <p:spPr>
          <a:xfrm>
            <a:off x="5197320" y="5908680"/>
            <a:ext cx="808200" cy="770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Rectangle 2097"/>
          <p:cNvSpPr/>
          <p:nvPr/>
        </p:nvSpPr>
        <p:spPr>
          <a:xfrm>
            <a:off x="5242680" y="6029280"/>
            <a:ext cx="7239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b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Line 2098"/>
          <p:cNvSpPr/>
          <p:nvPr/>
        </p:nvSpPr>
        <p:spPr>
          <a:xfrm>
            <a:off x="5594400" y="5413320"/>
            <a:ext cx="0" cy="482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Rectangle 2099"/>
          <p:cNvSpPr/>
          <p:nvPr/>
        </p:nvSpPr>
        <p:spPr>
          <a:xfrm>
            <a:off x="6337440" y="4937040"/>
            <a:ext cx="1056960" cy="49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Rectangle 2100"/>
          <p:cNvSpPr/>
          <p:nvPr/>
        </p:nvSpPr>
        <p:spPr>
          <a:xfrm>
            <a:off x="6518880" y="4967280"/>
            <a:ext cx="722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Rectangle 2101"/>
          <p:cNvSpPr/>
          <p:nvPr/>
        </p:nvSpPr>
        <p:spPr>
          <a:xfrm>
            <a:off x="7923240" y="4908600"/>
            <a:ext cx="1057320" cy="49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Rectangle 2102"/>
          <p:cNvSpPr/>
          <p:nvPr/>
        </p:nvSpPr>
        <p:spPr>
          <a:xfrm>
            <a:off x="7949160" y="4938840"/>
            <a:ext cx="10364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voriteCol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Line 2103"/>
          <p:cNvSpPr/>
          <p:nvPr/>
        </p:nvSpPr>
        <p:spPr>
          <a:xfrm>
            <a:off x="6842160" y="4676760"/>
            <a:ext cx="1609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Line 2104"/>
          <p:cNvSpPr/>
          <p:nvPr/>
        </p:nvSpPr>
        <p:spPr>
          <a:xfrm>
            <a:off x="6829560" y="4686480"/>
            <a:ext cx="0" cy="22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Line 2105"/>
          <p:cNvSpPr/>
          <p:nvPr/>
        </p:nvSpPr>
        <p:spPr>
          <a:xfrm>
            <a:off x="8453520" y="4670280"/>
            <a:ext cx="0" cy="222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Oval 2106"/>
          <p:cNvSpPr/>
          <p:nvPr/>
        </p:nvSpPr>
        <p:spPr>
          <a:xfrm>
            <a:off x="6407280" y="5938920"/>
            <a:ext cx="807840" cy="769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Line 2107"/>
          <p:cNvSpPr/>
          <p:nvPr/>
        </p:nvSpPr>
        <p:spPr>
          <a:xfrm>
            <a:off x="7594560" y="4451400"/>
            <a:ext cx="0" cy="235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Rectangle 2108"/>
          <p:cNvSpPr/>
          <p:nvPr/>
        </p:nvSpPr>
        <p:spPr>
          <a:xfrm>
            <a:off x="6534360" y="6059520"/>
            <a:ext cx="5533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Line 2109"/>
          <p:cNvSpPr/>
          <p:nvPr/>
        </p:nvSpPr>
        <p:spPr>
          <a:xfrm>
            <a:off x="6804000" y="5443560"/>
            <a:ext cx="0" cy="482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Oval 2110"/>
          <p:cNvSpPr/>
          <p:nvPr/>
        </p:nvSpPr>
        <p:spPr>
          <a:xfrm>
            <a:off x="8064360" y="5918040"/>
            <a:ext cx="808200" cy="770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Rectangle 2111"/>
          <p:cNvSpPr/>
          <p:nvPr/>
        </p:nvSpPr>
        <p:spPr>
          <a:xfrm>
            <a:off x="8035200" y="6039000"/>
            <a:ext cx="876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yel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Line 2112"/>
          <p:cNvSpPr/>
          <p:nvPr/>
        </p:nvSpPr>
        <p:spPr>
          <a:xfrm>
            <a:off x="8461440" y="5423040"/>
            <a:ext cx="0" cy="482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 Box 66"/>
          <p:cNvSpPr/>
          <p:nvPr/>
        </p:nvSpPr>
        <p:spPr>
          <a:xfrm>
            <a:off x="2390760" y="3882960"/>
            <a:ext cx="1039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Times New Roman"/>
              </a:rPr>
              <a:t>Those are its ancest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Line 67"/>
          <p:cNvSpPr/>
          <p:nvPr/>
        </p:nvSpPr>
        <p:spPr>
          <a:xfrm flipV="1">
            <a:off x="3208320" y="3084120"/>
            <a:ext cx="2922480" cy="1298520"/>
          </a:xfrm>
          <a:prstGeom prst="line">
            <a:avLst/>
          </a:prstGeom>
          <a:ln w="255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Line 68"/>
          <p:cNvSpPr/>
          <p:nvPr/>
        </p:nvSpPr>
        <p:spPr>
          <a:xfrm flipV="1">
            <a:off x="3216240" y="2333160"/>
            <a:ext cx="384120" cy="2033640"/>
          </a:xfrm>
          <a:prstGeom prst="line">
            <a:avLst/>
          </a:prstGeom>
          <a:ln w="255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AutoShape 2051"/>
          <p:cNvSpPr/>
          <p:nvPr/>
        </p:nvSpPr>
        <p:spPr>
          <a:xfrm>
            <a:off x="3017880" y="1498680"/>
            <a:ext cx="1130400" cy="901800"/>
          </a:xfrm>
          <a:custGeom>
            <a:avLst/>
            <a:gdLst/>
            <a:ahLst/>
            <a:rect l="l" t="t" r="r" b="b"/>
            <a:pathLst>
              <a:path w="1130300" h="901700">
                <a:moveTo>
                  <a:pt x="1" y="344418"/>
                </a:moveTo>
                <a:lnTo>
                  <a:pt x="431739" y="344420"/>
                </a:lnTo>
                <a:lnTo>
                  <a:pt x="565150" y="0"/>
                </a:lnTo>
                <a:lnTo>
                  <a:pt x="698561" y="344420"/>
                </a:lnTo>
                <a:lnTo>
                  <a:pt x="1130299" y="344418"/>
                </a:lnTo>
                <a:lnTo>
                  <a:pt x="781014" y="557279"/>
                </a:lnTo>
                <a:lnTo>
                  <a:pt x="914431" y="901698"/>
                </a:lnTo>
                <a:lnTo>
                  <a:pt x="565150" y="688833"/>
                </a:lnTo>
                <a:lnTo>
                  <a:pt x="215869" y="901698"/>
                </a:lnTo>
                <a:lnTo>
                  <a:pt x="349286" y="557279"/>
                </a:lnTo>
                <a:lnTo>
                  <a:pt x="1" y="344418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Rectangle 2052"/>
          <p:cNvSpPr/>
          <p:nvPr/>
        </p:nvSpPr>
        <p:spPr>
          <a:xfrm>
            <a:off x="3187800" y="1806480"/>
            <a:ext cx="84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ocu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AutoShape 2053"/>
          <p:cNvSpPr/>
          <p:nvPr/>
        </p:nvSpPr>
        <p:spPr>
          <a:xfrm>
            <a:off x="136440" y="2787480"/>
            <a:ext cx="1735200" cy="6400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Rectangle 2054"/>
          <p:cNvSpPr/>
          <p:nvPr/>
        </p:nvSpPr>
        <p:spPr>
          <a:xfrm>
            <a:off x="222840" y="2806560"/>
            <a:ext cx="1620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?xml version=“1.0”?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Rectangle 2055"/>
          <p:cNvSpPr/>
          <p:nvPr/>
        </p:nvSpPr>
        <p:spPr>
          <a:xfrm>
            <a:off x="6176880" y="2803680"/>
            <a:ext cx="1057320" cy="495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Rectangle 2056"/>
          <p:cNvSpPr/>
          <p:nvPr/>
        </p:nvSpPr>
        <p:spPr>
          <a:xfrm>
            <a:off x="6212520" y="2833560"/>
            <a:ext cx="1019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tness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Rectangle 2057"/>
          <p:cNvSpPr/>
          <p:nvPr/>
        </p:nvSpPr>
        <p:spPr>
          <a:xfrm>
            <a:off x="1285920" y="3959280"/>
            <a:ext cx="1057320" cy="49536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Rectangle 2058"/>
          <p:cNvSpPr/>
          <p:nvPr/>
        </p:nvSpPr>
        <p:spPr>
          <a:xfrm>
            <a:off x="1467360" y="3989520"/>
            <a:ext cx="722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Rectangle 2059"/>
          <p:cNvSpPr/>
          <p:nvPr/>
        </p:nvSpPr>
        <p:spPr>
          <a:xfrm>
            <a:off x="4197240" y="3932280"/>
            <a:ext cx="1057320" cy="49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Rectangle 2060"/>
          <p:cNvSpPr/>
          <p:nvPr/>
        </p:nvSpPr>
        <p:spPr>
          <a:xfrm>
            <a:off x="4379040" y="3962520"/>
            <a:ext cx="722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Rectangle 2061"/>
          <p:cNvSpPr/>
          <p:nvPr/>
        </p:nvSpPr>
        <p:spPr>
          <a:xfrm>
            <a:off x="7002360" y="3941640"/>
            <a:ext cx="1057320" cy="49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Rectangle 2062"/>
          <p:cNvSpPr/>
          <p:nvPr/>
        </p:nvSpPr>
        <p:spPr>
          <a:xfrm>
            <a:off x="7184160" y="3971880"/>
            <a:ext cx="722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Line 2063"/>
          <p:cNvSpPr/>
          <p:nvPr/>
        </p:nvSpPr>
        <p:spPr>
          <a:xfrm>
            <a:off x="1020600" y="2235240"/>
            <a:ext cx="5664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Line 2064"/>
          <p:cNvSpPr/>
          <p:nvPr/>
        </p:nvSpPr>
        <p:spPr>
          <a:xfrm>
            <a:off x="1014480" y="2241720"/>
            <a:ext cx="0" cy="522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Line 2065"/>
          <p:cNvSpPr/>
          <p:nvPr/>
        </p:nvSpPr>
        <p:spPr>
          <a:xfrm>
            <a:off x="6702480" y="2254320"/>
            <a:ext cx="0" cy="522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Line 2066"/>
          <p:cNvSpPr/>
          <p:nvPr/>
        </p:nvSpPr>
        <p:spPr>
          <a:xfrm>
            <a:off x="1790640" y="3618000"/>
            <a:ext cx="57578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Line 2067"/>
          <p:cNvSpPr/>
          <p:nvPr/>
        </p:nvSpPr>
        <p:spPr>
          <a:xfrm>
            <a:off x="1817640" y="3637080"/>
            <a:ext cx="0" cy="29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Line 2068"/>
          <p:cNvSpPr/>
          <p:nvPr/>
        </p:nvSpPr>
        <p:spPr>
          <a:xfrm>
            <a:off x="4722840" y="3619440"/>
            <a:ext cx="0" cy="30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Line 2069"/>
          <p:cNvSpPr/>
          <p:nvPr/>
        </p:nvSpPr>
        <p:spPr>
          <a:xfrm>
            <a:off x="7531200" y="3632040"/>
            <a:ext cx="0" cy="30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Rectangle 2070"/>
          <p:cNvSpPr/>
          <p:nvPr/>
        </p:nvSpPr>
        <p:spPr>
          <a:xfrm>
            <a:off x="531720" y="4946760"/>
            <a:ext cx="1057320" cy="49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Rectangle 2071"/>
          <p:cNvSpPr/>
          <p:nvPr/>
        </p:nvSpPr>
        <p:spPr>
          <a:xfrm>
            <a:off x="713520" y="4976640"/>
            <a:ext cx="722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Rectangle 2072"/>
          <p:cNvSpPr/>
          <p:nvPr/>
        </p:nvSpPr>
        <p:spPr>
          <a:xfrm>
            <a:off x="2117880" y="4917960"/>
            <a:ext cx="1056960" cy="49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Rectangle 2073"/>
          <p:cNvSpPr/>
          <p:nvPr/>
        </p:nvSpPr>
        <p:spPr>
          <a:xfrm>
            <a:off x="2143800" y="4948200"/>
            <a:ext cx="10364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voriteCol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Line 2074"/>
          <p:cNvSpPr/>
          <p:nvPr/>
        </p:nvSpPr>
        <p:spPr>
          <a:xfrm>
            <a:off x="1036800" y="4686480"/>
            <a:ext cx="1609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Line 2075"/>
          <p:cNvSpPr/>
          <p:nvPr/>
        </p:nvSpPr>
        <p:spPr>
          <a:xfrm>
            <a:off x="1023840" y="4695840"/>
            <a:ext cx="0" cy="22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Line 2076"/>
          <p:cNvSpPr/>
          <p:nvPr/>
        </p:nvSpPr>
        <p:spPr>
          <a:xfrm>
            <a:off x="2647800" y="4680000"/>
            <a:ext cx="0" cy="22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Oval 2077"/>
          <p:cNvSpPr/>
          <p:nvPr/>
        </p:nvSpPr>
        <p:spPr>
          <a:xfrm>
            <a:off x="601560" y="5948280"/>
            <a:ext cx="808200" cy="770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Line 2078"/>
          <p:cNvSpPr/>
          <p:nvPr/>
        </p:nvSpPr>
        <p:spPr>
          <a:xfrm>
            <a:off x="1789200" y="4460760"/>
            <a:ext cx="0" cy="235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Line 2079"/>
          <p:cNvSpPr/>
          <p:nvPr/>
        </p:nvSpPr>
        <p:spPr>
          <a:xfrm>
            <a:off x="6729480" y="3311640"/>
            <a:ext cx="0" cy="312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Rectangle 2080"/>
          <p:cNvSpPr/>
          <p:nvPr/>
        </p:nvSpPr>
        <p:spPr>
          <a:xfrm>
            <a:off x="767160" y="6068880"/>
            <a:ext cx="477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e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Line 2081"/>
          <p:cNvSpPr/>
          <p:nvPr/>
        </p:nvSpPr>
        <p:spPr>
          <a:xfrm>
            <a:off x="998640" y="5452920"/>
            <a:ext cx="0" cy="482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Oval 2082"/>
          <p:cNvSpPr/>
          <p:nvPr/>
        </p:nvSpPr>
        <p:spPr>
          <a:xfrm>
            <a:off x="2259000" y="5927760"/>
            <a:ext cx="808200" cy="770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Rectangle 2083"/>
          <p:cNvSpPr/>
          <p:nvPr/>
        </p:nvSpPr>
        <p:spPr>
          <a:xfrm>
            <a:off x="2299680" y="6048360"/>
            <a:ext cx="731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gr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Line 2084"/>
          <p:cNvSpPr/>
          <p:nvPr/>
        </p:nvSpPr>
        <p:spPr>
          <a:xfrm>
            <a:off x="2655720" y="5432400"/>
            <a:ext cx="0" cy="482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Rectangle 2085"/>
          <p:cNvSpPr/>
          <p:nvPr/>
        </p:nvSpPr>
        <p:spPr>
          <a:xfrm>
            <a:off x="3470400" y="4927680"/>
            <a:ext cx="1057320" cy="49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Rectangle 2086"/>
          <p:cNvSpPr/>
          <p:nvPr/>
        </p:nvSpPr>
        <p:spPr>
          <a:xfrm>
            <a:off x="3651840" y="4957920"/>
            <a:ext cx="722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Rectangle 2087"/>
          <p:cNvSpPr/>
          <p:nvPr/>
        </p:nvSpPr>
        <p:spPr>
          <a:xfrm>
            <a:off x="5056200" y="4898880"/>
            <a:ext cx="1057320" cy="49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Rectangle 2088"/>
          <p:cNvSpPr/>
          <p:nvPr/>
        </p:nvSpPr>
        <p:spPr>
          <a:xfrm>
            <a:off x="5082480" y="4929120"/>
            <a:ext cx="10364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voriteCol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2089"/>
          <p:cNvSpPr/>
          <p:nvPr/>
        </p:nvSpPr>
        <p:spPr>
          <a:xfrm>
            <a:off x="3975120" y="4667400"/>
            <a:ext cx="1609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2090"/>
          <p:cNvSpPr/>
          <p:nvPr/>
        </p:nvSpPr>
        <p:spPr>
          <a:xfrm>
            <a:off x="3962520" y="4676760"/>
            <a:ext cx="0" cy="22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2091"/>
          <p:cNvSpPr/>
          <p:nvPr/>
        </p:nvSpPr>
        <p:spPr>
          <a:xfrm>
            <a:off x="5586480" y="4660920"/>
            <a:ext cx="0" cy="22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Oval 2092"/>
          <p:cNvSpPr/>
          <p:nvPr/>
        </p:nvSpPr>
        <p:spPr>
          <a:xfrm>
            <a:off x="3540240" y="5929200"/>
            <a:ext cx="807840" cy="770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Line 2093"/>
          <p:cNvSpPr/>
          <p:nvPr/>
        </p:nvSpPr>
        <p:spPr>
          <a:xfrm>
            <a:off x="4727520" y="4441680"/>
            <a:ext cx="0" cy="235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Rectangle 2094"/>
          <p:cNvSpPr/>
          <p:nvPr/>
        </p:nvSpPr>
        <p:spPr>
          <a:xfrm>
            <a:off x="3667320" y="6049800"/>
            <a:ext cx="5533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v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Line 2095"/>
          <p:cNvSpPr/>
          <p:nvPr/>
        </p:nvSpPr>
        <p:spPr>
          <a:xfrm>
            <a:off x="3936960" y="5433840"/>
            <a:ext cx="0" cy="482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Oval 2096"/>
          <p:cNvSpPr/>
          <p:nvPr/>
        </p:nvSpPr>
        <p:spPr>
          <a:xfrm>
            <a:off x="5197320" y="5908680"/>
            <a:ext cx="808200" cy="770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Rectangle 2097"/>
          <p:cNvSpPr/>
          <p:nvPr/>
        </p:nvSpPr>
        <p:spPr>
          <a:xfrm>
            <a:off x="5242680" y="6029280"/>
            <a:ext cx="7239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b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Line 2098"/>
          <p:cNvSpPr/>
          <p:nvPr/>
        </p:nvSpPr>
        <p:spPr>
          <a:xfrm>
            <a:off x="5594400" y="5413320"/>
            <a:ext cx="0" cy="482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Rectangle 2099"/>
          <p:cNvSpPr/>
          <p:nvPr/>
        </p:nvSpPr>
        <p:spPr>
          <a:xfrm>
            <a:off x="6337440" y="4937040"/>
            <a:ext cx="1056960" cy="49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Rectangle 2100"/>
          <p:cNvSpPr/>
          <p:nvPr/>
        </p:nvSpPr>
        <p:spPr>
          <a:xfrm>
            <a:off x="6518880" y="4967280"/>
            <a:ext cx="722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Rectangle 2101"/>
          <p:cNvSpPr/>
          <p:nvPr/>
        </p:nvSpPr>
        <p:spPr>
          <a:xfrm>
            <a:off x="7923240" y="4908600"/>
            <a:ext cx="1057320" cy="49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Rectangle 2102"/>
          <p:cNvSpPr/>
          <p:nvPr/>
        </p:nvSpPr>
        <p:spPr>
          <a:xfrm>
            <a:off x="7949160" y="4938840"/>
            <a:ext cx="10364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voriteCol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Line 2103"/>
          <p:cNvSpPr/>
          <p:nvPr/>
        </p:nvSpPr>
        <p:spPr>
          <a:xfrm>
            <a:off x="6842160" y="4676760"/>
            <a:ext cx="1609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Line 2104"/>
          <p:cNvSpPr/>
          <p:nvPr/>
        </p:nvSpPr>
        <p:spPr>
          <a:xfrm>
            <a:off x="6829560" y="4686480"/>
            <a:ext cx="0" cy="22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Line 2105"/>
          <p:cNvSpPr/>
          <p:nvPr/>
        </p:nvSpPr>
        <p:spPr>
          <a:xfrm>
            <a:off x="8453520" y="4670280"/>
            <a:ext cx="0" cy="222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Oval 2106"/>
          <p:cNvSpPr/>
          <p:nvPr/>
        </p:nvSpPr>
        <p:spPr>
          <a:xfrm>
            <a:off x="6407280" y="5938920"/>
            <a:ext cx="807840" cy="769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Line 2107"/>
          <p:cNvSpPr/>
          <p:nvPr/>
        </p:nvSpPr>
        <p:spPr>
          <a:xfrm>
            <a:off x="7594560" y="4451400"/>
            <a:ext cx="0" cy="235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2108"/>
          <p:cNvSpPr/>
          <p:nvPr/>
        </p:nvSpPr>
        <p:spPr>
          <a:xfrm>
            <a:off x="6534360" y="6059520"/>
            <a:ext cx="5533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Line 2109"/>
          <p:cNvSpPr/>
          <p:nvPr/>
        </p:nvSpPr>
        <p:spPr>
          <a:xfrm>
            <a:off x="6804000" y="5443560"/>
            <a:ext cx="0" cy="482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Oval 2110"/>
          <p:cNvSpPr/>
          <p:nvPr/>
        </p:nvSpPr>
        <p:spPr>
          <a:xfrm>
            <a:off x="8064360" y="5918040"/>
            <a:ext cx="808200" cy="770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2111"/>
          <p:cNvSpPr/>
          <p:nvPr/>
        </p:nvSpPr>
        <p:spPr>
          <a:xfrm>
            <a:off x="8035200" y="6039000"/>
            <a:ext cx="876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yel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2112"/>
          <p:cNvSpPr/>
          <p:nvPr/>
        </p:nvSpPr>
        <p:spPr>
          <a:xfrm>
            <a:off x="8461440" y="5423040"/>
            <a:ext cx="0" cy="482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66"/>
          <p:cNvSpPr/>
          <p:nvPr/>
        </p:nvSpPr>
        <p:spPr>
          <a:xfrm>
            <a:off x="2390760" y="3882960"/>
            <a:ext cx="1039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Times New Roman"/>
              </a:rPr>
              <a:t>It has 2 sibl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67"/>
          <p:cNvSpPr/>
          <p:nvPr/>
        </p:nvSpPr>
        <p:spPr>
          <a:xfrm flipV="1">
            <a:off x="3100320" y="4060800"/>
            <a:ext cx="1050840" cy="179280"/>
          </a:xfrm>
          <a:prstGeom prst="line">
            <a:avLst/>
          </a:prstGeom>
          <a:ln w="255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68"/>
          <p:cNvSpPr/>
          <p:nvPr/>
        </p:nvSpPr>
        <p:spPr>
          <a:xfrm flipV="1">
            <a:off x="3110040" y="4231800"/>
            <a:ext cx="3873240" cy="17640"/>
          </a:xfrm>
          <a:prstGeom prst="line">
            <a:avLst/>
          </a:prstGeom>
          <a:ln w="255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AutoShape 2051"/>
          <p:cNvSpPr/>
          <p:nvPr/>
        </p:nvSpPr>
        <p:spPr>
          <a:xfrm>
            <a:off x="3017880" y="1498680"/>
            <a:ext cx="1130400" cy="901800"/>
          </a:xfrm>
          <a:custGeom>
            <a:avLst/>
            <a:gdLst/>
            <a:ahLst/>
            <a:rect l="l" t="t" r="r" b="b"/>
            <a:pathLst>
              <a:path w="1130300" h="901700">
                <a:moveTo>
                  <a:pt x="1" y="344418"/>
                </a:moveTo>
                <a:lnTo>
                  <a:pt x="431739" y="344420"/>
                </a:lnTo>
                <a:lnTo>
                  <a:pt x="565150" y="0"/>
                </a:lnTo>
                <a:lnTo>
                  <a:pt x="698561" y="344420"/>
                </a:lnTo>
                <a:lnTo>
                  <a:pt x="1130299" y="344418"/>
                </a:lnTo>
                <a:lnTo>
                  <a:pt x="781014" y="557279"/>
                </a:lnTo>
                <a:lnTo>
                  <a:pt x="914431" y="901698"/>
                </a:lnTo>
                <a:lnTo>
                  <a:pt x="565150" y="688833"/>
                </a:lnTo>
                <a:lnTo>
                  <a:pt x="215869" y="901698"/>
                </a:lnTo>
                <a:lnTo>
                  <a:pt x="349286" y="557279"/>
                </a:lnTo>
                <a:lnTo>
                  <a:pt x="1" y="344418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052"/>
          <p:cNvSpPr/>
          <p:nvPr/>
        </p:nvSpPr>
        <p:spPr>
          <a:xfrm>
            <a:off x="3187800" y="1806480"/>
            <a:ext cx="84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ocu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AutoShape 2053"/>
          <p:cNvSpPr/>
          <p:nvPr/>
        </p:nvSpPr>
        <p:spPr>
          <a:xfrm>
            <a:off x="136440" y="2787480"/>
            <a:ext cx="1735200" cy="6400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2054"/>
          <p:cNvSpPr/>
          <p:nvPr/>
        </p:nvSpPr>
        <p:spPr>
          <a:xfrm>
            <a:off x="222840" y="2806560"/>
            <a:ext cx="1620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?xml version=“1.0”?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2055"/>
          <p:cNvSpPr/>
          <p:nvPr/>
        </p:nvSpPr>
        <p:spPr>
          <a:xfrm>
            <a:off x="6176880" y="2803680"/>
            <a:ext cx="1057320" cy="495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Rectangle 2056"/>
          <p:cNvSpPr/>
          <p:nvPr/>
        </p:nvSpPr>
        <p:spPr>
          <a:xfrm>
            <a:off x="6212520" y="2833560"/>
            <a:ext cx="1019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tness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Rectangle 2057"/>
          <p:cNvSpPr/>
          <p:nvPr/>
        </p:nvSpPr>
        <p:spPr>
          <a:xfrm>
            <a:off x="1285920" y="3959280"/>
            <a:ext cx="1057320" cy="49536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2058"/>
          <p:cNvSpPr/>
          <p:nvPr/>
        </p:nvSpPr>
        <p:spPr>
          <a:xfrm>
            <a:off x="1467360" y="3989520"/>
            <a:ext cx="722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2059"/>
          <p:cNvSpPr/>
          <p:nvPr/>
        </p:nvSpPr>
        <p:spPr>
          <a:xfrm>
            <a:off x="4197240" y="3932280"/>
            <a:ext cx="1057320" cy="49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2060"/>
          <p:cNvSpPr/>
          <p:nvPr/>
        </p:nvSpPr>
        <p:spPr>
          <a:xfrm>
            <a:off x="4379040" y="3962520"/>
            <a:ext cx="722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2061"/>
          <p:cNvSpPr/>
          <p:nvPr/>
        </p:nvSpPr>
        <p:spPr>
          <a:xfrm>
            <a:off x="7002360" y="3941640"/>
            <a:ext cx="1057320" cy="49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2062"/>
          <p:cNvSpPr/>
          <p:nvPr/>
        </p:nvSpPr>
        <p:spPr>
          <a:xfrm>
            <a:off x="7184160" y="3971880"/>
            <a:ext cx="722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Line 2063"/>
          <p:cNvSpPr/>
          <p:nvPr/>
        </p:nvSpPr>
        <p:spPr>
          <a:xfrm>
            <a:off x="1020600" y="2235240"/>
            <a:ext cx="5664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Line 2064"/>
          <p:cNvSpPr/>
          <p:nvPr/>
        </p:nvSpPr>
        <p:spPr>
          <a:xfrm>
            <a:off x="1014480" y="2241720"/>
            <a:ext cx="0" cy="522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Line 2065"/>
          <p:cNvSpPr/>
          <p:nvPr/>
        </p:nvSpPr>
        <p:spPr>
          <a:xfrm>
            <a:off x="6702480" y="2254320"/>
            <a:ext cx="0" cy="522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66"/>
          <p:cNvSpPr/>
          <p:nvPr/>
        </p:nvSpPr>
        <p:spPr>
          <a:xfrm>
            <a:off x="1790640" y="3618000"/>
            <a:ext cx="57578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067"/>
          <p:cNvSpPr/>
          <p:nvPr/>
        </p:nvSpPr>
        <p:spPr>
          <a:xfrm>
            <a:off x="1817640" y="3637080"/>
            <a:ext cx="0" cy="29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068"/>
          <p:cNvSpPr/>
          <p:nvPr/>
        </p:nvSpPr>
        <p:spPr>
          <a:xfrm>
            <a:off x="4722840" y="3619440"/>
            <a:ext cx="0" cy="30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069"/>
          <p:cNvSpPr/>
          <p:nvPr/>
        </p:nvSpPr>
        <p:spPr>
          <a:xfrm>
            <a:off x="7531200" y="3632040"/>
            <a:ext cx="0" cy="30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Rectangle 2070"/>
          <p:cNvSpPr/>
          <p:nvPr/>
        </p:nvSpPr>
        <p:spPr>
          <a:xfrm>
            <a:off x="531720" y="4946760"/>
            <a:ext cx="1057320" cy="49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Rectangle 2071"/>
          <p:cNvSpPr/>
          <p:nvPr/>
        </p:nvSpPr>
        <p:spPr>
          <a:xfrm>
            <a:off x="713520" y="4976640"/>
            <a:ext cx="722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Rectangle 2072"/>
          <p:cNvSpPr/>
          <p:nvPr/>
        </p:nvSpPr>
        <p:spPr>
          <a:xfrm>
            <a:off x="2117880" y="4917960"/>
            <a:ext cx="1056960" cy="49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Rectangle 2073"/>
          <p:cNvSpPr/>
          <p:nvPr/>
        </p:nvSpPr>
        <p:spPr>
          <a:xfrm>
            <a:off x="2143800" y="4948200"/>
            <a:ext cx="10364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voriteCol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2074"/>
          <p:cNvSpPr/>
          <p:nvPr/>
        </p:nvSpPr>
        <p:spPr>
          <a:xfrm>
            <a:off x="1036800" y="4686480"/>
            <a:ext cx="1609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75"/>
          <p:cNvSpPr/>
          <p:nvPr/>
        </p:nvSpPr>
        <p:spPr>
          <a:xfrm>
            <a:off x="1023840" y="4695840"/>
            <a:ext cx="0" cy="22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076"/>
          <p:cNvSpPr/>
          <p:nvPr/>
        </p:nvSpPr>
        <p:spPr>
          <a:xfrm>
            <a:off x="2647800" y="4680000"/>
            <a:ext cx="0" cy="22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Oval 2077"/>
          <p:cNvSpPr/>
          <p:nvPr/>
        </p:nvSpPr>
        <p:spPr>
          <a:xfrm>
            <a:off x="601560" y="5948280"/>
            <a:ext cx="808200" cy="770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Line 2078"/>
          <p:cNvSpPr/>
          <p:nvPr/>
        </p:nvSpPr>
        <p:spPr>
          <a:xfrm>
            <a:off x="1789200" y="4460760"/>
            <a:ext cx="0" cy="235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Line 2079"/>
          <p:cNvSpPr/>
          <p:nvPr/>
        </p:nvSpPr>
        <p:spPr>
          <a:xfrm>
            <a:off x="6729480" y="3311640"/>
            <a:ext cx="0" cy="312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Rectangle 2080"/>
          <p:cNvSpPr/>
          <p:nvPr/>
        </p:nvSpPr>
        <p:spPr>
          <a:xfrm>
            <a:off x="767160" y="6068880"/>
            <a:ext cx="477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e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Line 2081"/>
          <p:cNvSpPr/>
          <p:nvPr/>
        </p:nvSpPr>
        <p:spPr>
          <a:xfrm>
            <a:off x="998640" y="5452920"/>
            <a:ext cx="0" cy="482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Oval 2082"/>
          <p:cNvSpPr/>
          <p:nvPr/>
        </p:nvSpPr>
        <p:spPr>
          <a:xfrm>
            <a:off x="2259000" y="5927760"/>
            <a:ext cx="808200" cy="770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083"/>
          <p:cNvSpPr/>
          <p:nvPr/>
        </p:nvSpPr>
        <p:spPr>
          <a:xfrm>
            <a:off x="2299680" y="6048360"/>
            <a:ext cx="731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gr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Line 2084"/>
          <p:cNvSpPr/>
          <p:nvPr/>
        </p:nvSpPr>
        <p:spPr>
          <a:xfrm>
            <a:off x="2655720" y="5432400"/>
            <a:ext cx="0" cy="482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Rectangle 2085"/>
          <p:cNvSpPr/>
          <p:nvPr/>
        </p:nvSpPr>
        <p:spPr>
          <a:xfrm>
            <a:off x="3470400" y="4927680"/>
            <a:ext cx="1057320" cy="49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Rectangle 2086"/>
          <p:cNvSpPr/>
          <p:nvPr/>
        </p:nvSpPr>
        <p:spPr>
          <a:xfrm>
            <a:off x="3651840" y="4957920"/>
            <a:ext cx="722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Rectangle 2087"/>
          <p:cNvSpPr/>
          <p:nvPr/>
        </p:nvSpPr>
        <p:spPr>
          <a:xfrm>
            <a:off x="5056200" y="4898880"/>
            <a:ext cx="1057320" cy="49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Rectangle 2088"/>
          <p:cNvSpPr/>
          <p:nvPr/>
        </p:nvSpPr>
        <p:spPr>
          <a:xfrm>
            <a:off x="5082480" y="4929120"/>
            <a:ext cx="10364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voriteCol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2089"/>
          <p:cNvSpPr/>
          <p:nvPr/>
        </p:nvSpPr>
        <p:spPr>
          <a:xfrm>
            <a:off x="3975120" y="4667400"/>
            <a:ext cx="1609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2090"/>
          <p:cNvSpPr/>
          <p:nvPr/>
        </p:nvSpPr>
        <p:spPr>
          <a:xfrm>
            <a:off x="3962520" y="4676760"/>
            <a:ext cx="0" cy="22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2091"/>
          <p:cNvSpPr/>
          <p:nvPr/>
        </p:nvSpPr>
        <p:spPr>
          <a:xfrm>
            <a:off x="5586480" y="4660920"/>
            <a:ext cx="0" cy="22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Oval 2092"/>
          <p:cNvSpPr/>
          <p:nvPr/>
        </p:nvSpPr>
        <p:spPr>
          <a:xfrm>
            <a:off x="3540240" y="5929200"/>
            <a:ext cx="807840" cy="770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2093"/>
          <p:cNvSpPr/>
          <p:nvPr/>
        </p:nvSpPr>
        <p:spPr>
          <a:xfrm>
            <a:off x="4727520" y="4441680"/>
            <a:ext cx="0" cy="235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Rectangle 2094"/>
          <p:cNvSpPr/>
          <p:nvPr/>
        </p:nvSpPr>
        <p:spPr>
          <a:xfrm>
            <a:off x="3667320" y="6049800"/>
            <a:ext cx="5533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v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2095"/>
          <p:cNvSpPr/>
          <p:nvPr/>
        </p:nvSpPr>
        <p:spPr>
          <a:xfrm>
            <a:off x="3936960" y="5433840"/>
            <a:ext cx="0" cy="482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Oval 2096"/>
          <p:cNvSpPr/>
          <p:nvPr/>
        </p:nvSpPr>
        <p:spPr>
          <a:xfrm>
            <a:off x="5197320" y="5908680"/>
            <a:ext cx="808200" cy="770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Rectangle 2097"/>
          <p:cNvSpPr/>
          <p:nvPr/>
        </p:nvSpPr>
        <p:spPr>
          <a:xfrm>
            <a:off x="5242680" y="6029280"/>
            <a:ext cx="7239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b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Line 2098"/>
          <p:cNvSpPr/>
          <p:nvPr/>
        </p:nvSpPr>
        <p:spPr>
          <a:xfrm>
            <a:off x="5594400" y="5413320"/>
            <a:ext cx="0" cy="482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Rectangle 2099"/>
          <p:cNvSpPr/>
          <p:nvPr/>
        </p:nvSpPr>
        <p:spPr>
          <a:xfrm>
            <a:off x="6337440" y="4937040"/>
            <a:ext cx="1056960" cy="49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Rectangle 2100"/>
          <p:cNvSpPr/>
          <p:nvPr/>
        </p:nvSpPr>
        <p:spPr>
          <a:xfrm>
            <a:off x="6518880" y="4967280"/>
            <a:ext cx="722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Rectangle 2101"/>
          <p:cNvSpPr/>
          <p:nvPr/>
        </p:nvSpPr>
        <p:spPr>
          <a:xfrm>
            <a:off x="7923240" y="4908600"/>
            <a:ext cx="1057320" cy="49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Rectangle 2102"/>
          <p:cNvSpPr/>
          <p:nvPr/>
        </p:nvSpPr>
        <p:spPr>
          <a:xfrm>
            <a:off x="7949160" y="4938840"/>
            <a:ext cx="10364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voriteCol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Line 2103"/>
          <p:cNvSpPr/>
          <p:nvPr/>
        </p:nvSpPr>
        <p:spPr>
          <a:xfrm>
            <a:off x="6842160" y="4676760"/>
            <a:ext cx="1609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Line 2104"/>
          <p:cNvSpPr/>
          <p:nvPr/>
        </p:nvSpPr>
        <p:spPr>
          <a:xfrm>
            <a:off x="6829560" y="4686480"/>
            <a:ext cx="0" cy="22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Line 2105"/>
          <p:cNvSpPr/>
          <p:nvPr/>
        </p:nvSpPr>
        <p:spPr>
          <a:xfrm>
            <a:off x="8453520" y="4670280"/>
            <a:ext cx="0" cy="222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Oval 2106"/>
          <p:cNvSpPr/>
          <p:nvPr/>
        </p:nvSpPr>
        <p:spPr>
          <a:xfrm>
            <a:off x="6407280" y="5938920"/>
            <a:ext cx="807840" cy="769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Line 2107"/>
          <p:cNvSpPr/>
          <p:nvPr/>
        </p:nvSpPr>
        <p:spPr>
          <a:xfrm>
            <a:off x="7594560" y="4451400"/>
            <a:ext cx="0" cy="235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Rectangle 2108"/>
          <p:cNvSpPr/>
          <p:nvPr/>
        </p:nvSpPr>
        <p:spPr>
          <a:xfrm>
            <a:off x="6534360" y="6059520"/>
            <a:ext cx="5533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Line 2109"/>
          <p:cNvSpPr/>
          <p:nvPr/>
        </p:nvSpPr>
        <p:spPr>
          <a:xfrm>
            <a:off x="6804000" y="5443560"/>
            <a:ext cx="0" cy="482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Oval 2110"/>
          <p:cNvSpPr/>
          <p:nvPr/>
        </p:nvSpPr>
        <p:spPr>
          <a:xfrm>
            <a:off x="8064360" y="5918040"/>
            <a:ext cx="808200" cy="770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Rectangle 2111"/>
          <p:cNvSpPr/>
          <p:nvPr/>
        </p:nvSpPr>
        <p:spPr>
          <a:xfrm>
            <a:off x="8035200" y="6039000"/>
            <a:ext cx="876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yel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Line 2112"/>
          <p:cNvSpPr/>
          <p:nvPr/>
        </p:nvSpPr>
        <p:spPr>
          <a:xfrm>
            <a:off x="8461440" y="5423040"/>
            <a:ext cx="0" cy="482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Text Box 66"/>
          <p:cNvSpPr/>
          <p:nvPr/>
        </p:nvSpPr>
        <p:spPr>
          <a:xfrm>
            <a:off x="2390760" y="3882960"/>
            <a:ext cx="1039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Times New Roman"/>
              </a:rPr>
              <a:t>They are following-sibl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Line 67"/>
          <p:cNvSpPr/>
          <p:nvPr/>
        </p:nvSpPr>
        <p:spPr>
          <a:xfrm flipV="1">
            <a:off x="3306600" y="4060440"/>
            <a:ext cx="844560" cy="206280"/>
          </a:xfrm>
          <a:prstGeom prst="line">
            <a:avLst/>
          </a:prstGeom>
          <a:ln w="255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Line 68"/>
          <p:cNvSpPr/>
          <p:nvPr/>
        </p:nvSpPr>
        <p:spPr>
          <a:xfrm flipV="1">
            <a:off x="3298680" y="4231800"/>
            <a:ext cx="3684600" cy="34920"/>
          </a:xfrm>
          <a:prstGeom prst="line">
            <a:avLst/>
          </a:prstGeom>
          <a:ln w="255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AutoShape 2051"/>
          <p:cNvSpPr/>
          <p:nvPr/>
        </p:nvSpPr>
        <p:spPr>
          <a:xfrm>
            <a:off x="3017880" y="1498680"/>
            <a:ext cx="1130400" cy="901800"/>
          </a:xfrm>
          <a:custGeom>
            <a:avLst/>
            <a:gdLst/>
            <a:ahLst/>
            <a:rect l="l" t="t" r="r" b="b"/>
            <a:pathLst>
              <a:path w="1130300" h="901700">
                <a:moveTo>
                  <a:pt x="1" y="344418"/>
                </a:moveTo>
                <a:lnTo>
                  <a:pt x="431739" y="344420"/>
                </a:lnTo>
                <a:lnTo>
                  <a:pt x="565150" y="0"/>
                </a:lnTo>
                <a:lnTo>
                  <a:pt x="698561" y="344420"/>
                </a:lnTo>
                <a:lnTo>
                  <a:pt x="1130299" y="344418"/>
                </a:lnTo>
                <a:lnTo>
                  <a:pt x="781014" y="557279"/>
                </a:lnTo>
                <a:lnTo>
                  <a:pt x="914431" y="901698"/>
                </a:lnTo>
                <a:lnTo>
                  <a:pt x="565150" y="688833"/>
                </a:lnTo>
                <a:lnTo>
                  <a:pt x="215869" y="901698"/>
                </a:lnTo>
                <a:lnTo>
                  <a:pt x="349286" y="557279"/>
                </a:lnTo>
                <a:lnTo>
                  <a:pt x="1" y="344418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Rectangle 2052"/>
          <p:cNvSpPr/>
          <p:nvPr/>
        </p:nvSpPr>
        <p:spPr>
          <a:xfrm>
            <a:off x="3187800" y="1806480"/>
            <a:ext cx="84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ocu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AutoShape 2053"/>
          <p:cNvSpPr/>
          <p:nvPr/>
        </p:nvSpPr>
        <p:spPr>
          <a:xfrm>
            <a:off x="136440" y="2787480"/>
            <a:ext cx="1735200" cy="6400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Rectangle 2054"/>
          <p:cNvSpPr/>
          <p:nvPr/>
        </p:nvSpPr>
        <p:spPr>
          <a:xfrm>
            <a:off x="222840" y="2806560"/>
            <a:ext cx="1620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?xml version=“1.0”?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Rectangle 2055"/>
          <p:cNvSpPr/>
          <p:nvPr/>
        </p:nvSpPr>
        <p:spPr>
          <a:xfrm>
            <a:off x="6176880" y="2803680"/>
            <a:ext cx="1057320" cy="495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Rectangle 2056"/>
          <p:cNvSpPr/>
          <p:nvPr/>
        </p:nvSpPr>
        <p:spPr>
          <a:xfrm>
            <a:off x="6212520" y="2833560"/>
            <a:ext cx="1019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tness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Rectangle 2057"/>
          <p:cNvSpPr/>
          <p:nvPr/>
        </p:nvSpPr>
        <p:spPr>
          <a:xfrm>
            <a:off x="1285920" y="3959280"/>
            <a:ext cx="1057320" cy="49536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Rectangle 2058"/>
          <p:cNvSpPr/>
          <p:nvPr/>
        </p:nvSpPr>
        <p:spPr>
          <a:xfrm>
            <a:off x="1467360" y="3989520"/>
            <a:ext cx="722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Rectangle 2059"/>
          <p:cNvSpPr/>
          <p:nvPr/>
        </p:nvSpPr>
        <p:spPr>
          <a:xfrm>
            <a:off x="4197240" y="3932280"/>
            <a:ext cx="1057320" cy="49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Rectangle 2060"/>
          <p:cNvSpPr/>
          <p:nvPr/>
        </p:nvSpPr>
        <p:spPr>
          <a:xfrm>
            <a:off x="4379040" y="3962520"/>
            <a:ext cx="722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Rectangle 2061"/>
          <p:cNvSpPr/>
          <p:nvPr/>
        </p:nvSpPr>
        <p:spPr>
          <a:xfrm>
            <a:off x="7002360" y="3941640"/>
            <a:ext cx="1057320" cy="49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Rectangle 2062"/>
          <p:cNvSpPr/>
          <p:nvPr/>
        </p:nvSpPr>
        <p:spPr>
          <a:xfrm>
            <a:off x="7184160" y="3971880"/>
            <a:ext cx="722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Line 2063"/>
          <p:cNvSpPr/>
          <p:nvPr/>
        </p:nvSpPr>
        <p:spPr>
          <a:xfrm>
            <a:off x="1020600" y="2235240"/>
            <a:ext cx="5664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Line 2064"/>
          <p:cNvSpPr/>
          <p:nvPr/>
        </p:nvSpPr>
        <p:spPr>
          <a:xfrm>
            <a:off x="1014480" y="2241720"/>
            <a:ext cx="0" cy="522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Line 2065"/>
          <p:cNvSpPr/>
          <p:nvPr/>
        </p:nvSpPr>
        <p:spPr>
          <a:xfrm>
            <a:off x="6702480" y="2254320"/>
            <a:ext cx="0" cy="522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Line 2066"/>
          <p:cNvSpPr/>
          <p:nvPr/>
        </p:nvSpPr>
        <p:spPr>
          <a:xfrm>
            <a:off x="1790640" y="3618000"/>
            <a:ext cx="57578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Line 2067"/>
          <p:cNvSpPr/>
          <p:nvPr/>
        </p:nvSpPr>
        <p:spPr>
          <a:xfrm>
            <a:off x="1817640" y="3637080"/>
            <a:ext cx="0" cy="29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Line 2068"/>
          <p:cNvSpPr/>
          <p:nvPr/>
        </p:nvSpPr>
        <p:spPr>
          <a:xfrm>
            <a:off x="4722840" y="3619440"/>
            <a:ext cx="0" cy="30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Line 2069"/>
          <p:cNvSpPr/>
          <p:nvPr/>
        </p:nvSpPr>
        <p:spPr>
          <a:xfrm>
            <a:off x="7531200" y="3632040"/>
            <a:ext cx="0" cy="30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Rectangle 2070"/>
          <p:cNvSpPr/>
          <p:nvPr/>
        </p:nvSpPr>
        <p:spPr>
          <a:xfrm>
            <a:off x="531720" y="4946760"/>
            <a:ext cx="1057320" cy="49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Rectangle 2071"/>
          <p:cNvSpPr/>
          <p:nvPr/>
        </p:nvSpPr>
        <p:spPr>
          <a:xfrm>
            <a:off x="713520" y="4976640"/>
            <a:ext cx="722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Rectangle 2072"/>
          <p:cNvSpPr/>
          <p:nvPr/>
        </p:nvSpPr>
        <p:spPr>
          <a:xfrm>
            <a:off x="2117880" y="4917960"/>
            <a:ext cx="1056960" cy="49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Rectangle 2073"/>
          <p:cNvSpPr/>
          <p:nvPr/>
        </p:nvSpPr>
        <p:spPr>
          <a:xfrm>
            <a:off x="2143800" y="4948200"/>
            <a:ext cx="10364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voriteCol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Line 2074"/>
          <p:cNvSpPr/>
          <p:nvPr/>
        </p:nvSpPr>
        <p:spPr>
          <a:xfrm>
            <a:off x="1036800" y="4686480"/>
            <a:ext cx="1609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Line 2075"/>
          <p:cNvSpPr/>
          <p:nvPr/>
        </p:nvSpPr>
        <p:spPr>
          <a:xfrm>
            <a:off x="1023840" y="4695840"/>
            <a:ext cx="0" cy="22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Line 2076"/>
          <p:cNvSpPr/>
          <p:nvPr/>
        </p:nvSpPr>
        <p:spPr>
          <a:xfrm>
            <a:off x="2647800" y="4680000"/>
            <a:ext cx="0" cy="22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Oval 2077"/>
          <p:cNvSpPr/>
          <p:nvPr/>
        </p:nvSpPr>
        <p:spPr>
          <a:xfrm>
            <a:off x="601560" y="5948280"/>
            <a:ext cx="808200" cy="770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Line 2078"/>
          <p:cNvSpPr/>
          <p:nvPr/>
        </p:nvSpPr>
        <p:spPr>
          <a:xfrm>
            <a:off x="1789200" y="4460760"/>
            <a:ext cx="0" cy="235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Line 2079"/>
          <p:cNvSpPr/>
          <p:nvPr/>
        </p:nvSpPr>
        <p:spPr>
          <a:xfrm>
            <a:off x="6729480" y="3311640"/>
            <a:ext cx="0" cy="312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Rectangle 2080"/>
          <p:cNvSpPr/>
          <p:nvPr/>
        </p:nvSpPr>
        <p:spPr>
          <a:xfrm>
            <a:off x="767160" y="6068880"/>
            <a:ext cx="477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e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Line 2081"/>
          <p:cNvSpPr/>
          <p:nvPr/>
        </p:nvSpPr>
        <p:spPr>
          <a:xfrm>
            <a:off x="998640" y="5452920"/>
            <a:ext cx="0" cy="482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Oval 2082"/>
          <p:cNvSpPr/>
          <p:nvPr/>
        </p:nvSpPr>
        <p:spPr>
          <a:xfrm>
            <a:off x="2259000" y="5927760"/>
            <a:ext cx="808200" cy="770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Rectangle 2083"/>
          <p:cNvSpPr/>
          <p:nvPr/>
        </p:nvSpPr>
        <p:spPr>
          <a:xfrm>
            <a:off x="2299680" y="6048360"/>
            <a:ext cx="731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gr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Line 2084"/>
          <p:cNvSpPr/>
          <p:nvPr/>
        </p:nvSpPr>
        <p:spPr>
          <a:xfrm>
            <a:off x="2655720" y="5432400"/>
            <a:ext cx="0" cy="482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Rectangle 2085"/>
          <p:cNvSpPr/>
          <p:nvPr/>
        </p:nvSpPr>
        <p:spPr>
          <a:xfrm>
            <a:off x="3470400" y="4927680"/>
            <a:ext cx="1057320" cy="49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Rectangle 2086"/>
          <p:cNvSpPr/>
          <p:nvPr/>
        </p:nvSpPr>
        <p:spPr>
          <a:xfrm>
            <a:off x="3651840" y="4957920"/>
            <a:ext cx="722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Rectangle 2087"/>
          <p:cNvSpPr/>
          <p:nvPr/>
        </p:nvSpPr>
        <p:spPr>
          <a:xfrm>
            <a:off x="5056200" y="4898880"/>
            <a:ext cx="1057320" cy="49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Rectangle 2088"/>
          <p:cNvSpPr/>
          <p:nvPr/>
        </p:nvSpPr>
        <p:spPr>
          <a:xfrm>
            <a:off x="5082480" y="4929120"/>
            <a:ext cx="10364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voriteCol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Line 2089"/>
          <p:cNvSpPr/>
          <p:nvPr/>
        </p:nvSpPr>
        <p:spPr>
          <a:xfrm>
            <a:off x="3975120" y="4667400"/>
            <a:ext cx="1609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Line 2090"/>
          <p:cNvSpPr/>
          <p:nvPr/>
        </p:nvSpPr>
        <p:spPr>
          <a:xfrm>
            <a:off x="3962520" y="4676760"/>
            <a:ext cx="0" cy="22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Line 2091"/>
          <p:cNvSpPr/>
          <p:nvPr/>
        </p:nvSpPr>
        <p:spPr>
          <a:xfrm>
            <a:off x="5586480" y="4660920"/>
            <a:ext cx="0" cy="22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Oval 2092"/>
          <p:cNvSpPr/>
          <p:nvPr/>
        </p:nvSpPr>
        <p:spPr>
          <a:xfrm>
            <a:off x="3540240" y="5929200"/>
            <a:ext cx="807840" cy="770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Line 2093"/>
          <p:cNvSpPr/>
          <p:nvPr/>
        </p:nvSpPr>
        <p:spPr>
          <a:xfrm>
            <a:off x="4727520" y="4441680"/>
            <a:ext cx="0" cy="235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Rectangle 2094"/>
          <p:cNvSpPr/>
          <p:nvPr/>
        </p:nvSpPr>
        <p:spPr>
          <a:xfrm>
            <a:off x="3667320" y="6049800"/>
            <a:ext cx="5533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v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Line 2095"/>
          <p:cNvSpPr/>
          <p:nvPr/>
        </p:nvSpPr>
        <p:spPr>
          <a:xfrm>
            <a:off x="3936960" y="5433840"/>
            <a:ext cx="0" cy="482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Oval 2096"/>
          <p:cNvSpPr/>
          <p:nvPr/>
        </p:nvSpPr>
        <p:spPr>
          <a:xfrm>
            <a:off x="5197320" y="5908680"/>
            <a:ext cx="808200" cy="770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Rectangle 2097"/>
          <p:cNvSpPr/>
          <p:nvPr/>
        </p:nvSpPr>
        <p:spPr>
          <a:xfrm>
            <a:off x="5242680" y="6029280"/>
            <a:ext cx="7239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b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Line 2098"/>
          <p:cNvSpPr/>
          <p:nvPr/>
        </p:nvSpPr>
        <p:spPr>
          <a:xfrm>
            <a:off x="5594400" y="5413320"/>
            <a:ext cx="0" cy="482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Rectangle 2099"/>
          <p:cNvSpPr/>
          <p:nvPr/>
        </p:nvSpPr>
        <p:spPr>
          <a:xfrm>
            <a:off x="6337440" y="4937040"/>
            <a:ext cx="1056960" cy="49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Rectangle 2100"/>
          <p:cNvSpPr/>
          <p:nvPr/>
        </p:nvSpPr>
        <p:spPr>
          <a:xfrm>
            <a:off x="6518880" y="4967280"/>
            <a:ext cx="722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Rectangle 2101"/>
          <p:cNvSpPr/>
          <p:nvPr/>
        </p:nvSpPr>
        <p:spPr>
          <a:xfrm>
            <a:off x="7923240" y="4908600"/>
            <a:ext cx="1057320" cy="49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Rectangle 2102"/>
          <p:cNvSpPr/>
          <p:nvPr/>
        </p:nvSpPr>
        <p:spPr>
          <a:xfrm>
            <a:off x="7949160" y="4938840"/>
            <a:ext cx="10364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voriteCol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Line 2103"/>
          <p:cNvSpPr/>
          <p:nvPr/>
        </p:nvSpPr>
        <p:spPr>
          <a:xfrm>
            <a:off x="6842160" y="4676760"/>
            <a:ext cx="1609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Line 2104"/>
          <p:cNvSpPr/>
          <p:nvPr/>
        </p:nvSpPr>
        <p:spPr>
          <a:xfrm>
            <a:off x="6829560" y="4686480"/>
            <a:ext cx="0" cy="22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Line 2105"/>
          <p:cNvSpPr/>
          <p:nvPr/>
        </p:nvSpPr>
        <p:spPr>
          <a:xfrm>
            <a:off x="8453520" y="4670280"/>
            <a:ext cx="0" cy="222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Oval 2106"/>
          <p:cNvSpPr/>
          <p:nvPr/>
        </p:nvSpPr>
        <p:spPr>
          <a:xfrm>
            <a:off x="6407280" y="5938920"/>
            <a:ext cx="807840" cy="769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Line 2107"/>
          <p:cNvSpPr/>
          <p:nvPr/>
        </p:nvSpPr>
        <p:spPr>
          <a:xfrm>
            <a:off x="7594560" y="4451400"/>
            <a:ext cx="0" cy="235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Rectangle 2108"/>
          <p:cNvSpPr/>
          <p:nvPr/>
        </p:nvSpPr>
        <p:spPr>
          <a:xfrm>
            <a:off x="6534360" y="6059520"/>
            <a:ext cx="5533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Line 2109"/>
          <p:cNvSpPr/>
          <p:nvPr/>
        </p:nvSpPr>
        <p:spPr>
          <a:xfrm>
            <a:off x="6804000" y="5443560"/>
            <a:ext cx="0" cy="482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Oval 2110"/>
          <p:cNvSpPr/>
          <p:nvPr/>
        </p:nvSpPr>
        <p:spPr>
          <a:xfrm>
            <a:off x="8064360" y="5918040"/>
            <a:ext cx="808200" cy="770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Rectangle 2111"/>
          <p:cNvSpPr/>
          <p:nvPr/>
        </p:nvSpPr>
        <p:spPr>
          <a:xfrm>
            <a:off x="8035200" y="6039000"/>
            <a:ext cx="876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yel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Line 2112"/>
          <p:cNvSpPr/>
          <p:nvPr/>
        </p:nvSpPr>
        <p:spPr>
          <a:xfrm>
            <a:off x="8461440" y="5423040"/>
            <a:ext cx="0" cy="482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Text Box 66"/>
          <p:cNvSpPr/>
          <p:nvPr/>
        </p:nvSpPr>
        <p:spPr>
          <a:xfrm>
            <a:off x="2390760" y="3882960"/>
            <a:ext cx="1184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Times New Roman"/>
              </a:rPr>
              <a:t>It has no preceding-sibl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Here are th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apabilities of XPath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Path provides a syntax for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vigating around an XML docu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ing nodes and valu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ing node val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forming arithmetic on node val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Path provides some functions (e.g., concat(), substring(), etc.) to facilitate the abo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AutoShape 2051"/>
          <p:cNvSpPr/>
          <p:nvPr/>
        </p:nvSpPr>
        <p:spPr>
          <a:xfrm>
            <a:off x="3017880" y="1498680"/>
            <a:ext cx="1130400" cy="901800"/>
          </a:xfrm>
          <a:custGeom>
            <a:avLst/>
            <a:gdLst/>
            <a:ahLst/>
            <a:rect l="l" t="t" r="r" b="b"/>
            <a:pathLst>
              <a:path w="1130300" h="901700">
                <a:moveTo>
                  <a:pt x="1" y="344418"/>
                </a:moveTo>
                <a:lnTo>
                  <a:pt x="431739" y="344420"/>
                </a:lnTo>
                <a:lnTo>
                  <a:pt x="565150" y="0"/>
                </a:lnTo>
                <a:lnTo>
                  <a:pt x="698561" y="344420"/>
                </a:lnTo>
                <a:lnTo>
                  <a:pt x="1130299" y="344418"/>
                </a:lnTo>
                <a:lnTo>
                  <a:pt x="781014" y="557279"/>
                </a:lnTo>
                <a:lnTo>
                  <a:pt x="914431" y="901698"/>
                </a:lnTo>
                <a:lnTo>
                  <a:pt x="565150" y="688833"/>
                </a:lnTo>
                <a:lnTo>
                  <a:pt x="215869" y="901698"/>
                </a:lnTo>
                <a:lnTo>
                  <a:pt x="349286" y="557279"/>
                </a:lnTo>
                <a:lnTo>
                  <a:pt x="1" y="344418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Rectangle 2052"/>
          <p:cNvSpPr/>
          <p:nvPr/>
        </p:nvSpPr>
        <p:spPr>
          <a:xfrm>
            <a:off x="3187800" y="1806480"/>
            <a:ext cx="84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ocu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AutoShape 2053"/>
          <p:cNvSpPr/>
          <p:nvPr/>
        </p:nvSpPr>
        <p:spPr>
          <a:xfrm>
            <a:off x="136440" y="2787480"/>
            <a:ext cx="1735200" cy="6400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Rectangle 2054"/>
          <p:cNvSpPr/>
          <p:nvPr/>
        </p:nvSpPr>
        <p:spPr>
          <a:xfrm>
            <a:off x="222840" y="2806560"/>
            <a:ext cx="1620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?xml version=“1.0”?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Rectangle 2055"/>
          <p:cNvSpPr/>
          <p:nvPr/>
        </p:nvSpPr>
        <p:spPr>
          <a:xfrm>
            <a:off x="6176880" y="2803680"/>
            <a:ext cx="1057320" cy="495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Rectangle 2056"/>
          <p:cNvSpPr/>
          <p:nvPr/>
        </p:nvSpPr>
        <p:spPr>
          <a:xfrm>
            <a:off x="6216840" y="2833560"/>
            <a:ext cx="8154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cu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2057"/>
          <p:cNvSpPr/>
          <p:nvPr/>
        </p:nvSpPr>
        <p:spPr>
          <a:xfrm>
            <a:off x="1285920" y="3959280"/>
            <a:ext cx="1057320" cy="49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58"/>
          <p:cNvSpPr/>
          <p:nvPr/>
        </p:nvSpPr>
        <p:spPr>
          <a:xfrm>
            <a:off x="1470600" y="3989520"/>
            <a:ext cx="722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2059"/>
          <p:cNvSpPr/>
          <p:nvPr/>
        </p:nvSpPr>
        <p:spPr>
          <a:xfrm>
            <a:off x="4197240" y="3932280"/>
            <a:ext cx="1057320" cy="49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2060"/>
          <p:cNvSpPr/>
          <p:nvPr/>
        </p:nvSpPr>
        <p:spPr>
          <a:xfrm>
            <a:off x="4381920" y="3962520"/>
            <a:ext cx="722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61"/>
          <p:cNvSpPr/>
          <p:nvPr/>
        </p:nvSpPr>
        <p:spPr>
          <a:xfrm>
            <a:off x="7002360" y="3941640"/>
            <a:ext cx="1057320" cy="49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Rectangle 2062"/>
          <p:cNvSpPr/>
          <p:nvPr/>
        </p:nvSpPr>
        <p:spPr>
          <a:xfrm>
            <a:off x="7187040" y="3971880"/>
            <a:ext cx="722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Line 2063"/>
          <p:cNvSpPr/>
          <p:nvPr/>
        </p:nvSpPr>
        <p:spPr>
          <a:xfrm>
            <a:off x="1020600" y="2235240"/>
            <a:ext cx="5664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Line 2064"/>
          <p:cNvSpPr/>
          <p:nvPr/>
        </p:nvSpPr>
        <p:spPr>
          <a:xfrm>
            <a:off x="1014480" y="2241720"/>
            <a:ext cx="0" cy="522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Line 2065"/>
          <p:cNvSpPr/>
          <p:nvPr/>
        </p:nvSpPr>
        <p:spPr>
          <a:xfrm>
            <a:off x="6702480" y="2254320"/>
            <a:ext cx="0" cy="522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Line 2066"/>
          <p:cNvSpPr/>
          <p:nvPr/>
        </p:nvSpPr>
        <p:spPr>
          <a:xfrm>
            <a:off x="1790640" y="3618000"/>
            <a:ext cx="57578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Line 2067"/>
          <p:cNvSpPr/>
          <p:nvPr/>
        </p:nvSpPr>
        <p:spPr>
          <a:xfrm>
            <a:off x="1817640" y="3637080"/>
            <a:ext cx="0" cy="29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Line 2068"/>
          <p:cNvSpPr/>
          <p:nvPr/>
        </p:nvSpPr>
        <p:spPr>
          <a:xfrm>
            <a:off x="4722840" y="3619440"/>
            <a:ext cx="0" cy="30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Line 2069"/>
          <p:cNvSpPr/>
          <p:nvPr/>
        </p:nvSpPr>
        <p:spPr>
          <a:xfrm>
            <a:off x="7531200" y="3632040"/>
            <a:ext cx="0" cy="30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Oval 2077"/>
          <p:cNvSpPr/>
          <p:nvPr/>
        </p:nvSpPr>
        <p:spPr>
          <a:xfrm>
            <a:off x="1371600" y="4670280"/>
            <a:ext cx="808200" cy="770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if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Line 2078"/>
          <p:cNvSpPr/>
          <p:nvPr/>
        </p:nvSpPr>
        <p:spPr>
          <a:xfrm>
            <a:off x="1789200" y="4460760"/>
            <a:ext cx="0" cy="235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Line 2079"/>
          <p:cNvSpPr/>
          <p:nvPr/>
        </p:nvSpPr>
        <p:spPr>
          <a:xfrm>
            <a:off x="6729480" y="3311640"/>
            <a:ext cx="0" cy="312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Oval 2092"/>
          <p:cNvSpPr/>
          <p:nvPr/>
        </p:nvSpPr>
        <p:spPr>
          <a:xfrm>
            <a:off x="4352760" y="4695840"/>
            <a:ext cx="808200" cy="770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Line 2093"/>
          <p:cNvSpPr/>
          <p:nvPr/>
        </p:nvSpPr>
        <p:spPr>
          <a:xfrm>
            <a:off x="4727520" y="4441680"/>
            <a:ext cx="0" cy="235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Rectangle 2094"/>
          <p:cNvSpPr/>
          <p:nvPr/>
        </p:nvSpPr>
        <p:spPr>
          <a:xfrm>
            <a:off x="4410720" y="4816440"/>
            <a:ext cx="722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I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Oval 2106"/>
          <p:cNvSpPr/>
          <p:nvPr/>
        </p:nvSpPr>
        <p:spPr>
          <a:xfrm>
            <a:off x="7219800" y="4691160"/>
            <a:ext cx="808200" cy="769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Line 2107"/>
          <p:cNvSpPr/>
          <p:nvPr/>
        </p:nvSpPr>
        <p:spPr>
          <a:xfrm>
            <a:off x="7594560" y="4451400"/>
            <a:ext cx="0" cy="235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Rectangle 2108"/>
          <p:cNvSpPr/>
          <p:nvPr/>
        </p:nvSpPr>
        <p:spPr>
          <a:xfrm>
            <a:off x="7249320" y="4811760"/>
            <a:ext cx="7272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Rectangle 2115"/>
          <p:cNvSpPr/>
          <p:nvPr/>
        </p:nvSpPr>
        <p:spPr>
          <a:xfrm>
            <a:off x="6480000" y="57240"/>
            <a:ext cx="2264040" cy="1797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?xml version="1.0"?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ocument classification="secret"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Para classification="unclassified"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One if by land, two if by sea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/Para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Para classification="confidential"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nd I on the opposite shore will be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Ready to ride and spread the alar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/Para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Para classification="unclassified"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Ready to ride and spread the alar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Through every Middlesex, village and farm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/Para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/Document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Line 2116"/>
          <p:cNvSpPr/>
          <p:nvPr/>
        </p:nvSpPr>
        <p:spPr>
          <a:xfrm flipH="1">
            <a:off x="5670720" y="563400"/>
            <a:ext cx="707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Text Box 2117"/>
          <p:cNvSpPr/>
          <p:nvPr/>
        </p:nvSpPr>
        <p:spPr>
          <a:xfrm>
            <a:off x="3794760" y="414360"/>
            <a:ext cx="2463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XML document can 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esented as a tree, as shown be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TextBox 69"/>
          <p:cNvSpPr/>
          <p:nvPr/>
        </p:nvSpPr>
        <p:spPr>
          <a:xfrm>
            <a:off x="7213680" y="3106800"/>
            <a:ext cx="1557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rib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ication=“secret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TextBox 70"/>
          <p:cNvSpPr/>
          <p:nvPr/>
        </p:nvSpPr>
        <p:spPr>
          <a:xfrm>
            <a:off x="2301840" y="4289400"/>
            <a:ext cx="193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rib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ication=“unclassified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TextBox 71"/>
          <p:cNvSpPr/>
          <p:nvPr/>
        </p:nvSpPr>
        <p:spPr>
          <a:xfrm>
            <a:off x="5205960" y="4259160"/>
            <a:ext cx="193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rib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ication=“confidential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TextBox 72"/>
          <p:cNvSpPr/>
          <p:nvPr/>
        </p:nvSpPr>
        <p:spPr>
          <a:xfrm>
            <a:off x="8005680" y="4289400"/>
            <a:ext cx="193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rib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ication=“unclassified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Text Box 37"/>
          <p:cNvSpPr/>
          <p:nvPr/>
        </p:nvSpPr>
        <p:spPr>
          <a:xfrm>
            <a:off x="4447440" y="6035760"/>
            <a:ext cx="44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e document.xml in the xp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lder, within the examples fold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Execute XPath using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Oxygen XML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65" name="Picture 4" descr=""/>
          <p:cNvPicPr/>
          <p:nvPr/>
        </p:nvPicPr>
        <p:blipFill>
          <a:blip r:embed="rId1"/>
          <a:srcRect l="0" t="0" r="30522" b="54494"/>
          <a:stretch/>
        </p:blipFill>
        <p:spPr>
          <a:xfrm>
            <a:off x="399960" y="2278080"/>
            <a:ext cx="8471160" cy="4438800"/>
          </a:xfrm>
          <a:prstGeom prst="rect">
            <a:avLst/>
          </a:prstGeom>
          <a:ln w="0">
            <a:noFill/>
          </a:ln>
        </p:spPr>
      </p:pic>
      <p:sp>
        <p:nvSpPr>
          <p:cNvPr id="766" name="Line 5"/>
          <p:cNvSpPr/>
          <p:nvPr/>
        </p:nvSpPr>
        <p:spPr>
          <a:xfrm flipH="1" flipV="1">
            <a:off x="2879280" y="3322800"/>
            <a:ext cx="1320840" cy="1303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Text Box 6"/>
          <p:cNvSpPr/>
          <p:nvPr/>
        </p:nvSpPr>
        <p:spPr>
          <a:xfrm>
            <a:off x="4250880" y="4481640"/>
            <a:ext cx="289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ype your XPath expression 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Line 7"/>
          <p:cNvSpPr/>
          <p:nvPr/>
        </p:nvSpPr>
        <p:spPr>
          <a:xfrm flipH="1" flipV="1">
            <a:off x="923760" y="3268800"/>
            <a:ext cx="3068640" cy="2009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Text Box 8"/>
          <p:cNvSpPr/>
          <p:nvPr/>
        </p:nvSpPr>
        <p:spPr>
          <a:xfrm>
            <a:off x="3998520" y="5145120"/>
            <a:ext cx="22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this to XPath 1.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0" name="Picture 4" descr=""/>
          <p:cNvPicPr/>
          <p:nvPr/>
        </p:nvPicPr>
        <p:blipFill>
          <a:blip r:embed="rId1"/>
          <a:srcRect l="0" t="0" r="47905" b="37875"/>
          <a:stretch/>
        </p:blipFill>
        <p:spPr>
          <a:xfrm>
            <a:off x="1077840" y="334800"/>
            <a:ext cx="6351840" cy="6059520"/>
          </a:xfrm>
          <a:prstGeom prst="rect">
            <a:avLst/>
          </a:prstGeom>
          <a:ln w="0">
            <a:noFill/>
          </a:ln>
        </p:spPr>
      </p:pic>
      <p:sp>
        <p:nvSpPr>
          <p:cNvPr id="771" name="Line 5"/>
          <p:cNvSpPr/>
          <p:nvPr/>
        </p:nvSpPr>
        <p:spPr>
          <a:xfrm flipH="1">
            <a:off x="6192360" y="5730840"/>
            <a:ext cx="1086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Text Box 6"/>
          <p:cNvSpPr/>
          <p:nvPr/>
        </p:nvSpPr>
        <p:spPr>
          <a:xfrm>
            <a:off x="7280280" y="5557680"/>
            <a:ext cx="171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se XPath Buil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 long X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press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lease Run th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XPath Expression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following slides contain XPath express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's important that you copy the expression on the slide and paste it into Oxygen XML to see what the expression do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, copy the XML document on slide 16, save it to a file, then drag and drop the file into Oxygen XM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Objectiv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ML Schema 1.1 uses XPath a lot, so if you don't know XPath then you're at a disadvanta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urpose of this short tutorial is to teach you enough XPath that you won't be at a disadvantage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Select all Para Element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6" name="TextBox 3"/>
          <p:cNvSpPr/>
          <p:nvPr/>
        </p:nvSpPr>
        <p:spPr>
          <a:xfrm>
            <a:off x="3491640" y="2975040"/>
            <a:ext cx="21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Document/Pa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TextBox 3"/>
          <p:cNvSpPr/>
          <p:nvPr/>
        </p:nvSpPr>
        <p:spPr>
          <a:xfrm>
            <a:off x="3491640" y="2975040"/>
            <a:ext cx="21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Document/Pa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TextBox 4"/>
          <p:cNvSpPr/>
          <p:nvPr/>
        </p:nvSpPr>
        <p:spPr>
          <a:xfrm>
            <a:off x="2920680" y="3948120"/>
            <a:ext cx="394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is an absolute XPath exp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AutoShape 4"/>
          <p:cNvSpPr/>
          <p:nvPr/>
        </p:nvSpPr>
        <p:spPr>
          <a:xfrm rot="16200000">
            <a:off x="4382280" y="2570400"/>
            <a:ext cx="314280" cy="2071800"/>
          </a:xfrm>
          <a:custGeom>
            <a:avLst/>
            <a:gdLst>
              <a:gd name="textAreaLeft" fmla="*/ 200880 w 314280"/>
              <a:gd name="textAreaRight" fmla="*/ 314640 w 314280"/>
              <a:gd name="textAreaTop" fmla="*/ 54000 h 2071800"/>
              <a:gd name="textAreaBottom" fmla="*/ 2017800 h 2071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Establish a Context Nod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81" name="Picture 5" descr=""/>
          <p:cNvPicPr/>
          <p:nvPr/>
        </p:nvPicPr>
        <p:blipFill>
          <a:blip r:embed="rId1"/>
          <a:srcRect l="0" t="0" r="33554" b="51888"/>
          <a:stretch/>
        </p:blipFill>
        <p:spPr>
          <a:xfrm>
            <a:off x="484200" y="1727280"/>
            <a:ext cx="8101080" cy="4692600"/>
          </a:xfrm>
          <a:prstGeom prst="rect">
            <a:avLst/>
          </a:prstGeom>
          <a:ln w="0">
            <a:noFill/>
          </a:ln>
        </p:spPr>
      </p:pic>
      <p:sp>
        <p:nvSpPr>
          <p:cNvPr id="782" name="Line 6"/>
          <p:cNvSpPr/>
          <p:nvPr/>
        </p:nvSpPr>
        <p:spPr>
          <a:xfrm flipH="1" flipV="1">
            <a:off x="1657440" y="3322800"/>
            <a:ext cx="2489040" cy="877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7"/>
          <p:cNvSpPr/>
          <p:nvPr/>
        </p:nvSpPr>
        <p:spPr>
          <a:xfrm>
            <a:off x="4165560" y="4051440"/>
            <a:ext cx="4132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on this to establish it as the "context node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any XPath expressions will be relative to i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Relative XPath Expression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5" name="TextBox 3"/>
          <p:cNvSpPr/>
          <p:nvPr/>
        </p:nvSpPr>
        <p:spPr>
          <a:xfrm>
            <a:off x="2311560" y="2859120"/>
            <a:ext cx="4484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Oxygen XML click on &lt;Document&gt; 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tablish the “context node” and then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in the XPath box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Select all Para Element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7" name="TextBox 4"/>
          <p:cNvSpPr/>
          <p:nvPr/>
        </p:nvSpPr>
        <p:spPr>
          <a:xfrm>
            <a:off x="3486960" y="2975040"/>
            <a:ext cx="89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/Pa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8" name="Straight Arrow Connector 6"/>
          <p:cNvCxnSpPr/>
          <p:nvPr/>
        </p:nvCxnSpPr>
        <p:spPr>
          <a:xfrm flipH="1" flipV="1">
            <a:off x="3628440" y="3425040"/>
            <a:ext cx="14760" cy="523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89" name="TextBox 7"/>
          <p:cNvSpPr/>
          <p:nvPr/>
        </p:nvSpPr>
        <p:spPr>
          <a:xfrm>
            <a:off x="3488040" y="393372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cend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Select the first Para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1" name="TextBox 4"/>
          <p:cNvSpPr/>
          <p:nvPr/>
        </p:nvSpPr>
        <p:spPr>
          <a:xfrm>
            <a:off x="3487680" y="2975040"/>
            <a:ext cx="125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/Para[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Select the last Para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3" name="TextBox 4"/>
          <p:cNvSpPr/>
          <p:nvPr/>
        </p:nvSpPr>
        <p:spPr>
          <a:xfrm>
            <a:off x="3488400" y="2975040"/>
            <a:ext cx="17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/Para[last(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Select the classification attribute of the first Para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5" name="TextBox 4"/>
          <p:cNvSpPr/>
          <p:nvPr/>
        </p:nvSpPr>
        <p:spPr>
          <a:xfrm>
            <a:off x="3187800" y="3076560"/>
            <a:ext cx="323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/Para[1]/@class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Is the Document element’s classification top-secret?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7" name="TextBox 4"/>
          <p:cNvSpPr/>
          <p:nvPr/>
        </p:nvSpPr>
        <p:spPr>
          <a:xfrm>
            <a:off x="2112120" y="2903400"/>
            <a:ext cx="515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Document/@classification = 'top-secre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Is the Document element’s classification top-secret or secret?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9" name="TextBox 4"/>
          <p:cNvSpPr/>
          <p:nvPr/>
        </p:nvSpPr>
        <p:spPr>
          <a:xfrm>
            <a:off x="2111400" y="2903400"/>
            <a:ext cx="576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/Document/@classification = 'top-secret') 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/Document/@classification='secret'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XPath is not a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standalone languag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2109600"/>
            <a:ext cx="7772400" cy="1083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Path requires a host language.  There are currently several XML languages that host XPat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4"/>
          <p:cNvSpPr/>
          <p:nvPr/>
        </p:nvSpPr>
        <p:spPr>
          <a:xfrm>
            <a:off x="3942360" y="2536920"/>
            <a:ext cx="119556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or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and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(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Logical Operator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Select all Para’s with a secret classification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3" name="TextBox 4"/>
          <p:cNvSpPr/>
          <p:nvPr/>
        </p:nvSpPr>
        <p:spPr>
          <a:xfrm>
            <a:off x="2113200" y="2903400"/>
            <a:ext cx="41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/Para[@classification = 'secret'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heck that no Para has a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top-secret classification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5" name="Rectangle 4"/>
          <p:cNvSpPr/>
          <p:nvPr/>
        </p:nvSpPr>
        <p:spPr>
          <a:xfrm>
            <a:off x="1958760" y="3200400"/>
            <a:ext cx="522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(//Para[@classification = 'top-secret'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Establish a New Context Nod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07" name="Picture 4" descr=""/>
          <p:cNvPicPr/>
          <p:nvPr/>
        </p:nvPicPr>
        <p:blipFill>
          <a:blip r:embed="rId1"/>
          <a:srcRect l="0" t="0" r="32007" b="43996"/>
          <a:stretch/>
        </p:blipFill>
        <p:spPr>
          <a:xfrm>
            <a:off x="393840" y="1247760"/>
            <a:ext cx="8289720" cy="5462640"/>
          </a:xfrm>
          <a:prstGeom prst="rect">
            <a:avLst/>
          </a:prstGeom>
          <a:ln w="0">
            <a:noFill/>
          </a:ln>
        </p:spPr>
      </p:pic>
      <p:sp>
        <p:nvSpPr>
          <p:cNvPr id="808" name="Line 5"/>
          <p:cNvSpPr/>
          <p:nvPr/>
        </p:nvSpPr>
        <p:spPr>
          <a:xfrm flipH="1" flipV="1">
            <a:off x="1412640" y="3476520"/>
            <a:ext cx="251604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Text Box 6"/>
          <p:cNvSpPr/>
          <p:nvPr/>
        </p:nvSpPr>
        <p:spPr>
          <a:xfrm>
            <a:off x="3965400" y="3835440"/>
            <a:ext cx="336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 the second Para the context n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elect the Following Sibling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1" name="Rectangle 4"/>
          <p:cNvSpPr/>
          <p:nvPr/>
        </p:nvSpPr>
        <p:spPr>
          <a:xfrm>
            <a:off x="3259440" y="3200400"/>
            <a:ext cx="262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llowing-sibling::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elect the Firs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Following Sibling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3" name="Rectangle 4"/>
          <p:cNvSpPr/>
          <p:nvPr/>
        </p:nvSpPr>
        <p:spPr>
          <a:xfrm>
            <a:off x="3081240" y="3200400"/>
            <a:ext cx="29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llowing-sibling::*[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Add Another Elemen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15" name="Picture 4" descr=""/>
          <p:cNvPicPr/>
          <p:nvPr/>
        </p:nvPicPr>
        <p:blipFill>
          <a:blip r:embed="rId1"/>
          <a:srcRect l="0" t="0" r="35340" b="54299"/>
          <a:stretch/>
        </p:blipFill>
        <p:spPr>
          <a:xfrm>
            <a:off x="741240" y="2246400"/>
            <a:ext cx="7883640" cy="4457520"/>
          </a:xfrm>
          <a:prstGeom prst="rect">
            <a:avLst/>
          </a:prstGeom>
          <a:ln w="0">
            <a:noFill/>
          </a:ln>
        </p:spPr>
      </p:pic>
      <p:sp>
        <p:nvSpPr>
          <p:cNvPr id="816" name="Line 5"/>
          <p:cNvSpPr/>
          <p:nvPr/>
        </p:nvSpPr>
        <p:spPr>
          <a:xfrm flipH="1">
            <a:off x="2869920" y="6048360"/>
            <a:ext cx="1058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Text Box 6"/>
          <p:cNvSpPr/>
          <p:nvPr/>
        </p:nvSpPr>
        <p:spPr>
          <a:xfrm>
            <a:off x="3902400" y="5850000"/>
            <a:ext cx="365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dd this &lt;Test&gt; element after the last Pa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elect the Following </a:t>
            </a:r>
            <a:br>
              <a:rPr sz="4000"/>
            </a:br>
            <a:r>
              <a:rPr b="0" lang="en-US" sz="4000" spc="-1" strike="noStrike" u="sng">
                <a:solidFill>
                  <a:srgbClr val="000000"/>
                </a:solidFill>
                <a:uFillTx/>
                <a:latin typeface="Verdana"/>
              </a:rPr>
              <a:t>Para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Sibling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9" name="Rectangle 5"/>
          <p:cNvSpPr/>
          <p:nvPr/>
        </p:nvSpPr>
        <p:spPr>
          <a:xfrm>
            <a:off x="3258720" y="3200400"/>
            <a:ext cx="301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llowing-sibling::Pa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elect all Following Sibling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1" name="Rectangle 5"/>
          <p:cNvSpPr/>
          <p:nvPr/>
        </p:nvSpPr>
        <p:spPr>
          <a:xfrm>
            <a:off x="3259440" y="3200400"/>
            <a:ext cx="262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llowing-sibling::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Rectangle 4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elect all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Verdana"/>
              </a:rPr>
              <a:t>Preceding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Sibling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5"/>
          <p:cNvSpPr/>
          <p:nvPr/>
        </p:nvSpPr>
        <p:spPr>
          <a:xfrm>
            <a:off x="3259080" y="3200400"/>
            <a:ext cx="26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ceding-sibling::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XPath is not a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tandalone languag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Oval 5"/>
          <p:cNvSpPr/>
          <p:nvPr/>
        </p:nvSpPr>
        <p:spPr>
          <a:xfrm>
            <a:off x="3706920" y="3278160"/>
            <a:ext cx="1197000" cy="808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Pa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Oval 6"/>
          <p:cNvSpPr/>
          <p:nvPr/>
        </p:nvSpPr>
        <p:spPr>
          <a:xfrm>
            <a:off x="1452600" y="2203560"/>
            <a:ext cx="1197000" cy="8078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S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Oval 7"/>
          <p:cNvSpPr/>
          <p:nvPr/>
        </p:nvSpPr>
        <p:spPr>
          <a:xfrm>
            <a:off x="1452600" y="4371840"/>
            <a:ext cx="1197000" cy="808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Qu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Oval 8"/>
          <p:cNvSpPr/>
          <p:nvPr/>
        </p:nvSpPr>
        <p:spPr>
          <a:xfrm>
            <a:off x="5897520" y="2192400"/>
            <a:ext cx="1197000" cy="8078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Oval 9"/>
          <p:cNvSpPr/>
          <p:nvPr/>
        </p:nvSpPr>
        <p:spPr>
          <a:xfrm>
            <a:off x="5896080" y="4383000"/>
            <a:ext cx="1197000" cy="808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Poi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0"/>
          <p:cNvSpPr/>
          <p:nvPr/>
        </p:nvSpPr>
        <p:spPr>
          <a:xfrm flipH="1" flipV="1">
            <a:off x="2583000" y="2835000"/>
            <a:ext cx="1241280" cy="59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1"/>
          <p:cNvSpPr/>
          <p:nvPr/>
        </p:nvSpPr>
        <p:spPr>
          <a:xfrm flipH="1">
            <a:off x="2583000" y="3946680"/>
            <a:ext cx="1241280" cy="620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2"/>
          <p:cNvSpPr/>
          <p:nvPr/>
        </p:nvSpPr>
        <p:spPr>
          <a:xfrm flipV="1">
            <a:off x="4776840" y="2762280"/>
            <a:ext cx="1168200" cy="665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ine 13"/>
          <p:cNvSpPr/>
          <p:nvPr/>
        </p:nvSpPr>
        <p:spPr>
          <a:xfrm>
            <a:off x="4848120" y="3844800"/>
            <a:ext cx="1155960" cy="708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Oval 14"/>
          <p:cNvSpPr/>
          <p:nvPr/>
        </p:nvSpPr>
        <p:spPr>
          <a:xfrm>
            <a:off x="3602160" y="5487840"/>
            <a:ext cx="1444680" cy="836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mat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5"/>
          <p:cNvSpPr/>
          <p:nvPr/>
        </p:nvSpPr>
        <p:spPr>
          <a:xfrm>
            <a:off x="4325760" y="4092480"/>
            <a:ext cx="0" cy="1393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Make Document the Contex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25" name="Picture 5" descr=""/>
          <p:cNvPicPr/>
          <p:nvPr/>
        </p:nvPicPr>
        <p:blipFill>
          <a:blip r:embed="rId1"/>
          <a:srcRect l="0" t="0" r="35795" b="54203"/>
          <a:stretch/>
        </p:blipFill>
        <p:spPr>
          <a:xfrm>
            <a:off x="763560" y="1828800"/>
            <a:ext cx="7827840" cy="4467240"/>
          </a:xfrm>
          <a:prstGeom prst="rect">
            <a:avLst/>
          </a:prstGeom>
          <a:ln w="0">
            <a:noFill/>
          </a:ln>
        </p:spPr>
      </p:pic>
      <p:sp>
        <p:nvSpPr>
          <p:cNvPr id="826" name="Line 6"/>
          <p:cNvSpPr/>
          <p:nvPr/>
        </p:nvSpPr>
        <p:spPr>
          <a:xfrm flipH="1" flipV="1">
            <a:off x="1928520" y="3430440"/>
            <a:ext cx="2235240" cy="571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Text Box 7"/>
          <p:cNvSpPr/>
          <p:nvPr/>
        </p:nvSpPr>
        <p:spPr>
          <a:xfrm>
            <a:off x="4137120" y="3835440"/>
            <a:ext cx="2931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on Document to make it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text nod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Equivalent!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9" name="Text Box 5"/>
          <p:cNvSpPr/>
          <p:nvPr/>
        </p:nvSpPr>
        <p:spPr>
          <a:xfrm>
            <a:off x="3482640" y="2816280"/>
            <a:ext cx="1861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[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ild::Para[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Make Para[2] the contex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31" name="Picture 5" descr=""/>
          <p:cNvPicPr/>
          <p:nvPr/>
        </p:nvPicPr>
        <p:blipFill>
          <a:blip r:embed="rId1"/>
          <a:srcRect l="0" t="0" r="32007" b="54317"/>
          <a:stretch/>
        </p:blipFill>
        <p:spPr>
          <a:xfrm>
            <a:off x="409680" y="1927080"/>
            <a:ext cx="8289720" cy="4456080"/>
          </a:xfrm>
          <a:prstGeom prst="rect">
            <a:avLst/>
          </a:prstGeom>
          <a:ln w="0">
            <a:noFill/>
          </a:ln>
        </p:spPr>
      </p:pic>
      <p:sp>
        <p:nvSpPr>
          <p:cNvPr id="832" name="Line 6"/>
          <p:cNvSpPr/>
          <p:nvPr/>
        </p:nvSpPr>
        <p:spPr>
          <a:xfrm flipH="1" flipV="1">
            <a:off x="1456920" y="4146480"/>
            <a:ext cx="2055960" cy="317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Text Box 7"/>
          <p:cNvSpPr/>
          <p:nvPr/>
        </p:nvSpPr>
        <p:spPr>
          <a:xfrm>
            <a:off x="3526920" y="4292640"/>
            <a:ext cx="293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stablish this as the context nod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Get parent element's classificatio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5" name="Text Box 4"/>
          <p:cNvSpPr/>
          <p:nvPr/>
        </p:nvSpPr>
        <p:spPr>
          <a:xfrm>
            <a:off x="3105360" y="3174840"/>
            <a:ext cx="231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/@class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Equivalent!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7" name="Text Box 4"/>
          <p:cNvSpPr/>
          <p:nvPr/>
        </p:nvSpPr>
        <p:spPr>
          <a:xfrm>
            <a:off x="3102480" y="3174840"/>
            <a:ext cx="3246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/@class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ent::*/@class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Axi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9" name="Text Box 4"/>
          <p:cNvSpPr/>
          <p:nvPr/>
        </p:nvSpPr>
        <p:spPr>
          <a:xfrm>
            <a:off x="3498120" y="2457360"/>
            <a:ext cx="2318760" cy="2654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llowing-sib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ceding-sib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i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ces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cen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ount the number 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Para element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1" name="TextBox 4"/>
          <p:cNvSpPr/>
          <p:nvPr/>
        </p:nvSpPr>
        <p:spPr>
          <a:xfrm>
            <a:off x="3475080" y="3005280"/>
            <a:ext cx="177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nt(//Par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ount the number of Para elements with secret classification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3" name="TextBox 4"/>
          <p:cNvSpPr/>
          <p:nvPr/>
        </p:nvSpPr>
        <p:spPr>
          <a:xfrm>
            <a:off x="2300760" y="3178080"/>
            <a:ext cx="502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nt(//Para[@classification = 'secret'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Does the first Para element contain the string “SCRIPT”?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5" name="TextBox 4"/>
          <p:cNvSpPr/>
          <p:nvPr/>
        </p:nvSpPr>
        <p:spPr>
          <a:xfrm>
            <a:off x="2306880" y="3178080"/>
            <a:ext cx="37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ains(//Para[1], 'SCRIPT'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Select all nodes containing the string “SCRIPT”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7" name="TextBox 4"/>
          <p:cNvSpPr/>
          <p:nvPr/>
        </p:nvSpPr>
        <p:spPr>
          <a:xfrm>
            <a:off x="2306880" y="2482920"/>
            <a:ext cx="394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/node()[contains(., 'SCRIPT'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TextBox 1"/>
          <p:cNvSpPr/>
          <p:nvPr/>
        </p:nvSpPr>
        <p:spPr>
          <a:xfrm>
            <a:off x="2217240" y="4133880"/>
            <a:ext cx="4757400" cy="2533320"/>
          </a:xfrm>
          <a:prstGeom prst="rect">
            <a:avLst/>
          </a:prstGeom>
          <a:noFill/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node() function matches on these nod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elem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com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processing instructions (PI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e that it does not match on these nod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attribu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docu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050"/>
          <p:cNvGrpSpPr/>
          <p:nvPr/>
        </p:nvGrpSpPr>
        <p:grpSpPr>
          <a:xfrm>
            <a:off x="136440" y="1498680"/>
            <a:ext cx="8849160" cy="5219640"/>
            <a:chOff x="136440" y="1498680"/>
            <a:chExt cx="8849160" cy="5219640"/>
          </a:xfrm>
        </p:grpSpPr>
        <p:sp>
          <p:nvSpPr>
            <p:cNvPr id="58" name="AutoShape 2051"/>
            <p:cNvSpPr/>
            <p:nvPr/>
          </p:nvSpPr>
          <p:spPr>
            <a:xfrm>
              <a:off x="3017520" y="1498680"/>
              <a:ext cx="1130400" cy="90180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0"/>
                  </a:moveTo>
                  <a:lnTo>
                    <a:pt x="3820" y="3820"/>
                  </a:lnTo>
                  <a:lnTo>
                    <a:pt x="5000" y="0"/>
                  </a:lnTo>
                  <a:lnTo>
                    <a:pt x="6180" y="3820"/>
                  </a:lnTo>
                  <a:lnTo>
                    <a:pt x="10000" y="3820"/>
                  </a:lnTo>
                  <a:lnTo>
                    <a:pt x="6910" y="6180"/>
                  </a:lnTo>
                  <a:lnTo>
                    <a:pt x="8090" y="10000"/>
                  </a:lnTo>
                  <a:lnTo>
                    <a:pt x="5000" y="7641"/>
                  </a:lnTo>
                  <a:lnTo>
                    <a:pt x="1910" y="10000"/>
                  </a:lnTo>
                  <a:lnTo>
                    <a:pt x="3090" y="6180"/>
                  </a:lnTo>
                  <a:lnTo>
                    <a:pt x="0" y="382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Rectangle 2052"/>
            <p:cNvSpPr/>
            <p:nvPr/>
          </p:nvSpPr>
          <p:spPr>
            <a:xfrm>
              <a:off x="3187440" y="1806480"/>
              <a:ext cx="84888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ocum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AutoShape 2053"/>
            <p:cNvSpPr/>
            <p:nvPr/>
          </p:nvSpPr>
          <p:spPr>
            <a:xfrm>
              <a:off x="136440" y="2787840"/>
              <a:ext cx="1735200" cy="639720"/>
            </a:xfrm>
            <a:prstGeom prst="diamond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Rectangle 2054"/>
            <p:cNvSpPr/>
            <p:nvPr/>
          </p:nvSpPr>
          <p:spPr>
            <a:xfrm>
              <a:off x="222480" y="2806560"/>
              <a:ext cx="162000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P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&lt;?xml version=“1.0”?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Rectangle 2055"/>
            <p:cNvSpPr/>
            <p:nvPr/>
          </p:nvSpPr>
          <p:spPr>
            <a:xfrm>
              <a:off x="6176880" y="2803680"/>
              <a:ext cx="1057320" cy="495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Rectangle 2056"/>
            <p:cNvSpPr/>
            <p:nvPr/>
          </p:nvSpPr>
          <p:spPr>
            <a:xfrm>
              <a:off x="6212160" y="2833560"/>
              <a:ext cx="101952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lem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tnessCent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Rectangle 2057"/>
            <p:cNvSpPr/>
            <p:nvPr/>
          </p:nvSpPr>
          <p:spPr>
            <a:xfrm>
              <a:off x="1285560" y="3959280"/>
              <a:ext cx="1057320" cy="495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Rectangle 2058"/>
            <p:cNvSpPr/>
            <p:nvPr/>
          </p:nvSpPr>
          <p:spPr>
            <a:xfrm>
              <a:off x="1467360" y="3989520"/>
              <a:ext cx="72252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lem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emb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Rectangle 2059"/>
            <p:cNvSpPr/>
            <p:nvPr/>
          </p:nvSpPr>
          <p:spPr>
            <a:xfrm>
              <a:off x="4197240" y="3932280"/>
              <a:ext cx="1057320" cy="495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Rectangle 2060"/>
            <p:cNvSpPr/>
            <p:nvPr/>
          </p:nvSpPr>
          <p:spPr>
            <a:xfrm>
              <a:off x="4378680" y="3962520"/>
              <a:ext cx="72252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lem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emb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Rectangle 2061"/>
            <p:cNvSpPr/>
            <p:nvPr/>
          </p:nvSpPr>
          <p:spPr>
            <a:xfrm>
              <a:off x="7002360" y="3941640"/>
              <a:ext cx="1057320" cy="495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Rectangle 2062"/>
            <p:cNvSpPr/>
            <p:nvPr/>
          </p:nvSpPr>
          <p:spPr>
            <a:xfrm>
              <a:off x="7183800" y="3971880"/>
              <a:ext cx="72252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lem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emb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Line 2063"/>
            <p:cNvSpPr/>
            <p:nvPr/>
          </p:nvSpPr>
          <p:spPr>
            <a:xfrm>
              <a:off x="1020600" y="2235240"/>
              <a:ext cx="566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Line 2064"/>
            <p:cNvSpPr/>
            <p:nvPr/>
          </p:nvSpPr>
          <p:spPr>
            <a:xfrm>
              <a:off x="1014120" y="2241720"/>
              <a:ext cx="0" cy="522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Line 2065"/>
            <p:cNvSpPr/>
            <p:nvPr/>
          </p:nvSpPr>
          <p:spPr>
            <a:xfrm>
              <a:off x="6702120" y="2254320"/>
              <a:ext cx="0" cy="52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Line 2066"/>
            <p:cNvSpPr/>
            <p:nvPr/>
          </p:nvSpPr>
          <p:spPr>
            <a:xfrm>
              <a:off x="1790640" y="3618000"/>
              <a:ext cx="5757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Line 2067"/>
            <p:cNvSpPr/>
            <p:nvPr/>
          </p:nvSpPr>
          <p:spPr>
            <a:xfrm>
              <a:off x="1817640" y="3637080"/>
              <a:ext cx="0" cy="299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Line 2068"/>
            <p:cNvSpPr/>
            <p:nvPr/>
          </p:nvSpPr>
          <p:spPr>
            <a:xfrm>
              <a:off x="4722480" y="3619440"/>
              <a:ext cx="0" cy="30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Line 2069"/>
            <p:cNvSpPr/>
            <p:nvPr/>
          </p:nvSpPr>
          <p:spPr>
            <a:xfrm>
              <a:off x="7530840" y="3632040"/>
              <a:ext cx="0" cy="30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Rectangle 2070"/>
            <p:cNvSpPr/>
            <p:nvPr/>
          </p:nvSpPr>
          <p:spPr>
            <a:xfrm>
              <a:off x="531720" y="4946760"/>
              <a:ext cx="1057320" cy="495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Rectangle 2071"/>
            <p:cNvSpPr/>
            <p:nvPr/>
          </p:nvSpPr>
          <p:spPr>
            <a:xfrm>
              <a:off x="713160" y="4977000"/>
              <a:ext cx="72252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lem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Rectangle 2072"/>
            <p:cNvSpPr/>
            <p:nvPr/>
          </p:nvSpPr>
          <p:spPr>
            <a:xfrm>
              <a:off x="2117520" y="4917960"/>
              <a:ext cx="1057320" cy="495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Rectangle 2073"/>
            <p:cNvSpPr/>
            <p:nvPr/>
          </p:nvSpPr>
          <p:spPr>
            <a:xfrm>
              <a:off x="2143800" y="4948200"/>
              <a:ext cx="103644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lem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avoriteCol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Line 2074"/>
            <p:cNvSpPr/>
            <p:nvPr/>
          </p:nvSpPr>
          <p:spPr>
            <a:xfrm>
              <a:off x="1036440" y="4686480"/>
              <a:ext cx="1609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Line 2075"/>
            <p:cNvSpPr/>
            <p:nvPr/>
          </p:nvSpPr>
          <p:spPr>
            <a:xfrm>
              <a:off x="1023840" y="4695840"/>
              <a:ext cx="0" cy="22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Line 2076"/>
            <p:cNvSpPr/>
            <p:nvPr/>
          </p:nvSpPr>
          <p:spPr>
            <a:xfrm>
              <a:off x="2647800" y="4680000"/>
              <a:ext cx="0" cy="22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Oval 2077"/>
            <p:cNvSpPr/>
            <p:nvPr/>
          </p:nvSpPr>
          <p:spPr>
            <a:xfrm>
              <a:off x="601560" y="5948280"/>
              <a:ext cx="807840" cy="770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Line 2078"/>
            <p:cNvSpPr/>
            <p:nvPr/>
          </p:nvSpPr>
          <p:spPr>
            <a:xfrm>
              <a:off x="1788840" y="4460760"/>
              <a:ext cx="0" cy="23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Line 2079"/>
            <p:cNvSpPr/>
            <p:nvPr/>
          </p:nvSpPr>
          <p:spPr>
            <a:xfrm>
              <a:off x="6729120" y="3311640"/>
              <a:ext cx="0" cy="312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Rectangle 2080"/>
            <p:cNvSpPr/>
            <p:nvPr/>
          </p:nvSpPr>
          <p:spPr>
            <a:xfrm>
              <a:off x="766800" y="6068880"/>
              <a:ext cx="47700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ex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Jef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Line 2081"/>
            <p:cNvSpPr/>
            <p:nvPr/>
          </p:nvSpPr>
          <p:spPr>
            <a:xfrm>
              <a:off x="998280" y="5452920"/>
              <a:ext cx="0" cy="482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Oval 2082"/>
            <p:cNvSpPr/>
            <p:nvPr/>
          </p:nvSpPr>
          <p:spPr>
            <a:xfrm>
              <a:off x="2259000" y="5927760"/>
              <a:ext cx="807840" cy="770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Rectangle 2083"/>
            <p:cNvSpPr/>
            <p:nvPr/>
          </p:nvSpPr>
          <p:spPr>
            <a:xfrm>
              <a:off x="2299320" y="6048360"/>
              <a:ext cx="73152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ex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lightgre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Line 2084"/>
            <p:cNvSpPr/>
            <p:nvPr/>
          </p:nvSpPr>
          <p:spPr>
            <a:xfrm>
              <a:off x="2655720" y="5432400"/>
              <a:ext cx="0" cy="482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Rectangle 2085"/>
            <p:cNvSpPr/>
            <p:nvPr/>
          </p:nvSpPr>
          <p:spPr>
            <a:xfrm>
              <a:off x="3470040" y="4927680"/>
              <a:ext cx="1057320" cy="495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Rectangle 2086"/>
            <p:cNvSpPr/>
            <p:nvPr/>
          </p:nvSpPr>
          <p:spPr>
            <a:xfrm>
              <a:off x="3651840" y="4957920"/>
              <a:ext cx="72252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lem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Rectangle 2087"/>
            <p:cNvSpPr/>
            <p:nvPr/>
          </p:nvSpPr>
          <p:spPr>
            <a:xfrm>
              <a:off x="5056200" y="4898880"/>
              <a:ext cx="1056960" cy="495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Rectangle 2088"/>
            <p:cNvSpPr/>
            <p:nvPr/>
          </p:nvSpPr>
          <p:spPr>
            <a:xfrm>
              <a:off x="5082120" y="4929120"/>
              <a:ext cx="103644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lem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avoriteCol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Line 2089"/>
            <p:cNvSpPr/>
            <p:nvPr/>
          </p:nvSpPr>
          <p:spPr>
            <a:xfrm>
              <a:off x="3975120" y="4667400"/>
              <a:ext cx="1609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Line 2090"/>
            <p:cNvSpPr/>
            <p:nvPr/>
          </p:nvSpPr>
          <p:spPr>
            <a:xfrm>
              <a:off x="3962160" y="4676760"/>
              <a:ext cx="0" cy="22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Line 2091"/>
            <p:cNvSpPr/>
            <p:nvPr/>
          </p:nvSpPr>
          <p:spPr>
            <a:xfrm>
              <a:off x="5586120" y="4660920"/>
              <a:ext cx="0" cy="22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Oval 2092"/>
            <p:cNvSpPr/>
            <p:nvPr/>
          </p:nvSpPr>
          <p:spPr>
            <a:xfrm>
              <a:off x="3539880" y="5929200"/>
              <a:ext cx="808200" cy="770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Line 2093"/>
            <p:cNvSpPr/>
            <p:nvPr/>
          </p:nvSpPr>
          <p:spPr>
            <a:xfrm>
              <a:off x="4727520" y="4441680"/>
              <a:ext cx="0" cy="23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Rectangle 2094"/>
            <p:cNvSpPr/>
            <p:nvPr/>
          </p:nvSpPr>
          <p:spPr>
            <a:xfrm>
              <a:off x="3667320" y="6050160"/>
              <a:ext cx="55332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ex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Davi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Line 2095"/>
            <p:cNvSpPr/>
            <p:nvPr/>
          </p:nvSpPr>
          <p:spPr>
            <a:xfrm>
              <a:off x="3936960" y="5434200"/>
              <a:ext cx="0" cy="48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Oval 2096"/>
            <p:cNvSpPr/>
            <p:nvPr/>
          </p:nvSpPr>
          <p:spPr>
            <a:xfrm>
              <a:off x="5197320" y="5908680"/>
              <a:ext cx="808200" cy="770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Rectangle 2097"/>
            <p:cNvSpPr/>
            <p:nvPr/>
          </p:nvSpPr>
          <p:spPr>
            <a:xfrm>
              <a:off x="5242320" y="6029280"/>
              <a:ext cx="72396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ex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lightblu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Line 2098"/>
            <p:cNvSpPr/>
            <p:nvPr/>
          </p:nvSpPr>
          <p:spPr>
            <a:xfrm>
              <a:off x="5594040" y="5413320"/>
              <a:ext cx="0" cy="482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Rectangle 2099"/>
            <p:cNvSpPr/>
            <p:nvPr/>
          </p:nvSpPr>
          <p:spPr>
            <a:xfrm>
              <a:off x="6337080" y="4937040"/>
              <a:ext cx="1057320" cy="495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Rectangle 2100"/>
            <p:cNvSpPr/>
            <p:nvPr/>
          </p:nvSpPr>
          <p:spPr>
            <a:xfrm>
              <a:off x="6518880" y="4967280"/>
              <a:ext cx="72252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lem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Rectangle 2101"/>
            <p:cNvSpPr/>
            <p:nvPr/>
          </p:nvSpPr>
          <p:spPr>
            <a:xfrm>
              <a:off x="7922880" y="4908600"/>
              <a:ext cx="1057320" cy="495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Rectangle 2102"/>
            <p:cNvSpPr/>
            <p:nvPr/>
          </p:nvSpPr>
          <p:spPr>
            <a:xfrm>
              <a:off x="7949160" y="4938840"/>
              <a:ext cx="103644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lem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avoriteCol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Line 2103"/>
            <p:cNvSpPr/>
            <p:nvPr/>
          </p:nvSpPr>
          <p:spPr>
            <a:xfrm>
              <a:off x="6841800" y="4676760"/>
              <a:ext cx="1609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Line 2104"/>
            <p:cNvSpPr/>
            <p:nvPr/>
          </p:nvSpPr>
          <p:spPr>
            <a:xfrm>
              <a:off x="6829200" y="4686480"/>
              <a:ext cx="0" cy="22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Line 2105"/>
            <p:cNvSpPr/>
            <p:nvPr/>
          </p:nvSpPr>
          <p:spPr>
            <a:xfrm>
              <a:off x="8453160" y="4670280"/>
              <a:ext cx="0" cy="222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Oval 2106"/>
            <p:cNvSpPr/>
            <p:nvPr/>
          </p:nvSpPr>
          <p:spPr>
            <a:xfrm>
              <a:off x="6406920" y="5938920"/>
              <a:ext cx="808200" cy="770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Line 2107"/>
            <p:cNvSpPr/>
            <p:nvPr/>
          </p:nvSpPr>
          <p:spPr>
            <a:xfrm>
              <a:off x="7594560" y="4451400"/>
              <a:ext cx="0" cy="23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Rectangle 2108"/>
            <p:cNvSpPr/>
            <p:nvPr/>
          </p:nvSpPr>
          <p:spPr>
            <a:xfrm>
              <a:off x="6534360" y="6059520"/>
              <a:ext cx="55332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ex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Rog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Line 2109"/>
            <p:cNvSpPr/>
            <p:nvPr/>
          </p:nvSpPr>
          <p:spPr>
            <a:xfrm>
              <a:off x="6804000" y="5443560"/>
              <a:ext cx="0" cy="482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Oval 2110"/>
            <p:cNvSpPr/>
            <p:nvPr/>
          </p:nvSpPr>
          <p:spPr>
            <a:xfrm>
              <a:off x="8064360" y="5918040"/>
              <a:ext cx="808200" cy="770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2111"/>
            <p:cNvSpPr/>
            <p:nvPr/>
          </p:nvSpPr>
          <p:spPr>
            <a:xfrm>
              <a:off x="8034840" y="6039000"/>
              <a:ext cx="87624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ex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lightyello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2112"/>
            <p:cNvSpPr/>
            <p:nvPr/>
          </p:nvSpPr>
          <p:spPr>
            <a:xfrm>
              <a:off x="8461080" y="5423040"/>
              <a:ext cx="0" cy="48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Rectangle 2115"/>
          <p:cNvSpPr/>
          <p:nvPr/>
        </p:nvSpPr>
        <p:spPr>
          <a:xfrm>
            <a:off x="6479640" y="57240"/>
            <a:ext cx="2274840" cy="1919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?xml version="1.0"?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FitnessCen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Memb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ame&gt;Jeff&lt;/Na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FavoriteColor&gt;lightgrey&lt;/FavoriteColo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/Memb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Memb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ame&gt;David&lt;/Na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FavoriteColor&gt;lightblue&lt;/FavoriteColo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/Memb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Memb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ame&gt;Roger&lt;/Na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FavoriteColor&gt;lightyellow&lt;/FavoriteColo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/Memb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/FitnessCen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2116"/>
          <p:cNvSpPr/>
          <p:nvPr/>
        </p:nvSpPr>
        <p:spPr>
          <a:xfrm flipH="1">
            <a:off x="5670720" y="563400"/>
            <a:ext cx="707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2117"/>
          <p:cNvSpPr/>
          <p:nvPr/>
        </p:nvSpPr>
        <p:spPr>
          <a:xfrm>
            <a:off x="3794760" y="414360"/>
            <a:ext cx="2463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XML document can 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esented as a tree, as shown be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ount the number of nodes containing the string “SCRIPT”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0" name="TextBox 4"/>
          <p:cNvSpPr/>
          <p:nvPr/>
        </p:nvSpPr>
        <p:spPr>
          <a:xfrm>
            <a:off x="2305440" y="3178080"/>
            <a:ext cx="482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nt(//node()[contains(., 'SCRIPT')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Select the first 20 characters of the first Para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2" name="TextBox 4"/>
          <p:cNvSpPr/>
          <p:nvPr/>
        </p:nvSpPr>
        <p:spPr>
          <a:xfrm>
            <a:off x="2741040" y="3149640"/>
            <a:ext cx="333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string(//Para[1], 1, 2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What's the length of the content of the first Para?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4" name="Text Box 4"/>
          <p:cNvSpPr/>
          <p:nvPr/>
        </p:nvSpPr>
        <p:spPr>
          <a:xfrm>
            <a:off x="2602440" y="3263760"/>
            <a:ext cx="301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ing-length(//Para[1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Rectangle 3"/>
          <p:cNvSpPr/>
          <p:nvPr/>
        </p:nvSpPr>
        <p:spPr>
          <a:xfrm>
            <a:off x="493560" y="3241800"/>
            <a:ext cx="857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nslate(/Document/@classification, 'ABCDEFGHIJKLMNOPQRSTUVWXYZ', 'abcdefghijklmnopqrstuvwxyz'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onvert Document’s classification to lowercas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Add a new &lt;Cost&gt; elemen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58" name="Picture 5" descr=""/>
          <p:cNvPicPr/>
          <p:nvPr/>
        </p:nvPicPr>
        <p:blipFill>
          <a:blip r:embed="rId1"/>
          <a:srcRect l="0" t="0" r="38688" b="53468"/>
          <a:stretch/>
        </p:blipFill>
        <p:spPr>
          <a:xfrm>
            <a:off x="777960" y="1871640"/>
            <a:ext cx="7475400" cy="4538520"/>
          </a:xfrm>
          <a:prstGeom prst="rect">
            <a:avLst/>
          </a:prstGeom>
          <a:ln w="0">
            <a:noFill/>
          </a:ln>
        </p:spPr>
      </p:pic>
      <p:sp>
        <p:nvSpPr>
          <p:cNvPr id="859" name="Line 6"/>
          <p:cNvSpPr/>
          <p:nvPr/>
        </p:nvSpPr>
        <p:spPr>
          <a:xfrm flipH="1" flipV="1">
            <a:off x="2454120" y="5838840"/>
            <a:ext cx="1990800" cy="46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Text Box 7"/>
          <p:cNvSpPr/>
          <p:nvPr/>
        </p:nvSpPr>
        <p:spPr>
          <a:xfrm>
            <a:off x="4476960" y="5621400"/>
            <a:ext cx="3952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this element and establi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cument as the context n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Multiply Cost by 2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2" name="Text Box 4"/>
          <p:cNvSpPr/>
          <p:nvPr/>
        </p:nvSpPr>
        <p:spPr>
          <a:xfrm>
            <a:off x="3682800" y="3147840"/>
            <a:ext cx="119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 *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N mod X = the remainder of dividing N by X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4" name="Text Box 4"/>
          <p:cNvSpPr/>
          <p:nvPr/>
        </p:nvSpPr>
        <p:spPr>
          <a:xfrm>
            <a:off x="3898080" y="329868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 mod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Arithmetic Operator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6" name="Text Box 4"/>
          <p:cNvSpPr/>
          <p:nvPr/>
        </p:nvSpPr>
        <p:spPr>
          <a:xfrm>
            <a:off x="2957760" y="3040200"/>
            <a:ext cx="3684240" cy="19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leave space on either si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7" name="Picture 4" descr=""/>
          <p:cNvPicPr/>
          <p:nvPr/>
        </p:nvPicPr>
        <p:blipFill>
          <a:blip r:embed="rId1"/>
          <a:srcRect l="0" t="0" r="33049" b="40563"/>
          <a:stretch/>
        </p:blipFill>
        <p:spPr>
          <a:xfrm>
            <a:off x="519120" y="515880"/>
            <a:ext cx="8163000" cy="5797440"/>
          </a:xfrm>
          <a:prstGeom prst="rect">
            <a:avLst/>
          </a:prstGeom>
          <a:ln w="0">
            <a:noFill/>
          </a:ln>
        </p:spPr>
      </p:pic>
      <p:sp>
        <p:nvSpPr>
          <p:cNvPr id="868" name="Line 5"/>
          <p:cNvSpPr/>
          <p:nvPr/>
        </p:nvSpPr>
        <p:spPr>
          <a:xfrm flipH="1" flipV="1">
            <a:off x="1112760" y="1467000"/>
            <a:ext cx="3278160" cy="2388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Text Box 6"/>
          <p:cNvSpPr/>
          <p:nvPr/>
        </p:nvSpPr>
        <p:spPr>
          <a:xfrm>
            <a:off x="4367880" y="3710160"/>
            <a:ext cx="185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t this to XPath 2.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Does Document’s classification match one in Classifications.xml?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1" name="TextBox 6"/>
          <p:cNvSpPr/>
          <p:nvPr/>
        </p:nvSpPr>
        <p:spPr>
          <a:xfrm>
            <a:off x="450000" y="3352680"/>
            <a:ext cx="759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ocument/@classification = doc('Classifications.xml')/Classifications/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Terminology - nod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Group 1027"/>
          <p:cNvGrpSpPr/>
          <p:nvPr/>
        </p:nvGrpSpPr>
        <p:grpSpPr>
          <a:xfrm>
            <a:off x="136440" y="1498680"/>
            <a:ext cx="8849160" cy="5219640"/>
            <a:chOff x="136440" y="1498680"/>
            <a:chExt cx="8849160" cy="5219640"/>
          </a:xfrm>
        </p:grpSpPr>
        <p:sp>
          <p:nvSpPr>
            <p:cNvPr id="125" name="AutoShape 1028"/>
            <p:cNvSpPr/>
            <p:nvPr/>
          </p:nvSpPr>
          <p:spPr>
            <a:xfrm>
              <a:off x="3017520" y="1498680"/>
              <a:ext cx="1130400" cy="90180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0"/>
                  </a:moveTo>
                  <a:lnTo>
                    <a:pt x="3820" y="3820"/>
                  </a:lnTo>
                  <a:lnTo>
                    <a:pt x="5000" y="0"/>
                  </a:lnTo>
                  <a:lnTo>
                    <a:pt x="6180" y="3820"/>
                  </a:lnTo>
                  <a:lnTo>
                    <a:pt x="10000" y="3820"/>
                  </a:lnTo>
                  <a:lnTo>
                    <a:pt x="6910" y="6180"/>
                  </a:lnTo>
                  <a:lnTo>
                    <a:pt x="8090" y="10000"/>
                  </a:lnTo>
                  <a:lnTo>
                    <a:pt x="5000" y="7641"/>
                  </a:lnTo>
                  <a:lnTo>
                    <a:pt x="1910" y="10000"/>
                  </a:lnTo>
                  <a:lnTo>
                    <a:pt x="3090" y="6180"/>
                  </a:lnTo>
                  <a:lnTo>
                    <a:pt x="0" y="382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029"/>
            <p:cNvSpPr/>
            <p:nvPr/>
          </p:nvSpPr>
          <p:spPr>
            <a:xfrm>
              <a:off x="3187440" y="1806480"/>
              <a:ext cx="84888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ocum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AutoShape 1030"/>
            <p:cNvSpPr/>
            <p:nvPr/>
          </p:nvSpPr>
          <p:spPr>
            <a:xfrm>
              <a:off x="136440" y="2787840"/>
              <a:ext cx="1735200" cy="639720"/>
            </a:xfrm>
            <a:prstGeom prst="diamond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Rectangle 1031"/>
            <p:cNvSpPr/>
            <p:nvPr/>
          </p:nvSpPr>
          <p:spPr>
            <a:xfrm>
              <a:off x="222480" y="2806560"/>
              <a:ext cx="162000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P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&lt;?xml version=“1.0”?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Rectangle 1032"/>
            <p:cNvSpPr/>
            <p:nvPr/>
          </p:nvSpPr>
          <p:spPr>
            <a:xfrm>
              <a:off x="6176880" y="2803680"/>
              <a:ext cx="1057320" cy="495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Rectangle 1033"/>
            <p:cNvSpPr/>
            <p:nvPr/>
          </p:nvSpPr>
          <p:spPr>
            <a:xfrm>
              <a:off x="6212160" y="2833560"/>
              <a:ext cx="101952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lem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tnessCent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Rectangle 1034"/>
            <p:cNvSpPr/>
            <p:nvPr/>
          </p:nvSpPr>
          <p:spPr>
            <a:xfrm>
              <a:off x="1285560" y="3959280"/>
              <a:ext cx="1057320" cy="495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Rectangle 1035"/>
            <p:cNvSpPr/>
            <p:nvPr/>
          </p:nvSpPr>
          <p:spPr>
            <a:xfrm>
              <a:off x="1467360" y="3989520"/>
              <a:ext cx="72252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lem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emb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Rectangle 1036"/>
            <p:cNvSpPr/>
            <p:nvPr/>
          </p:nvSpPr>
          <p:spPr>
            <a:xfrm>
              <a:off x="4197240" y="3932280"/>
              <a:ext cx="1057320" cy="495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1037"/>
            <p:cNvSpPr/>
            <p:nvPr/>
          </p:nvSpPr>
          <p:spPr>
            <a:xfrm>
              <a:off x="4378680" y="3962520"/>
              <a:ext cx="72252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lem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emb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Rectangle 1038"/>
            <p:cNvSpPr/>
            <p:nvPr/>
          </p:nvSpPr>
          <p:spPr>
            <a:xfrm>
              <a:off x="7002360" y="3941640"/>
              <a:ext cx="1057320" cy="495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Rectangle 1039"/>
            <p:cNvSpPr/>
            <p:nvPr/>
          </p:nvSpPr>
          <p:spPr>
            <a:xfrm>
              <a:off x="7183800" y="3971880"/>
              <a:ext cx="72252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lem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emb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1040"/>
            <p:cNvSpPr/>
            <p:nvPr/>
          </p:nvSpPr>
          <p:spPr>
            <a:xfrm>
              <a:off x="1020600" y="2235240"/>
              <a:ext cx="566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1041"/>
            <p:cNvSpPr/>
            <p:nvPr/>
          </p:nvSpPr>
          <p:spPr>
            <a:xfrm>
              <a:off x="1014120" y="2241720"/>
              <a:ext cx="0" cy="522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1042"/>
            <p:cNvSpPr/>
            <p:nvPr/>
          </p:nvSpPr>
          <p:spPr>
            <a:xfrm>
              <a:off x="6702120" y="2254320"/>
              <a:ext cx="0" cy="52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1043"/>
            <p:cNvSpPr/>
            <p:nvPr/>
          </p:nvSpPr>
          <p:spPr>
            <a:xfrm>
              <a:off x="1790640" y="3618000"/>
              <a:ext cx="5757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1044"/>
            <p:cNvSpPr/>
            <p:nvPr/>
          </p:nvSpPr>
          <p:spPr>
            <a:xfrm>
              <a:off x="1817640" y="3637080"/>
              <a:ext cx="0" cy="299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Line 1045"/>
            <p:cNvSpPr/>
            <p:nvPr/>
          </p:nvSpPr>
          <p:spPr>
            <a:xfrm>
              <a:off x="4722480" y="3619440"/>
              <a:ext cx="0" cy="30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1046"/>
            <p:cNvSpPr/>
            <p:nvPr/>
          </p:nvSpPr>
          <p:spPr>
            <a:xfrm>
              <a:off x="7530840" y="3632040"/>
              <a:ext cx="0" cy="30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Rectangle 1047"/>
            <p:cNvSpPr/>
            <p:nvPr/>
          </p:nvSpPr>
          <p:spPr>
            <a:xfrm>
              <a:off x="531720" y="4946760"/>
              <a:ext cx="1057320" cy="495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Rectangle 1048"/>
            <p:cNvSpPr/>
            <p:nvPr/>
          </p:nvSpPr>
          <p:spPr>
            <a:xfrm>
              <a:off x="713160" y="4977000"/>
              <a:ext cx="72252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lem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Rectangle 1049"/>
            <p:cNvSpPr/>
            <p:nvPr/>
          </p:nvSpPr>
          <p:spPr>
            <a:xfrm>
              <a:off x="2117520" y="4917960"/>
              <a:ext cx="1057320" cy="495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Rectangle 1050"/>
            <p:cNvSpPr/>
            <p:nvPr/>
          </p:nvSpPr>
          <p:spPr>
            <a:xfrm>
              <a:off x="2143800" y="4948200"/>
              <a:ext cx="103644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lem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avoriteCol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1051"/>
            <p:cNvSpPr/>
            <p:nvPr/>
          </p:nvSpPr>
          <p:spPr>
            <a:xfrm>
              <a:off x="1036440" y="4686480"/>
              <a:ext cx="1609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1052"/>
            <p:cNvSpPr/>
            <p:nvPr/>
          </p:nvSpPr>
          <p:spPr>
            <a:xfrm>
              <a:off x="1023840" y="4695840"/>
              <a:ext cx="0" cy="22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Line 1053"/>
            <p:cNvSpPr/>
            <p:nvPr/>
          </p:nvSpPr>
          <p:spPr>
            <a:xfrm>
              <a:off x="2647800" y="4680000"/>
              <a:ext cx="0" cy="22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Oval 1054"/>
            <p:cNvSpPr/>
            <p:nvPr/>
          </p:nvSpPr>
          <p:spPr>
            <a:xfrm>
              <a:off x="601560" y="5948280"/>
              <a:ext cx="807840" cy="770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1055"/>
            <p:cNvSpPr/>
            <p:nvPr/>
          </p:nvSpPr>
          <p:spPr>
            <a:xfrm>
              <a:off x="1788840" y="4460760"/>
              <a:ext cx="0" cy="23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1056"/>
            <p:cNvSpPr/>
            <p:nvPr/>
          </p:nvSpPr>
          <p:spPr>
            <a:xfrm>
              <a:off x="6729120" y="3311640"/>
              <a:ext cx="0" cy="312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Rectangle 1057"/>
            <p:cNvSpPr/>
            <p:nvPr/>
          </p:nvSpPr>
          <p:spPr>
            <a:xfrm>
              <a:off x="766800" y="6068880"/>
              <a:ext cx="47700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ex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Jef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1058"/>
            <p:cNvSpPr/>
            <p:nvPr/>
          </p:nvSpPr>
          <p:spPr>
            <a:xfrm>
              <a:off x="998280" y="5452920"/>
              <a:ext cx="0" cy="482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Oval 1059"/>
            <p:cNvSpPr/>
            <p:nvPr/>
          </p:nvSpPr>
          <p:spPr>
            <a:xfrm>
              <a:off x="2259000" y="5927760"/>
              <a:ext cx="807840" cy="770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Rectangle 1060"/>
            <p:cNvSpPr/>
            <p:nvPr/>
          </p:nvSpPr>
          <p:spPr>
            <a:xfrm>
              <a:off x="2299320" y="6048360"/>
              <a:ext cx="73152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ex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lightgre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Line 1061"/>
            <p:cNvSpPr/>
            <p:nvPr/>
          </p:nvSpPr>
          <p:spPr>
            <a:xfrm>
              <a:off x="2655720" y="5432400"/>
              <a:ext cx="0" cy="482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Rectangle 1062"/>
            <p:cNvSpPr/>
            <p:nvPr/>
          </p:nvSpPr>
          <p:spPr>
            <a:xfrm>
              <a:off x="3470040" y="4927680"/>
              <a:ext cx="1057320" cy="495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Rectangle 1063"/>
            <p:cNvSpPr/>
            <p:nvPr/>
          </p:nvSpPr>
          <p:spPr>
            <a:xfrm>
              <a:off x="3651840" y="4957920"/>
              <a:ext cx="72252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lem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Rectangle 1064"/>
            <p:cNvSpPr/>
            <p:nvPr/>
          </p:nvSpPr>
          <p:spPr>
            <a:xfrm>
              <a:off x="5056200" y="4898880"/>
              <a:ext cx="1056960" cy="495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Rectangle 1065"/>
            <p:cNvSpPr/>
            <p:nvPr/>
          </p:nvSpPr>
          <p:spPr>
            <a:xfrm>
              <a:off x="5082120" y="4929120"/>
              <a:ext cx="103644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lem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avoriteCol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1066"/>
            <p:cNvSpPr/>
            <p:nvPr/>
          </p:nvSpPr>
          <p:spPr>
            <a:xfrm>
              <a:off x="3975120" y="4667400"/>
              <a:ext cx="1609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1067"/>
            <p:cNvSpPr/>
            <p:nvPr/>
          </p:nvSpPr>
          <p:spPr>
            <a:xfrm>
              <a:off x="3962160" y="4676760"/>
              <a:ext cx="0" cy="22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1068"/>
            <p:cNvSpPr/>
            <p:nvPr/>
          </p:nvSpPr>
          <p:spPr>
            <a:xfrm>
              <a:off x="5586120" y="4660920"/>
              <a:ext cx="0" cy="22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Oval 1069"/>
            <p:cNvSpPr/>
            <p:nvPr/>
          </p:nvSpPr>
          <p:spPr>
            <a:xfrm>
              <a:off x="3539880" y="5929200"/>
              <a:ext cx="808200" cy="770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1070"/>
            <p:cNvSpPr/>
            <p:nvPr/>
          </p:nvSpPr>
          <p:spPr>
            <a:xfrm>
              <a:off x="4727520" y="4441680"/>
              <a:ext cx="0" cy="23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Rectangle 1071"/>
            <p:cNvSpPr/>
            <p:nvPr/>
          </p:nvSpPr>
          <p:spPr>
            <a:xfrm>
              <a:off x="3667320" y="6050160"/>
              <a:ext cx="55332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ex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Davi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1072"/>
            <p:cNvSpPr/>
            <p:nvPr/>
          </p:nvSpPr>
          <p:spPr>
            <a:xfrm>
              <a:off x="3936960" y="5434200"/>
              <a:ext cx="0" cy="48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Oval 1073"/>
            <p:cNvSpPr/>
            <p:nvPr/>
          </p:nvSpPr>
          <p:spPr>
            <a:xfrm>
              <a:off x="5197320" y="5908680"/>
              <a:ext cx="808200" cy="770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Rectangle 1074"/>
            <p:cNvSpPr/>
            <p:nvPr/>
          </p:nvSpPr>
          <p:spPr>
            <a:xfrm>
              <a:off x="5242320" y="6029280"/>
              <a:ext cx="72396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ex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lightblu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1075"/>
            <p:cNvSpPr/>
            <p:nvPr/>
          </p:nvSpPr>
          <p:spPr>
            <a:xfrm>
              <a:off x="5594040" y="5413320"/>
              <a:ext cx="0" cy="482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Rectangle 1076"/>
            <p:cNvSpPr/>
            <p:nvPr/>
          </p:nvSpPr>
          <p:spPr>
            <a:xfrm>
              <a:off x="6337080" y="4937040"/>
              <a:ext cx="1057320" cy="495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1077"/>
            <p:cNvSpPr/>
            <p:nvPr/>
          </p:nvSpPr>
          <p:spPr>
            <a:xfrm>
              <a:off x="6518880" y="4967280"/>
              <a:ext cx="72252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lem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1078"/>
            <p:cNvSpPr/>
            <p:nvPr/>
          </p:nvSpPr>
          <p:spPr>
            <a:xfrm>
              <a:off x="7922880" y="4908600"/>
              <a:ext cx="1057320" cy="495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Rectangle 1079"/>
            <p:cNvSpPr/>
            <p:nvPr/>
          </p:nvSpPr>
          <p:spPr>
            <a:xfrm>
              <a:off x="7949160" y="4938840"/>
              <a:ext cx="103644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lem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avoriteCol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Line 1080"/>
            <p:cNvSpPr/>
            <p:nvPr/>
          </p:nvSpPr>
          <p:spPr>
            <a:xfrm>
              <a:off x="6841800" y="4676760"/>
              <a:ext cx="1609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Line 1081"/>
            <p:cNvSpPr/>
            <p:nvPr/>
          </p:nvSpPr>
          <p:spPr>
            <a:xfrm>
              <a:off x="6829200" y="4686480"/>
              <a:ext cx="0" cy="22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Line 1082"/>
            <p:cNvSpPr/>
            <p:nvPr/>
          </p:nvSpPr>
          <p:spPr>
            <a:xfrm>
              <a:off x="8453160" y="4670280"/>
              <a:ext cx="0" cy="222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Oval 1083"/>
            <p:cNvSpPr/>
            <p:nvPr/>
          </p:nvSpPr>
          <p:spPr>
            <a:xfrm>
              <a:off x="6406920" y="5938920"/>
              <a:ext cx="808200" cy="770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Line 1084"/>
            <p:cNvSpPr/>
            <p:nvPr/>
          </p:nvSpPr>
          <p:spPr>
            <a:xfrm>
              <a:off x="7594560" y="4451400"/>
              <a:ext cx="0" cy="23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1085"/>
            <p:cNvSpPr/>
            <p:nvPr/>
          </p:nvSpPr>
          <p:spPr>
            <a:xfrm>
              <a:off x="6534360" y="6059520"/>
              <a:ext cx="55332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ex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Rog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Line 1086"/>
            <p:cNvSpPr/>
            <p:nvPr/>
          </p:nvSpPr>
          <p:spPr>
            <a:xfrm>
              <a:off x="6804000" y="5443560"/>
              <a:ext cx="0" cy="482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Oval 1087"/>
            <p:cNvSpPr/>
            <p:nvPr/>
          </p:nvSpPr>
          <p:spPr>
            <a:xfrm>
              <a:off x="8064360" y="5918040"/>
              <a:ext cx="808200" cy="770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1088"/>
            <p:cNvSpPr/>
            <p:nvPr/>
          </p:nvSpPr>
          <p:spPr>
            <a:xfrm>
              <a:off x="8034840" y="6039000"/>
              <a:ext cx="87624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ex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lightyello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Line 1089"/>
            <p:cNvSpPr/>
            <p:nvPr/>
          </p:nvSpPr>
          <p:spPr>
            <a:xfrm>
              <a:off x="8461080" y="5423040"/>
              <a:ext cx="0" cy="48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Line 1090"/>
          <p:cNvSpPr/>
          <p:nvPr/>
        </p:nvSpPr>
        <p:spPr>
          <a:xfrm flipH="1">
            <a:off x="3852360" y="1442880"/>
            <a:ext cx="808200" cy="274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1091"/>
          <p:cNvSpPr/>
          <p:nvPr/>
        </p:nvSpPr>
        <p:spPr>
          <a:xfrm>
            <a:off x="4659120" y="1228680"/>
            <a:ext cx="1538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ocument n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Line 1092"/>
          <p:cNvSpPr/>
          <p:nvPr/>
        </p:nvSpPr>
        <p:spPr>
          <a:xfrm>
            <a:off x="736560" y="1717560"/>
            <a:ext cx="142920" cy="1009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1093"/>
          <p:cNvSpPr/>
          <p:nvPr/>
        </p:nvSpPr>
        <p:spPr>
          <a:xfrm>
            <a:off x="27360" y="1324080"/>
            <a:ext cx="298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rocessing Instruction (PI) n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1094"/>
          <p:cNvSpPr/>
          <p:nvPr/>
        </p:nvSpPr>
        <p:spPr>
          <a:xfrm flipH="1">
            <a:off x="6897600" y="2006640"/>
            <a:ext cx="547920" cy="663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Line 1095"/>
          <p:cNvSpPr/>
          <p:nvPr/>
        </p:nvSpPr>
        <p:spPr>
          <a:xfrm flipH="1">
            <a:off x="2021040" y="1978200"/>
            <a:ext cx="5424480" cy="1860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Line 1096"/>
          <p:cNvSpPr/>
          <p:nvPr/>
        </p:nvSpPr>
        <p:spPr>
          <a:xfrm flipH="1">
            <a:off x="4978080" y="1962000"/>
            <a:ext cx="2482920" cy="1819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Line 1097"/>
          <p:cNvSpPr/>
          <p:nvPr/>
        </p:nvSpPr>
        <p:spPr>
          <a:xfrm>
            <a:off x="7475400" y="1962000"/>
            <a:ext cx="287640" cy="1906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Line 1098"/>
          <p:cNvSpPr/>
          <p:nvPr/>
        </p:nvSpPr>
        <p:spPr>
          <a:xfrm flipH="1">
            <a:off x="1371240" y="1962000"/>
            <a:ext cx="6118200" cy="2930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Line 1099"/>
          <p:cNvSpPr/>
          <p:nvPr/>
        </p:nvSpPr>
        <p:spPr>
          <a:xfrm flipH="1">
            <a:off x="2857680" y="1962000"/>
            <a:ext cx="4660560" cy="2859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Line 1100"/>
          <p:cNvSpPr/>
          <p:nvPr/>
        </p:nvSpPr>
        <p:spPr>
          <a:xfrm flipH="1">
            <a:off x="4155840" y="1978200"/>
            <a:ext cx="3405240" cy="2871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Line 1101"/>
          <p:cNvSpPr/>
          <p:nvPr/>
        </p:nvSpPr>
        <p:spPr>
          <a:xfrm flipH="1">
            <a:off x="5757840" y="1978200"/>
            <a:ext cx="1760400" cy="2827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Line 1102"/>
          <p:cNvSpPr/>
          <p:nvPr/>
        </p:nvSpPr>
        <p:spPr>
          <a:xfrm flipH="1">
            <a:off x="6667560" y="1992240"/>
            <a:ext cx="822240" cy="2871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Line 1103"/>
          <p:cNvSpPr/>
          <p:nvPr/>
        </p:nvSpPr>
        <p:spPr>
          <a:xfrm>
            <a:off x="7504200" y="1992240"/>
            <a:ext cx="1139760" cy="2843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1104"/>
          <p:cNvSpPr/>
          <p:nvPr/>
        </p:nvSpPr>
        <p:spPr>
          <a:xfrm>
            <a:off x="7034400" y="1654200"/>
            <a:ext cx="1448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ment 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1105"/>
          <p:cNvSpPr/>
          <p:nvPr/>
        </p:nvSpPr>
        <p:spPr>
          <a:xfrm>
            <a:off x="461880" y="4387680"/>
            <a:ext cx="417600" cy="1514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Line 1106"/>
          <p:cNvSpPr/>
          <p:nvPr/>
        </p:nvSpPr>
        <p:spPr>
          <a:xfrm>
            <a:off x="476280" y="4402080"/>
            <a:ext cx="2035080" cy="1530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1107"/>
          <p:cNvSpPr/>
          <p:nvPr/>
        </p:nvSpPr>
        <p:spPr>
          <a:xfrm>
            <a:off x="476280" y="4402080"/>
            <a:ext cx="3260520" cy="1515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Line 1108"/>
          <p:cNvSpPr/>
          <p:nvPr/>
        </p:nvSpPr>
        <p:spPr>
          <a:xfrm>
            <a:off x="461880" y="4387680"/>
            <a:ext cx="4950000" cy="1514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Line 1109"/>
          <p:cNvSpPr/>
          <p:nvPr/>
        </p:nvSpPr>
        <p:spPr>
          <a:xfrm>
            <a:off x="447840" y="4373640"/>
            <a:ext cx="6118200" cy="1601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Line 1110"/>
          <p:cNvSpPr/>
          <p:nvPr/>
        </p:nvSpPr>
        <p:spPr>
          <a:xfrm>
            <a:off x="461880" y="4359240"/>
            <a:ext cx="7720200" cy="1616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1111"/>
          <p:cNvSpPr/>
          <p:nvPr/>
        </p:nvSpPr>
        <p:spPr>
          <a:xfrm>
            <a:off x="2160" y="3998880"/>
            <a:ext cx="112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ext 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Do the first two Para's have the same classification?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3" name="Text Box 5"/>
          <p:cNvSpPr/>
          <p:nvPr/>
        </p:nvSpPr>
        <p:spPr>
          <a:xfrm>
            <a:off x="1445400" y="3209760"/>
            <a:ext cx="637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[1]/@classification eq Para[2]/@class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Text Box 4"/>
          <p:cNvSpPr/>
          <p:nvPr/>
        </p:nvSpPr>
        <p:spPr>
          <a:xfrm>
            <a:off x="2598120" y="2098800"/>
            <a:ext cx="4234680" cy="2288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 means eq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 means not eq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t means less th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 means greater th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 means less than or equal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means greater than or equal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Boolean Operator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685800" y="8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if Document's classification is top-secret then there can be no Para with a classification not equal to top-secre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7" name="Text Box 4"/>
          <p:cNvSpPr/>
          <p:nvPr/>
        </p:nvSpPr>
        <p:spPr>
          <a:xfrm>
            <a:off x="318600" y="3701880"/>
            <a:ext cx="861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 (/Document/@classification eq 'top-secret') then not(//Para[@classification ne 'top-secret']) else true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Two built-in function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9" name="Text Box 4"/>
          <p:cNvSpPr/>
          <p:nvPr/>
        </p:nvSpPr>
        <p:spPr>
          <a:xfrm>
            <a:off x="3430440" y="2887560"/>
            <a:ext cx="96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ue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lse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ast a value to a numeric typ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1" name="Text Box 4"/>
          <p:cNvSpPr/>
          <p:nvPr/>
        </p:nvSpPr>
        <p:spPr>
          <a:xfrm>
            <a:off x="3331800" y="3084480"/>
            <a:ext cx="187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(Co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heck that Document's children are: multiple Para's, 1 Test, and 1 Cost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(and nothing else)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3" name="Text Box 4"/>
          <p:cNvSpPr/>
          <p:nvPr/>
        </p:nvSpPr>
        <p:spPr>
          <a:xfrm>
            <a:off x="160560" y="3902040"/>
            <a:ext cx="886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[2] and Test and Cost and empty(* except (Para, Test[1], Cost[1]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The sum() function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5" name="Text Box 4"/>
          <p:cNvSpPr/>
          <p:nvPr/>
        </p:nvSpPr>
        <p:spPr>
          <a:xfrm>
            <a:off x="2611440" y="2098800"/>
            <a:ext cx="3684240" cy="3020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?xml version="1.0"?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s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&lt;number&gt;23&lt;/number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&lt;number&gt;5&lt;/number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&lt;number&gt;-41&lt;/number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&lt;number&gt;50&lt;/number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&lt;number&gt;12&lt;/number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numbers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3"/>
          <p:cNvSpPr/>
          <p:nvPr/>
        </p:nvSpPr>
        <p:spPr>
          <a:xfrm>
            <a:off x="3633120" y="5443560"/>
            <a:ext cx="2020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m(//numb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s 49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heck that every Publisher has a string-length le 140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8" name="Rectangle 2"/>
          <p:cNvSpPr/>
          <p:nvPr/>
        </p:nvSpPr>
        <p:spPr>
          <a:xfrm>
            <a:off x="1749600" y="2082960"/>
            <a:ext cx="5675040" cy="4474440"/>
          </a:xfrm>
          <a:prstGeom prst="rect">
            <a:avLst/>
          </a:prstGeom>
          <a:noFill/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BookStore&gt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&lt;Book&gt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&lt;Title&gt;My Life and Times&lt;/Title&gt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&lt;Author&gt;Paul McCartney&lt;/Author&gt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&lt;Date&gt;1998&lt;/Date&gt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&lt;ISBN&gt;1-56592-235-2&lt;/ISBN&gt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&lt;Publisher&gt;McMillin Publishing&lt;/Publisher&gt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&lt;Author&gt;John Ghostwriter&lt;/Author&gt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&lt;/Book&gt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&lt;Book&gt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&lt;Publisher&gt;Dell Publishing Co.&lt;/Publisher&gt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&lt;Author&gt;Richard Bach&lt;/Author&gt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&lt;Date&gt;1977&lt;/Date&gt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&lt;ISBN&gt;0-440-34319-4&lt;/ISBN&gt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&lt;Title&gt;Illusions The Adventures of a Reluctant Messiah&lt;/Title&gt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&lt;/Book&gt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&lt;Book&gt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&lt;ISBN&gt;0-06-064831-7&lt;/ISBN&gt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&lt;Title&gt;The First and Last Freedom&lt;/Title&gt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&lt;Author&gt;J. Krishnamurti&lt;/Author&gt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&lt;Date&gt;1954&lt;/Date&gt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&lt;Publisher&gt;Harper &amp;amp; Row&lt;/Publisher&gt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&lt;/Book&gt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/BookStor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heck that every Publisher has a string-length le 140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0" name="TextBox 2"/>
          <p:cNvSpPr/>
          <p:nvPr/>
        </p:nvSpPr>
        <p:spPr>
          <a:xfrm>
            <a:off x="1204200" y="3349800"/>
            <a:ext cx="686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ry $i in //Publisher satisfies string-length($i) le 1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The XPath every expression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2" name=""/>
          <p:cNvSpPr txBox="1"/>
          <p:nvPr/>
        </p:nvSpPr>
        <p:spPr>
          <a:xfrm>
            <a:off x="685800" y="2262240"/>
            <a:ext cx="7772400" cy="213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form of the every expression is:</a:t>
            </a:r>
            <a:br>
              <a:rPr sz="32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very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aria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equenc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satisfie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oolean ex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result of the expression is either true or fal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AutoShape 2051"/>
          <p:cNvSpPr/>
          <p:nvPr/>
        </p:nvSpPr>
        <p:spPr>
          <a:xfrm>
            <a:off x="3017880" y="1498680"/>
            <a:ext cx="1130400" cy="901800"/>
          </a:xfrm>
          <a:custGeom>
            <a:avLst/>
            <a:gdLst/>
            <a:ahLst/>
            <a:rect l="l" t="t" r="r" b="b"/>
            <a:pathLst>
              <a:path w="1130300" h="901700">
                <a:moveTo>
                  <a:pt x="1" y="344418"/>
                </a:moveTo>
                <a:lnTo>
                  <a:pt x="431739" y="344420"/>
                </a:lnTo>
                <a:lnTo>
                  <a:pt x="565150" y="0"/>
                </a:lnTo>
                <a:lnTo>
                  <a:pt x="698561" y="344420"/>
                </a:lnTo>
                <a:lnTo>
                  <a:pt x="1130299" y="344418"/>
                </a:lnTo>
                <a:lnTo>
                  <a:pt x="781014" y="557279"/>
                </a:lnTo>
                <a:lnTo>
                  <a:pt x="914431" y="901698"/>
                </a:lnTo>
                <a:lnTo>
                  <a:pt x="565150" y="688833"/>
                </a:lnTo>
                <a:lnTo>
                  <a:pt x="215869" y="901698"/>
                </a:lnTo>
                <a:lnTo>
                  <a:pt x="349286" y="557279"/>
                </a:lnTo>
                <a:lnTo>
                  <a:pt x="1" y="344418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2052"/>
          <p:cNvSpPr/>
          <p:nvPr/>
        </p:nvSpPr>
        <p:spPr>
          <a:xfrm>
            <a:off x="3187800" y="1806480"/>
            <a:ext cx="84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ocu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AutoShape 2053"/>
          <p:cNvSpPr/>
          <p:nvPr/>
        </p:nvSpPr>
        <p:spPr>
          <a:xfrm>
            <a:off x="136440" y="2787480"/>
            <a:ext cx="1735200" cy="6400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2054"/>
          <p:cNvSpPr/>
          <p:nvPr/>
        </p:nvSpPr>
        <p:spPr>
          <a:xfrm>
            <a:off x="222840" y="2806560"/>
            <a:ext cx="1620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?xml version=“1.0”?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2055"/>
          <p:cNvSpPr/>
          <p:nvPr/>
        </p:nvSpPr>
        <p:spPr>
          <a:xfrm>
            <a:off x="6176880" y="2803680"/>
            <a:ext cx="1057320" cy="495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2056"/>
          <p:cNvSpPr/>
          <p:nvPr/>
        </p:nvSpPr>
        <p:spPr>
          <a:xfrm>
            <a:off x="6212520" y="2833560"/>
            <a:ext cx="1019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tness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2057"/>
          <p:cNvSpPr/>
          <p:nvPr/>
        </p:nvSpPr>
        <p:spPr>
          <a:xfrm>
            <a:off x="1285920" y="3959280"/>
            <a:ext cx="1057320" cy="49536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2058"/>
          <p:cNvSpPr/>
          <p:nvPr/>
        </p:nvSpPr>
        <p:spPr>
          <a:xfrm>
            <a:off x="1467360" y="3989520"/>
            <a:ext cx="722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2059"/>
          <p:cNvSpPr/>
          <p:nvPr/>
        </p:nvSpPr>
        <p:spPr>
          <a:xfrm>
            <a:off x="4197240" y="3932280"/>
            <a:ext cx="1057320" cy="49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2060"/>
          <p:cNvSpPr/>
          <p:nvPr/>
        </p:nvSpPr>
        <p:spPr>
          <a:xfrm>
            <a:off x="4379040" y="3962520"/>
            <a:ext cx="722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2061"/>
          <p:cNvSpPr/>
          <p:nvPr/>
        </p:nvSpPr>
        <p:spPr>
          <a:xfrm>
            <a:off x="7002360" y="3941640"/>
            <a:ext cx="1057320" cy="49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2062"/>
          <p:cNvSpPr/>
          <p:nvPr/>
        </p:nvSpPr>
        <p:spPr>
          <a:xfrm>
            <a:off x="7184160" y="3971880"/>
            <a:ext cx="722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Line 2063"/>
          <p:cNvSpPr/>
          <p:nvPr/>
        </p:nvSpPr>
        <p:spPr>
          <a:xfrm>
            <a:off x="1020600" y="2235240"/>
            <a:ext cx="5664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2064"/>
          <p:cNvSpPr/>
          <p:nvPr/>
        </p:nvSpPr>
        <p:spPr>
          <a:xfrm>
            <a:off x="1014480" y="2241720"/>
            <a:ext cx="0" cy="522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Line 2065"/>
          <p:cNvSpPr/>
          <p:nvPr/>
        </p:nvSpPr>
        <p:spPr>
          <a:xfrm>
            <a:off x="6702480" y="2254320"/>
            <a:ext cx="0" cy="522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2066"/>
          <p:cNvSpPr/>
          <p:nvPr/>
        </p:nvSpPr>
        <p:spPr>
          <a:xfrm>
            <a:off x="1790640" y="3618000"/>
            <a:ext cx="57578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Line 2067"/>
          <p:cNvSpPr/>
          <p:nvPr/>
        </p:nvSpPr>
        <p:spPr>
          <a:xfrm>
            <a:off x="1817640" y="3637080"/>
            <a:ext cx="0" cy="29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2068"/>
          <p:cNvSpPr/>
          <p:nvPr/>
        </p:nvSpPr>
        <p:spPr>
          <a:xfrm>
            <a:off x="4722840" y="3619440"/>
            <a:ext cx="0" cy="30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Line 2069"/>
          <p:cNvSpPr/>
          <p:nvPr/>
        </p:nvSpPr>
        <p:spPr>
          <a:xfrm>
            <a:off x="7531200" y="3632040"/>
            <a:ext cx="0" cy="30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2070"/>
          <p:cNvSpPr/>
          <p:nvPr/>
        </p:nvSpPr>
        <p:spPr>
          <a:xfrm>
            <a:off x="531720" y="4946760"/>
            <a:ext cx="1057320" cy="49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2071"/>
          <p:cNvSpPr/>
          <p:nvPr/>
        </p:nvSpPr>
        <p:spPr>
          <a:xfrm>
            <a:off x="713520" y="4976640"/>
            <a:ext cx="722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2072"/>
          <p:cNvSpPr/>
          <p:nvPr/>
        </p:nvSpPr>
        <p:spPr>
          <a:xfrm>
            <a:off x="2117880" y="4917960"/>
            <a:ext cx="1056960" cy="49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2073"/>
          <p:cNvSpPr/>
          <p:nvPr/>
        </p:nvSpPr>
        <p:spPr>
          <a:xfrm>
            <a:off x="2143800" y="4948200"/>
            <a:ext cx="10364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voriteCol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Line 2074"/>
          <p:cNvSpPr/>
          <p:nvPr/>
        </p:nvSpPr>
        <p:spPr>
          <a:xfrm>
            <a:off x="1036800" y="4686480"/>
            <a:ext cx="1609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Line 2075"/>
          <p:cNvSpPr/>
          <p:nvPr/>
        </p:nvSpPr>
        <p:spPr>
          <a:xfrm>
            <a:off x="1023840" y="4695840"/>
            <a:ext cx="0" cy="22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Line 2076"/>
          <p:cNvSpPr/>
          <p:nvPr/>
        </p:nvSpPr>
        <p:spPr>
          <a:xfrm>
            <a:off x="2647800" y="4680000"/>
            <a:ext cx="0" cy="22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Oval 2077"/>
          <p:cNvSpPr/>
          <p:nvPr/>
        </p:nvSpPr>
        <p:spPr>
          <a:xfrm>
            <a:off x="601560" y="5948280"/>
            <a:ext cx="808200" cy="770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Line 2078"/>
          <p:cNvSpPr/>
          <p:nvPr/>
        </p:nvSpPr>
        <p:spPr>
          <a:xfrm>
            <a:off x="1789200" y="4460760"/>
            <a:ext cx="0" cy="235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Line 2079"/>
          <p:cNvSpPr/>
          <p:nvPr/>
        </p:nvSpPr>
        <p:spPr>
          <a:xfrm>
            <a:off x="6729480" y="3311640"/>
            <a:ext cx="0" cy="312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2080"/>
          <p:cNvSpPr/>
          <p:nvPr/>
        </p:nvSpPr>
        <p:spPr>
          <a:xfrm>
            <a:off x="767160" y="6068880"/>
            <a:ext cx="477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e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Line 2081"/>
          <p:cNvSpPr/>
          <p:nvPr/>
        </p:nvSpPr>
        <p:spPr>
          <a:xfrm>
            <a:off x="998640" y="5452920"/>
            <a:ext cx="0" cy="482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Oval 2082"/>
          <p:cNvSpPr/>
          <p:nvPr/>
        </p:nvSpPr>
        <p:spPr>
          <a:xfrm>
            <a:off x="2259000" y="5927760"/>
            <a:ext cx="808200" cy="770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Rectangle 2083"/>
          <p:cNvSpPr/>
          <p:nvPr/>
        </p:nvSpPr>
        <p:spPr>
          <a:xfrm>
            <a:off x="2299680" y="6048360"/>
            <a:ext cx="731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gr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2084"/>
          <p:cNvSpPr/>
          <p:nvPr/>
        </p:nvSpPr>
        <p:spPr>
          <a:xfrm>
            <a:off x="2655720" y="5432400"/>
            <a:ext cx="0" cy="482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2085"/>
          <p:cNvSpPr/>
          <p:nvPr/>
        </p:nvSpPr>
        <p:spPr>
          <a:xfrm>
            <a:off x="3470400" y="4927680"/>
            <a:ext cx="1057320" cy="49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2086"/>
          <p:cNvSpPr/>
          <p:nvPr/>
        </p:nvSpPr>
        <p:spPr>
          <a:xfrm>
            <a:off x="3651840" y="4957920"/>
            <a:ext cx="722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2087"/>
          <p:cNvSpPr/>
          <p:nvPr/>
        </p:nvSpPr>
        <p:spPr>
          <a:xfrm>
            <a:off x="5056200" y="4898880"/>
            <a:ext cx="1057320" cy="49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2088"/>
          <p:cNvSpPr/>
          <p:nvPr/>
        </p:nvSpPr>
        <p:spPr>
          <a:xfrm>
            <a:off x="5082480" y="4929120"/>
            <a:ext cx="10364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voriteCol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Line 2089"/>
          <p:cNvSpPr/>
          <p:nvPr/>
        </p:nvSpPr>
        <p:spPr>
          <a:xfrm>
            <a:off x="3975120" y="4667400"/>
            <a:ext cx="1609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Line 2090"/>
          <p:cNvSpPr/>
          <p:nvPr/>
        </p:nvSpPr>
        <p:spPr>
          <a:xfrm>
            <a:off x="3962520" y="4676760"/>
            <a:ext cx="0" cy="22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Line 2091"/>
          <p:cNvSpPr/>
          <p:nvPr/>
        </p:nvSpPr>
        <p:spPr>
          <a:xfrm>
            <a:off x="5586480" y="4660920"/>
            <a:ext cx="0" cy="22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Oval 2092"/>
          <p:cNvSpPr/>
          <p:nvPr/>
        </p:nvSpPr>
        <p:spPr>
          <a:xfrm>
            <a:off x="3540240" y="5929200"/>
            <a:ext cx="807840" cy="770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Line 2093"/>
          <p:cNvSpPr/>
          <p:nvPr/>
        </p:nvSpPr>
        <p:spPr>
          <a:xfrm>
            <a:off x="4727520" y="4441680"/>
            <a:ext cx="0" cy="235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ectangle 2094"/>
          <p:cNvSpPr/>
          <p:nvPr/>
        </p:nvSpPr>
        <p:spPr>
          <a:xfrm>
            <a:off x="3667320" y="6049800"/>
            <a:ext cx="5533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v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Line 2095"/>
          <p:cNvSpPr/>
          <p:nvPr/>
        </p:nvSpPr>
        <p:spPr>
          <a:xfrm>
            <a:off x="3936960" y="5433840"/>
            <a:ext cx="0" cy="482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Oval 2096"/>
          <p:cNvSpPr/>
          <p:nvPr/>
        </p:nvSpPr>
        <p:spPr>
          <a:xfrm>
            <a:off x="5197320" y="5908680"/>
            <a:ext cx="808200" cy="770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2097"/>
          <p:cNvSpPr/>
          <p:nvPr/>
        </p:nvSpPr>
        <p:spPr>
          <a:xfrm>
            <a:off x="5242680" y="6029280"/>
            <a:ext cx="7239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b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Line 2098"/>
          <p:cNvSpPr/>
          <p:nvPr/>
        </p:nvSpPr>
        <p:spPr>
          <a:xfrm>
            <a:off x="5594400" y="5413320"/>
            <a:ext cx="0" cy="482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2099"/>
          <p:cNvSpPr/>
          <p:nvPr/>
        </p:nvSpPr>
        <p:spPr>
          <a:xfrm>
            <a:off x="6337440" y="4937040"/>
            <a:ext cx="1056960" cy="49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2100"/>
          <p:cNvSpPr/>
          <p:nvPr/>
        </p:nvSpPr>
        <p:spPr>
          <a:xfrm>
            <a:off x="6518880" y="4967280"/>
            <a:ext cx="722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2101"/>
          <p:cNvSpPr/>
          <p:nvPr/>
        </p:nvSpPr>
        <p:spPr>
          <a:xfrm>
            <a:off x="7923240" y="4908600"/>
            <a:ext cx="1057320" cy="49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2102"/>
          <p:cNvSpPr/>
          <p:nvPr/>
        </p:nvSpPr>
        <p:spPr>
          <a:xfrm>
            <a:off x="7949160" y="4938840"/>
            <a:ext cx="10364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voriteCol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Line 2103"/>
          <p:cNvSpPr/>
          <p:nvPr/>
        </p:nvSpPr>
        <p:spPr>
          <a:xfrm>
            <a:off x="6842160" y="4676760"/>
            <a:ext cx="1609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Line 2104"/>
          <p:cNvSpPr/>
          <p:nvPr/>
        </p:nvSpPr>
        <p:spPr>
          <a:xfrm>
            <a:off x="6829560" y="4686480"/>
            <a:ext cx="0" cy="22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Line 2105"/>
          <p:cNvSpPr/>
          <p:nvPr/>
        </p:nvSpPr>
        <p:spPr>
          <a:xfrm>
            <a:off x="8453520" y="4670280"/>
            <a:ext cx="0" cy="222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Oval 2106"/>
          <p:cNvSpPr/>
          <p:nvPr/>
        </p:nvSpPr>
        <p:spPr>
          <a:xfrm>
            <a:off x="6407280" y="5938920"/>
            <a:ext cx="807840" cy="769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Line 2107"/>
          <p:cNvSpPr/>
          <p:nvPr/>
        </p:nvSpPr>
        <p:spPr>
          <a:xfrm>
            <a:off x="7594560" y="4451400"/>
            <a:ext cx="0" cy="235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Rectangle 2108"/>
          <p:cNvSpPr/>
          <p:nvPr/>
        </p:nvSpPr>
        <p:spPr>
          <a:xfrm>
            <a:off x="6534360" y="6059520"/>
            <a:ext cx="5533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Line 2109"/>
          <p:cNvSpPr/>
          <p:nvPr/>
        </p:nvSpPr>
        <p:spPr>
          <a:xfrm>
            <a:off x="6804000" y="5443560"/>
            <a:ext cx="0" cy="482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Oval 2110"/>
          <p:cNvSpPr/>
          <p:nvPr/>
        </p:nvSpPr>
        <p:spPr>
          <a:xfrm>
            <a:off x="8064360" y="5918040"/>
            <a:ext cx="808200" cy="770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Rectangle 2111"/>
          <p:cNvSpPr/>
          <p:nvPr/>
        </p:nvSpPr>
        <p:spPr>
          <a:xfrm>
            <a:off x="8035200" y="6039000"/>
            <a:ext cx="876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yel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Line 2112"/>
          <p:cNvSpPr/>
          <p:nvPr/>
        </p:nvSpPr>
        <p:spPr>
          <a:xfrm>
            <a:off x="8461440" y="5423040"/>
            <a:ext cx="0" cy="482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68"/>
          <p:cNvSpPr/>
          <p:nvPr/>
        </p:nvSpPr>
        <p:spPr>
          <a:xfrm>
            <a:off x="320760" y="3497400"/>
            <a:ext cx="10396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Times New Roman"/>
              </a:rPr>
              <a:t>With respect to this node, these are its childr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Line 69"/>
          <p:cNvSpPr/>
          <p:nvPr/>
        </p:nvSpPr>
        <p:spPr>
          <a:xfrm>
            <a:off x="885960" y="4635360"/>
            <a:ext cx="0" cy="268560"/>
          </a:xfrm>
          <a:prstGeom prst="line">
            <a:avLst/>
          </a:prstGeom>
          <a:ln w="255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Line 70"/>
          <p:cNvSpPr/>
          <p:nvPr/>
        </p:nvSpPr>
        <p:spPr>
          <a:xfrm>
            <a:off x="878040" y="4633920"/>
            <a:ext cx="1228680" cy="304920"/>
          </a:xfrm>
          <a:prstGeom prst="line">
            <a:avLst/>
          </a:prstGeom>
          <a:ln w="255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Equivalen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4" name="TextBox 3"/>
          <p:cNvSpPr/>
          <p:nvPr/>
        </p:nvSpPr>
        <p:spPr>
          <a:xfrm>
            <a:off x="1204200" y="2557440"/>
            <a:ext cx="686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ry $i in //Publisher satisfies string-length($i) le 1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TextBox 4"/>
          <p:cNvSpPr/>
          <p:nvPr/>
        </p:nvSpPr>
        <p:spPr>
          <a:xfrm>
            <a:off x="1199520" y="3819600"/>
            <a:ext cx="499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(//Publisher[string-length(.) gt 140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AutoShape 2051"/>
          <p:cNvSpPr/>
          <p:nvPr/>
        </p:nvSpPr>
        <p:spPr>
          <a:xfrm>
            <a:off x="3017880" y="1498680"/>
            <a:ext cx="1130400" cy="901800"/>
          </a:xfrm>
          <a:custGeom>
            <a:avLst/>
            <a:gdLst/>
            <a:ahLst/>
            <a:rect l="l" t="t" r="r" b="b"/>
            <a:pathLst>
              <a:path w="1130300" h="901700">
                <a:moveTo>
                  <a:pt x="1" y="344418"/>
                </a:moveTo>
                <a:lnTo>
                  <a:pt x="431739" y="344420"/>
                </a:lnTo>
                <a:lnTo>
                  <a:pt x="565150" y="0"/>
                </a:lnTo>
                <a:lnTo>
                  <a:pt x="698561" y="344420"/>
                </a:lnTo>
                <a:lnTo>
                  <a:pt x="1130299" y="344418"/>
                </a:lnTo>
                <a:lnTo>
                  <a:pt x="781014" y="557279"/>
                </a:lnTo>
                <a:lnTo>
                  <a:pt x="914431" y="901698"/>
                </a:lnTo>
                <a:lnTo>
                  <a:pt x="565150" y="688833"/>
                </a:lnTo>
                <a:lnTo>
                  <a:pt x="215869" y="901698"/>
                </a:lnTo>
                <a:lnTo>
                  <a:pt x="349286" y="557279"/>
                </a:lnTo>
                <a:lnTo>
                  <a:pt x="1" y="344418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Rectangle 2052"/>
          <p:cNvSpPr/>
          <p:nvPr/>
        </p:nvSpPr>
        <p:spPr>
          <a:xfrm>
            <a:off x="3187800" y="1806480"/>
            <a:ext cx="84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ocu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AutoShape 2053"/>
          <p:cNvSpPr/>
          <p:nvPr/>
        </p:nvSpPr>
        <p:spPr>
          <a:xfrm>
            <a:off x="136440" y="2787480"/>
            <a:ext cx="1735200" cy="6400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Rectangle 2054"/>
          <p:cNvSpPr/>
          <p:nvPr/>
        </p:nvSpPr>
        <p:spPr>
          <a:xfrm>
            <a:off x="222840" y="2806560"/>
            <a:ext cx="1620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?xml version=“1.0”?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Rectangle 2055"/>
          <p:cNvSpPr/>
          <p:nvPr/>
        </p:nvSpPr>
        <p:spPr>
          <a:xfrm>
            <a:off x="6176880" y="2803680"/>
            <a:ext cx="1057320" cy="495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Rectangle 2056"/>
          <p:cNvSpPr/>
          <p:nvPr/>
        </p:nvSpPr>
        <p:spPr>
          <a:xfrm>
            <a:off x="6212520" y="2833560"/>
            <a:ext cx="1019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tness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Rectangle 2057"/>
          <p:cNvSpPr/>
          <p:nvPr/>
        </p:nvSpPr>
        <p:spPr>
          <a:xfrm>
            <a:off x="1285920" y="3959280"/>
            <a:ext cx="1057320" cy="49536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Rectangle 2058"/>
          <p:cNvSpPr/>
          <p:nvPr/>
        </p:nvSpPr>
        <p:spPr>
          <a:xfrm>
            <a:off x="1467360" y="3989520"/>
            <a:ext cx="722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Rectangle 2059"/>
          <p:cNvSpPr/>
          <p:nvPr/>
        </p:nvSpPr>
        <p:spPr>
          <a:xfrm>
            <a:off x="4197240" y="3932280"/>
            <a:ext cx="1057320" cy="49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Rectangle 2060"/>
          <p:cNvSpPr/>
          <p:nvPr/>
        </p:nvSpPr>
        <p:spPr>
          <a:xfrm>
            <a:off x="4379040" y="3962520"/>
            <a:ext cx="722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Rectangle 2061"/>
          <p:cNvSpPr/>
          <p:nvPr/>
        </p:nvSpPr>
        <p:spPr>
          <a:xfrm>
            <a:off x="7002360" y="3941640"/>
            <a:ext cx="1057320" cy="49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Rectangle 2062"/>
          <p:cNvSpPr/>
          <p:nvPr/>
        </p:nvSpPr>
        <p:spPr>
          <a:xfrm>
            <a:off x="7184160" y="3971880"/>
            <a:ext cx="722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Line 2063"/>
          <p:cNvSpPr/>
          <p:nvPr/>
        </p:nvSpPr>
        <p:spPr>
          <a:xfrm>
            <a:off x="1020600" y="2235240"/>
            <a:ext cx="5664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Line 2064"/>
          <p:cNvSpPr/>
          <p:nvPr/>
        </p:nvSpPr>
        <p:spPr>
          <a:xfrm>
            <a:off x="1014480" y="2241720"/>
            <a:ext cx="0" cy="522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Line 2065"/>
          <p:cNvSpPr/>
          <p:nvPr/>
        </p:nvSpPr>
        <p:spPr>
          <a:xfrm>
            <a:off x="6702480" y="2254320"/>
            <a:ext cx="0" cy="522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Line 2066"/>
          <p:cNvSpPr/>
          <p:nvPr/>
        </p:nvSpPr>
        <p:spPr>
          <a:xfrm>
            <a:off x="1790640" y="3618000"/>
            <a:ext cx="57578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2067"/>
          <p:cNvSpPr/>
          <p:nvPr/>
        </p:nvSpPr>
        <p:spPr>
          <a:xfrm>
            <a:off x="1817640" y="3637080"/>
            <a:ext cx="0" cy="29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2068"/>
          <p:cNvSpPr/>
          <p:nvPr/>
        </p:nvSpPr>
        <p:spPr>
          <a:xfrm>
            <a:off x="4722840" y="3619440"/>
            <a:ext cx="0" cy="30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2069"/>
          <p:cNvSpPr/>
          <p:nvPr/>
        </p:nvSpPr>
        <p:spPr>
          <a:xfrm>
            <a:off x="7531200" y="3632040"/>
            <a:ext cx="0" cy="30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2070"/>
          <p:cNvSpPr/>
          <p:nvPr/>
        </p:nvSpPr>
        <p:spPr>
          <a:xfrm>
            <a:off x="531720" y="4946760"/>
            <a:ext cx="1057320" cy="49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Rectangle 2071"/>
          <p:cNvSpPr/>
          <p:nvPr/>
        </p:nvSpPr>
        <p:spPr>
          <a:xfrm>
            <a:off x="713520" y="4976640"/>
            <a:ext cx="722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Rectangle 2072"/>
          <p:cNvSpPr/>
          <p:nvPr/>
        </p:nvSpPr>
        <p:spPr>
          <a:xfrm>
            <a:off x="2117880" y="4917960"/>
            <a:ext cx="1056960" cy="49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Rectangle 2073"/>
          <p:cNvSpPr/>
          <p:nvPr/>
        </p:nvSpPr>
        <p:spPr>
          <a:xfrm>
            <a:off x="2143800" y="4948200"/>
            <a:ext cx="10364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voriteCol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2074"/>
          <p:cNvSpPr/>
          <p:nvPr/>
        </p:nvSpPr>
        <p:spPr>
          <a:xfrm>
            <a:off x="1036800" y="4686480"/>
            <a:ext cx="1609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2075"/>
          <p:cNvSpPr/>
          <p:nvPr/>
        </p:nvSpPr>
        <p:spPr>
          <a:xfrm>
            <a:off x="1023840" y="4695840"/>
            <a:ext cx="0" cy="22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Line 2076"/>
          <p:cNvSpPr/>
          <p:nvPr/>
        </p:nvSpPr>
        <p:spPr>
          <a:xfrm>
            <a:off x="2647800" y="4680000"/>
            <a:ext cx="0" cy="22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Oval 2077"/>
          <p:cNvSpPr/>
          <p:nvPr/>
        </p:nvSpPr>
        <p:spPr>
          <a:xfrm>
            <a:off x="601560" y="5948280"/>
            <a:ext cx="808200" cy="770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2078"/>
          <p:cNvSpPr/>
          <p:nvPr/>
        </p:nvSpPr>
        <p:spPr>
          <a:xfrm>
            <a:off x="1789200" y="4460760"/>
            <a:ext cx="0" cy="235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2079"/>
          <p:cNvSpPr/>
          <p:nvPr/>
        </p:nvSpPr>
        <p:spPr>
          <a:xfrm>
            <a:off x="6729480" y="3311640"/>
            <a:ext cx="0" cy="312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2080"/>
          <p:cNvSpPr/>
          <p:nvPr/>
        </p:nvSpPr>
        <p:spPr>
          <a:xfrm>
            <a:off x="767160" y="6068880"/>
            <a:ext cx="477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e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2081"/>
          <p:cNvSpPr/>
          <p:nvPr/>
        </p:nvSpPr>
        <p:spPr>
          <a:xfrm>
            <a:off x="998640" y="5452920"/>
            <a:ext cx="0" cy="482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Oval 2082"/>
          <p:cNvSpPr/>
          <p:nvPr/>
        </p:nvSpPr>
        <p:spPr>
          <a:xfrm>
            <a:off x="2259000" y="5927760"/>
            <a:ext cx="808200" cy="770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2083"/>
          <p:cNvSpPr/>
          <p:nvPr/>
        </p:nvSpPr>
        <p:spPr>
          <a:xfrm>
            <a:off x="2299680" y="6048360"/>
            <a:ext cx="731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gr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2084"/>
          <p:cNvSpPr/>
          <p:nvPr/>
        </p:nvSpPr>
        <p:spPr>
          <a:xfrm>
            <a:off x="2655720" y="5432400"/>
            <a:ext cx="0" cy="482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Rectangle 2085"/>
          <p:cNvSpPr/>
          <p:nvPr/>
        </p:nvSpPr>
        <p:spPr>
          <a:xfrm>
            <a:off x="3470400" y="4927680"/>
            <a:ext cx="1057320" cy="49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Rectangle 2086"/>
          <p:cNvSpPr/>
          <p:nvPr/>
        </p:nvSpPr>
        <p:spPr>
          <a:xfrm>
            <a:off x="3651840" y="4957920"/>
            <a:ext cx="722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Rectangle 2087"/>
          <p:cNvSpPr/>
          <p:nvPr/>
        </p:nvSpPr>
        <p:spPr>
          <a:xfrm>
            <a:off x="5056200" y="4898880"/>
            <a:ext cx="1057320" cy="49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Rectangle 2088"/>
          <p:cNvSpPr/>
          <p:nvPr/>
        </p:nvSpPr>
        <p:spPr>
          <a:xfrm>
            <a:off x="5082480" y="4929120"/>
            <a:ext cx="10364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voriteCol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Line 2089"/>
          <p:cNvSpPr/>
          <p:nvPr/>
        </p:nvSpPr>
        <p:spPr>
          <a:xfrm>
            <a:off x="3975120" y="4667400"/>
            <a:ext cx="1609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Line 2090"/>
          <p:cNvSpPr/>
          <p:nvPr/>
        </p:nvSpPr>
        <p:spPr>
          <a:xfrm>
            <a:off x="3962520" y="4676760"/>
            <a:ext cx="0" cy="22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Line 2091"/>
          <p:cNvSpPr/>
          <p:nvPr/>
        </p:nvSpPr>
        <p:spPr>
          <a:xfrm>
            <a:off x="5586480" y="4660920"/>
            <a:ext cx="0" cy="22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Oval 2092"/>
          <p:cNvSpPr/>
          <p:nvPr/>
        </p:nvSpPr>
        <p:spPr>
          <a:xfrm>
            <a:off x="3540240" y="5929200"/>
            <a:ext cx="807840" cy="770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Line 2093"/>
          <p:cNvSpPr/>
          <p:nvPr/>
        </p:nvSpPr>
        <p:spPr>
          <a:xfrm>
            <a:off x="4727520" y="4441680"/>
            <a:ext cx="0" cy="235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2094"/>
          <p:cNvSpPr/>
          <p:nvPr/>
        </p:nvSpPr>
        <p:spPr>
          <a:xfrm>
            <a:off x="3667320" y="6049800"/>
            <a:ext cx="5533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v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Line 2095"/>
          <p:cNvSpPr/>
          <p:nvPr/>
        </p:nvSpPr>
        <p:spPr>
          <a:xfrm>
            <a:off x="3936960" y="5433840"/>
            <a:ext cx="0" cy="482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Oval 2096"/>
          <p:cNvSpPr/>
          <p:nvPr/>
        </p:nvSpPr>
        <p:spPr>
          <a:xfrm>
            <a:off x="5197320" y="5908680"/>
            <a:ext cx="808200" cy="770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Rectangle 2097"/>
          <p:cNvSpPr/>
          <p:nvPr/>
        </p:nvSpPr>
        <p:spPr>
          <a:xfrm>
            <a:off x="5242680" y="6029280"/>
            <a:ext cx="7239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b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Line 2098"/>
          <p:cNvSpPr/>
          <p:nvPr/>
        </p:nvSpPr>
        <p:spPr>
          <a:xfrm>
            <a:off x="5594400" y="5413320"/>
            <a:ext cx="0" cy="482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Rectangle 2099"/>
          <p:cNvSpPr/>
          <p:nvPr/>
        </p:nvSpPr>
        <p:spPr>
          <a:xfrm>
            <a:off x="6337440" y="4937040"/>
            <a:ext cx="1056960" cy="49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Rectangle 2100"/>
          <p:cNvSpPr/>
          <p:nvPr/>
        </p:nvSpPr>
        <p:spPr>
          <a:xfrm>
            <a:off x="6518880" y="4967280"/>
            <a:ext cx="722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Rectangle 2101"/>
          <p:cNvSpPr/>
          <p:nvPr/>
        </p:nvSpPr>
        <p:spPr>
          <a:xfrm>
            <a:off x="7923240" y="4908600"/>
            <a:ext cx="1057320" cy="49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Rectangle 2102"/>
          <p:cNvSpPr/>
          <p:nvPr/>
        </p:nvSpPr>
        <p:spPr>
          <a:xfrm>
            <a:off x="7949160" y="4938840"/>
            <a:ext cx="10364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voriteCol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Line 2103"/>
          <p:cNvSpPr/>
          <p:nvPr/>
        </p:nvSpPr>
        <p:spPr>
          <a:xfrm>
            <a:off x="6842160" y="4676760"/>
            <a:ext cx="1609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Line 2104"/>
          <p:cNvSpPr/>
          <p:nvPr/>
        </p:nvSpPr>
        <p:spPr>
          <a:xfrm>
            <a:off x="6829560" y="4686480"/>
            <a:ext cx="0" cy="22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Line 2105"/>
          <p:cNvSpPr/>
          <p:nvPr/>
        </p:nvSpPr>
        <p:spPr>
          <a:xfrm>
            <a:off x="8453520" y="4670280"/>
            <a:ext cx="0" cy="222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Oval 2106"/>
          <p:cNvSpPr/>
          <p:nvPr/>
        </p:nvSpPr>
        <p:spPr>
          <a:xfrm>
            <a:off x="6407280" y="5938920"/>
            <a:ext cx="807840" cy="769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Line 2107"/>
          <p:cNvSpPr/>
          <p:nvPr/>
        </p:nvSpPr>
        <p:spPr>
          <a:xfrm>
            <a:off x="7594560" y="4451400"/>
            <a:ext cx="0" cy="235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Rectangle 2108"/>
          <p:cNvSpPr/>
          <p:nvPr/>
        </p:nvSpPr>
        <p:spPr>
          <a:xfrm>
            <a:off x="6534360" y="6059520"/>
            <a:ext cx="5533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Line 2109"/>
          <p:cNvSpPr/>
          <p:nvPr/>
        </p:nvSpPr>
        <p:spPr>
          <a:xfrm>
            <a:off x="6804000" y="5443560"/>
            <a:ext cx="0" cy="482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Oval 2110"/>
          <p:cNvSpPr/>
          <p:nvPr/>
        </p:nvSpPr>
        <p:spPr>
          <a:xfrm>
            <a:off x="8064360" y="5918040"/>
            <a:ext cx="808200" cy="770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Rectangle 2111"/>
          <p:cNvSpPr/>
          <p:nvPr/>
        </p:nvSpPr>
        <p:spPr>
          <a:xfrm>
            <a:off x="8035200" y="6039000"/>
            <a:ext cx="876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yel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Line 2112"/>
          <p:cNvSpPr/>
          <p:nvPr/>
        </p:nvSpPr>
        <p:spPr>
          <a:xfrm>
            <a:off x="8461440" y="5423040"/>
            <a:ext cx="0" cy="482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 Box 66"/>
          <p:cNvSpPr/>
          <p:nvPr/>
        </p:nvSpPr>
        <p:spPr>
          <a:xfrm>
            <a:off x="320760" y="3497400"/>
            <a:ext cx="10396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Times New Roman"/>
              </a:rPr>
              <a:t>These are its descendant nod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Line 67"/>
          <p:cNvSpPr/>
          <p:nvPr/>
        </p:nvSpPr>
        <p:spPr>
          <a:xfrm flipH="1">
            <a:off x="796680" y="4384800"/>
            <a:ext cx="27000" cy="519120"/>
          </a:xfrm>
          <a:prstGeom prst="line">
            <a:avLst/>
          </a:prstGeom>
          <a:ln w="255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Line 68"/>
          <p:cNvSpPr/>
          <p:nvPr/>
        </p:nvSpPr>
        <p:spPr>
          <a:xfrm>
            <a:off x="806400" y="4381560"/>
            <a:ext cx="1300320" cy="557280"/>
          </a:xfrm>
          <a:prstGeom prst="line">
            <a:avLst/>
          </a:prstGeom>
          <a:ln w="255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Line 69"/>
          <p:cNvSpPr/>
          <p:nvPr/>
        </p:nvSpPr>
        <p:spPr>
          <a:xfrm>
            <a:off x="824040" y="4383000"/>
            <a:ext cx="1533240" cy="1641600"/>
          </a:xfrm>
          <a:prstGeom prst="line">
            <a:avLst/>
          </a:prstGeom>
          <a:ln w="255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Line 70"/>
          <p:cNvSpPr/>
          <p:nvPr/>
        </p:nvSpPr>
        <p:spPr>
          <a:xfrm>
            <a:off x="833400" y="4419720"/>
            <a:ext cx="295200" cy="1549440"/>
          </a:xfrm>
          <a:prstGeom prst="line">
            <a:avLst/>
          </a:prstGeom>
          <a:ln w="255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AutoShape 2051"/>
          <p:cNvSpPr/>
          <p:nvPr/>
        </p:nvSpPr>
        <p:spPr>
          <a:xfrm>
            <a:off x="3017880" y="1498680"/>
            <a:ext cx="1130400" cy="901800"/>
          </a:xfrm>
          <a:custGeom>
            <a:avLst/>
            <a:gdLst/>
            <a:ahLst/>
            <a:rect l="l" t="t" r="r" b="b"/>
            <a:pathLst>
              <a:path w="1130300" h="901700">
                <a:moveTo>
                  <a:pt x="1" y="344418"/>
                </a:moveTo>
                <a:lnTo>
                  <a:pt x="431739" y="344420"/>
                </a:lnTo>
                <a:lnTo>
                  <a:pt x="565150" y="0"/>
                </a:lnTo>
                <a:lnTo>
                  <a:pt x="698561" y="344420"/>
                </a:lnTo>
                <a:lnTo>
                  <a:pt x="1130299" y="344418"/>
                </a:lnTo>
                <a:lnTo>
                  <a:pt x="781014" y="557279"/>
                </a:lnTo>
                <a:lnTo>
                  <a:pt x="914431" y="901698"/>
                </a:lnTo>
                <a:lnTo>
                  <a:pt x="565150" y="688833"/>
                </a:lnTo>
                <a:lnTo>
                  <a:pt x="215869" y="901698"/>
                </a:lnTo>
                <a:lnTo>
                  <a:pt x="349286" y="557279"/>
                </a:lnTo>
                <a:lnTo>
                  <a:pt x="1" y="344418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Rectangle 2052"/>
          <p:cNvSpPr/>
          <p:nvPr/>
        </p:nvSpPr>
        <p:spPr>
          <a:xfrm>
            <a:off x="3187800" y="1806480"/>
            <a:ext cx="84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ocu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AutoShape 2053"/>
          <p:cNvSpPr/>
          <p:nvPr/>
        </p:nvSpPr>
        <p:spPr>
          <a:xfrm>
            <a:off x="136440" y="2787480"/>
            <a:ext cx="1735200" cy="6400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Rectangle 2054"/>
          <p:cNvSpPr/>
          <p:nvPr/>
        </p:nvSpPr>
        <p:spPr>
          <a:xfrm>
            <a:off x="222840" y="2806560"/>
            <a:ext cx="1620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?xml version=“1.0”?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Rectangle 2055"/>
          <p:cNvSpPr/>
          <p:nvPr/>
        </p:nvSpPr>
        <p:spPr>
          <a:xfrm>
            <a:off x="6176880" y="2803680"/>
            <a:ext cx="1057320" cy="495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Rectangle 2056"/>
          <p:cNvSpPr/>
          <p:nvPr/>
        </p:nvSpPr>
        <p:spPr>
          <a:xfrm>
            <a:off x="6212520" y="2833560"/>
            <a:ext cx="1019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tness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Rectangle 2057"/>
          <p:cNvSpPr/>
          <p:nvPr/>
        </p:nvSpPr>
        <p:spPr>
          <a:xfrm>
            <a:off x="1285920" y="3959280"/>
            <a:ext cx="1057320" cy="49536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Rectangle 2058"/>
          <p:cNvSpPr/>
          <p:nvPr/>
        </p:nvSpPr>
        <p:spPr>
          <a:xfrm>
            <a:off x="1467360" y="3989520"/>
            <a:ext cx="722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Rectangle 2059"/>
          <p:cNvSpPr/>
          <p:nvPr/>
        </p:nvSpPr>
        <p:spPr>
          <a:xfrm>
            <a:off x="4197240" y="3932280"/>
            <a:ext cx="1057320" cy="49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Rectangle 2060"/>
          <p:cNvSpPr/>
          <p:nvPr/>
        </p:nvSpPr>
        <p:spPr>
          <a:xfrm>
            <a:off x="4379040" y="3962520"/>
            <a:ext cx="722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Rectangle 2061"/>
          <p:cNvSpPr/>
          <p:nvPr/>
        </p:nvSpPr>
        <p:spPr>
          <a:xfrm>
            <a:off x="7002360" y="3941640"/>
            <a:ext cx="1057320" cy="49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2062"/>
          <p:cNvSpPr/>
          <p:nvPr/>
        </p:nvSpPr>
        <p:spPr>
          <a:xfrm>
            <a:off x="7184160" y="3971880"/>
            <a:ext cx="722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Line 2063"/>
          <p:cNvSpPr/>
          <p:nvPr/>
        </p:nvSpPr>
        <p:spPr>
          <a:xfrm>
            <a:off x="1020600" y="2235240"/>
            <a:ext cx="5664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Line 2064"/>
          <p:cNvSpPr/>
          <p:nvPr/>
        </p:nvSpPr>
        <p:spPr>
          <a:xfrm>
            <a:off x="1014480" y="2241720"/>
            <a:ext cx="0" cy="522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Line 2065"/>
          <p:cNvSpPr/>
          <p:nvPr/>
        </p:nvSpPr>
        <p:spPr>
          <a:xfrm>
            <a:off x="6702480" y="2254320"/>
            <a:ext cx="0" cy="522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Line 2066"/>
          <p:cNvSpPr/>
          <p:nvPr/>
        </p:nvSpPr>
        <p:spPr>
          <a:xfrm>
            <a:off x="1790640" y="3618000"/>
            <a:ext cx="57578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Line 2067"/>
          <p:cNvSpPr/>
          <p:nvPr/>
        </p:nvSpPr>
        <p:spPr>
          <a:xfrm>
            <a:off x="1817640" y="3637080"/>
            <a:ext cx="0" cy="29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Line 2068"/>
          <p:cNvSpPr/>
          <p:nvPr/>
        </p:nvSpPr>
        <p:spPr>
          <a:xfrm>
            <a:off x="4722840" y="3619440"/>
            <a:ext cx="0" cy="30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Line 2069"/>
          <p:cNvSpPr/>
          <p:nvPr/>
        </p:nvSpPr>
        <p:spPr>
          <a:xfrm>
            <a:off x="7531200" y="3632040"/>
            <a:ext cx="0" cy="30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Rectangle 2070"/>
          <p:cNvSpPr/>
          <p:nvPr/>
        </p:nvSpPr>
        <p:spPr>
          <a:xfrm>
            <a:off x="531720" y="4946760"/>
            <a:ext cx="1057320" cy="49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Rectangle 2071"/>
          <p:cNvSpPr/>
          <p:nvPr/>
        </p:nvSpPr>
        <p:spPr>
          <a:xfrm>
            <a:off x="713520" y="4976640"/>
            <a:ext cx="722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2072"/>
          <p:cNvSpPr/>
          <p:nvPr/>
        </p:nvSpPr>
        <p:spPr>
          <a:xfrm>
            <a:off x="2117880" y="4917960"/>
            <a:ext cx="1056960" cy="49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Rectangle 2073"/>
          <p:cNvSpPr/>
          <p:nvPr/>
        </p:nvSpPr>
        <p:spPr>
          <a:xfrm>
            <a:off x="2143800" y="4948200"/>
            <a:ext cx="10364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voriteCol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Line 2074"/>
          <p:cNvSpPr/>
          <p:nvPr/>
        </p:nvSpPr>
        <p:spPr>
          <a:xfrm>
            <a:off x="1036800" y="4686480"/>
            <a:ext cx="1609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Line 2075"/>
          <p:cNvSpPr/>
          <p:nvPr/>
        </p:nvSpPr>
        <p:spPr>
          <a:xfrm>
            <a:off x="1023840" y="4695840"/>
            <a:ext cx="0" cy="22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Line 2076"/>
          <p:cNvSpPr/>
          <p:nvPr/>
        </p:nvSpPr>
        <p:spPr>
          <a:xfrm>
            <a:off x="2647800" y="4680000"/>
            <a:ext cx="0" cy="22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Oval 2077"/>
          <p:cNvSpPr/>
          <p:nvPr/>
        </p:nvSpPr>
        <p:spPr>
          <a:xfrm>
            <a:off x="601560" y="5948280"/>
            <a:ext cx="808200" cy="770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Line 2078"/>
          <p:cNvSpPr/>
          <p:nvPr/>
        </p:nvSpPr>
        <p:spPr>
          <a:xfrm>
            <a:off x="1789200" y="4460760"/>
            <a:ext cx="0" cy="235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Line 2079"/>
          <p:cNvSpPr/>
          <p:nvPr/>
        </p:nvSpPr>
        <p:spPr>
          <a:xfrm>
            <a:off x="6729480" y="3311640"/>
            <a:ext cx="0" cy="312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Rectangle 2080"/>
          <p:cNvSpPr/>
          <p:nvPr/>
        </p:nvSpPr>
        <p:spPr>
          <a:xfrm>
            <a:off x="767160" y="6068880"/>
            <a:ext cx="477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e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Line 2081"/>
          <p:cNvSpPr/>
          <p:nvPr/>
        </p:nvSpPr>
        <p:spPr>
          <a:xfrm>
            <a:off x="998640" y="5452920"/>
            <a:ext cx="0" cy="482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Oval 2082"/>
          <p:cNvSpPr/>
          <p:nvPr/>
        </p:nvSpPr>
        <p:spPr>
          <a:xfrm>
            <a:off x="2259000" y="5927760"/>
            <a:ext cx="808200" cy="770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Rectangle 2083"/>
          <p:cNvSpPr/>
          <p:nvPr/>
        </p:nvSpPr>
        <p:spPr>
          <a:xfrm>
            <a:off x="2299680" y="6048360"/>
            <a:ext cx="731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gr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Line 2084"/>
          <p:cNvSpPr/>
          <p:nvPr/>
        </p:nvSpPr>
        <p:spPr>
          <a:xfrm>
            <a:off x="2655720" y="5432400"/>
            <a:ext cx="0" cy="482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Rectangle 2085"/>
          <p:cNvSpPr/>
          <p:nvPr/>
        </p:nvSpPr>
        <p:spPr>
          <a:xfrm>
            <a:off x="3470400" y="4927680"/>
            <a:ext cx="1057320" cy="49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Rectangle 2086"/>
          <p:cNvSpPr/>
          <p:nvPr/>
        </p:nvSpPr>
        <p:spPr>
          <a:xfrm>
            <a:off x="3651840" y="4957920"/>
            <a:ext cx="722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Rectangle 2087"/>
          <p:cNvSpPr/>
          <p:nvPr/>
        </p:nvSpPr>
        <p:spPr>
          <a:xfrm>
            <a:off x="5056200" y="4898880"/>
            <a:ext cx="1057320" cy="49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Rectangle 2088"/>
          <p:cNvSpPr/>
          <p:nvPr/>
        </p:nvSpPr>
        <p:spPr>
          <a:xfrm>
            <a:off x="5082480" y="4929120"/>
            <a:ext cx="10364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voriteCol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Line 2089"/>
          <p:cNvSpPr/>
          <p:nvPr/>
        </p:nvSpPr>
        <p:spPr>
          <a:xfrm>
            <a:off x="3975120" y="4667400"/>
            <a:ext cx="1609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Line 2090"/>
          <p:cNvSpPr/>
          <p:nvPr/>
        </p:nvSpPr>
        <p:spPr>
          <a:xfrm>
            <a:off x="3962520" y="4676760"/>
            <a:ext cx="0" cy="22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Line 2091"/>
          <p:cNvSpPr/>
          <p:nvPr/>
        </p:nvSpPr>
        <p:spPr>
          <a:xfrm>
            <a:off x="5586480" y="4660920"/>
            <a:ext cx="0" cy="22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Oval 2092"/>
          <p:cNvSpPr/>
          <p:nvPr/>
        </p:nvSpPr>
        <p:spPr>
          <a:xfrm>
            <a:off x="3540240" y="5929200"/>
            <a:ext cx="807840" cy="770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Line 2093"/>
          <p:cNvSpPr/>
          <p:nvPr/>
        </p:nvSpPr>
        <p:spPr>
          <a:xfrm>
            <a:off x="4727520" y="4441680"/>
            <a:ext cx="0" cy="235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Rectangle 2094"/>
          <p:cNvSpPr/>
          <p:nvPr/>
        </p:nvSpPr>
        <p:spPr>
          <a:xfrm>
            <a:off x="3667320" y="6049800"/>
            <a:ext cx="5533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v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Line 2095"/>
          <p:cNvSpPr/>
          <p:nvPr/>
        </p:nvSpPr>
        <p:spPr>
          <a:xfrm>
            <a:off x="3936960" y="5433840"/>
            <a:ext cx="0" cy="482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Oval 2096"/>
          <p:cNvSpPr/>
          <p:nvPr/>
        </p:nvSpPr>
        <p:spPr>
          <a:xfrm>
            <a:off x="5197320" y="5908680"/>
            <a:ext cx="808200" cy="770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Rectangle 2097"/>
          <p:cNvSpPr/>
          <p:nvPr/>
        </p:nvSpPr>
        <p:spPr>
          <a:xfrm>
            <a:off x="5242680" y="6029280"/>
            <a:ext cx="7239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b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Line 2098"/>
          <p:cNvSpPr/>
          <p:nvPr/>
        </p:nvSpPr>
        <p:spPr>
          <a:xfrm>
            <a:off x="5594400" y="5413320"/>
            <a:ext cx="0" cy="482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Rectangle 2099"/>
          <p:cNvSpPr/>
          <p:nvPr/>
        </p:nvSpPr>
        <p:spPr>
          <a:xfrm>
            <a:off x="6337440" y="4937040"/>
            <a:ext cx="1056960" cy="49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Rectangle 2100"/>
          <p:cNvSpPr/>
          <p:nvPr/>
        </p:nvSpPr>
        <p:spPr>
          <a:xfrm>
            <a:off x="6518880" y="4967280"/>
            <a:ext cx="722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Rectangle 2101"/>
          <p:cNvSpPr/>
          <p:nvPr/>
        </p:nvSpPr>
        <p:spPr>
          <a:xfrm>
            <a:off x="7923240" y="4908600"/>
            <a:ext cx="1057320" cy="49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Rectangle 2102"/>
          <p:cNvSpPr/>
          <p:nvPr/>
        </p:nvSpPr>
        <p:spPr>
          <a:xfrm>
            <a:off x="7949160" y="4938840"/>
            <a:ext cx="10364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voriteCol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Line 2103"/>
          <p:cNvSpPr/>
          <p:nvPr/>
        </p:nvSpPr>
        <p:spPr>
          <a:xfrm>
            <a:off x="6842160" y="4676760"/>
            <a:ext cx="1609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Line 2104"/>
          <p:cNvSpPr/>
          <p:nvPr/>
        </p:nvSpPr>
        <p:spPr>
          <a:xfrm>
            <a:off x="6829560" y="4686480"/>
            <a:ext cx="0" cy="22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Line 2105"/>
          <p:cNvSpPr/>
          <p:nvPr/>
        </p:nvSpPr>
        <p:spPr>
          <a:xfrm>
            <a:off x="8453520" y="4670280"/>
            <a:ext cx="0" cy="222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Oval 2106"/>
          <p:cNvSpPr/>
          <p:nvPr/>
        </p:nvSpPr>
        <p:spPr>
          <a:xfrm>
            <a:off x="6407280" y="5938920"/>
            <a:ext cx="807840" cy="769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Line 2107"/>
          <p:cNvSpPr/>
          <p:nvPr/>
        </p:nvSpPr>
        <p:spPr>
          <a:xfrm>
            <a:off x="7594560" y="4451400"/>
            <a:ext cx="0" cy="235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Rectangle 2108"/>
          <p:cNvSpPr/>
          <p:nvPr/>
        </p:nvSpPr>
        <p:spPr>
          <a:xfrm>
            <a:off x="6534360" y="6059520"/>
            <a:ext cx="5533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Line 2109"/>
          <p:cNvSpPr/>
          <p:nvPr/>
        </p:nvSpPr>
        <p:spPr>
          <a:xfrm>
            <a:off x="6804000" y="5443560"/>
            <a:ext cx="0" cy="482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Oval 2110"/>
          <p:cNvSpPr/>
          <p:nvPr/>
        </p:nvSpPr>
        <p:spPr>
          <a:xfrm>
            <a:off x="8064360" y="5918040"/>
            <a:ext cx="808200" cy="770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Rectangle 2111"/>
          <p:cNvSpPr/>
          <p:nvPr/>
        </p:nvSpPr>
        <p:spPr>
          <a:xfrm>
            <a:off x="8035200" y="6039000"/>
            <a:ext cx="876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yel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Line 2112"/>
          <p:cNvSpPr/>
          <p:nvPr/>
        </p:nvSpPr>
        <p:spPr>
          <a:xfrm>
            <a:off x="8461440" y="5423040"/>
            <a:ext cx="0" cy="482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Text Box 67"/>
          <p:cNvSpPr/>
          <p:nvPr/>
        </p:nvSpPr>
        <p:spPr>
          <a:xfrm>
            <a:off x="185760" y="3927600"/>
            <a:ext cx="1157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Times New Roman"/>
              </a:rPr>
              <a:t>This is the context 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18T10:42:01Z</dcterms:created>
  <dc:creator>Roger L. Costello</dc:creator>
  <dc:description/>
  <cp:keywords>XPath</cp:keywords>
  <dc:language>en-US</dc:language>
  <cp:lastModifiedBy>Costello, Roger L.</cp:lastModifiedBy>
  <dcterms:modified xsi:type="dcterms:W3CDTF">2012-12-14T20:05:11Z</dcterms:modified>
  <cp:revision>1244</cp:revision>
  <dc:subject/>
  <dc:title>Quick Intro to XPath</dc:title>
</cp:coreProperties>
</file>