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C12-058B-4EA8-8247-75D9E8DF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A12-169D-4223-95A3-D20E86FF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E71-8765-4076-B33C-0CE811E4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98F-8B56-4ED7-B5DA-04CA14AC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488-6279-41DF-AC48-FC87B0E5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241-E2BC-4973-B326-92F31636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1F8-D2EA-4D9B-9FBD-264E84E9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BEE-3101-4225-AC22-67408B19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D92-66C3-4AF3-912B-08225FC8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664-5E14-4D85-AE32-D0D78C7E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03F-3F32-4289-8EF4-E364AE00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28C-050B-4952-ABC5-78DE33A6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466120" y="63943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D569-1C93-4B0E-A472-EA5835DC461C}" type="slidenum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-79560" y="-228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Times New Roman"/>
              </a:rPr>
              <a:t>Copyright </a:t>
            </a:r>
            <a:r>
              <a:rPr b="1" lang="en-US" sz="1000" spc="-1" strike="noStrike">
                <a:solidFill>
                  <a:srgbClr val="c8c8c8"/>
                </a:solidFill>
                <a:latin typeface="Times New Roman"/>
              </a:rPr>
              <a:t>©</a:t>
            </a:r>
            <a:r>
              <a:rPr b="0" lang="en-US" sz="1000" spc="-1" strike="noStrike">
                <a:solidFill>
                  <a:srgbClr val="c8c8c8"/>
                </a:solidFill>
                <a:latin typeface="Times New Roman"/>
              </a:rPr>
              <a:t> [2010].  Roger L. Costello. 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axonica.com/" TargetMode="External"/><Relationship Id="rId2" Type="http://schemas.openxmlformats.org/officeDocument/2006/relationships/hyperlink" Target="http://xerces.apache.org/xerces2-j/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XML Schema 1.1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for Mana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329520" y="5995800"/>
            <a:ext cx="2814480" cy="43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oger L. Cost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http://www.xfro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 December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s permanent sto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3576600" y="1693800"/>
            <a:ext cx="1437480" cy="1432440"/>
            <a:chOff x="3576600" y="1693800"/>
            <a:chExt cx="1437480" cy="1432440"/>
          </a:xfrm>
        </p:grpSpPr>
        <p:sp>
          <p:nvSpPr>
            <p:cNvPr id="114" name="Rectangle 6"/>
            <p:cNvSpPr/>
            <p:nvPr/>
          </p:nvSpPr>
          <p:spPr>
            <a:xfrm>
              <a:off x="3576600" y="2141640"/>
              <a:ext cx="460440" cy="5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4455000" y="169380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4464720" y="220356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4459680" y="272736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 flipH="1">
              <a:off x="4064040" y="1895400"/>
              <a:ext cx="38880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 flipH="1">
              <a:off x="4049640" y="2401920"/>
              <a:ext cx="38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 flipH="1" flipV="1">
              <a:off x="4035240" y="2588760"/>
              <a:ext cx="40320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13"/>
          <p:cNvGrpSpPr/>
          <p:nvPr/>
        </p:nvGrpSpPr>
        <p:grpSpPr>
          <a:xfrm>
            <a:off x="997920" y="4892760"/>
            <a:ext cx="6837120" cy="1324080"/>
            <a:chOff x="997920" y="4892760"/>
            <a:chExt cx="6837120" cy="1324080"/>
          </a:xfrm>
        </p:grpSpPr>
        <p:grpSp>
          <p:nvGrpSpPr>
            <p:cNvPr id="122" name="Group 14"/>
            <p:cNvGrpSpPr/>
            <p:nvPr/>
          </p:nvGrpSpPr>
          <p:grpSpPr>
            <a:xfrm>
              <a:off x="2570400" y="5280120"/>
              <a:ext cx="472680" cy="566280"/>
              <a:chOff x="2570400" y="5280120"/>
              <a:chExt cx="472680" cy="566280"/>
            </a:xfrm>
          </p:grpSpPr>
          <p:sp>
            <p:nvSpPr>
              <p:cNvPr id="123" name="Oval 15"/>
              <p:cNvSpPr/>
              <p:nvPr/>
            </p:nvSpPr>
            <p:spPr>
              <a:xfrm>
                <a:off x="2700360" y="5280120"/>
                <a:ext cx="209160" cy="228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16"/>
              <p:cNvSpPr/>
              <p:nvPr/>
            </p:nvSpPr>
            <p:spPr>
              <a:xfrm>
                <a:off x="2806560" y="550368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7"/>
              <p:cNvSpPr/>
              <p:nvPr/>
            </p:nvSpPr>
            <p:spPr>
              <a:xfrm flipH="1">
                <a:off x="2708280" y="5707080"/>
                <a:ext cx="97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8"/>
              <p:cNvSpPr/>
              <p:nvPr/>
            </p:nvSpPr>
            <p:spPr>
              <a:xfrm>
                <a:off x="2806560" y="5699160"/>
                <a:ext cx="9828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9"/>
              <p:cNvSpPr/>
              <p:nvPr/>
            </p:nvSpPr>
            <p:spPr>
              <a:xfrm flipH="1" flipV="1">
                <a:off x="2570400" y="5494320"/>
                <a:ext cx="236160" cy="9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20"/>
              <p:cNvSpPr/>
              <p:nvPr/>
            </p:nvSpPr>
            <p:spPr>
              <a:xfrm flipV="1">
                <a:off x="2806560" y="5511600"/>
                <a:ext cx="236520" cy="8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Line 21"/>
            <p:cNvSpPr/>
            <p:nvPr/>
          </p:nvSpPr>
          <p:spPr>
            <a:xfrm>
              <a:off x="1627200" y="5546880"/>
              <a:ext cx="85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2"/>
            <p:cNvSpPr/>
            <p:nvPr/>
          </p:nvSpPr>
          <p:spPr>
            <a:xfrm>
              <a:off x="1773360" y="4892760"/>
              <a:ext cx="506520" cy="531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3144960" y="5548320"/>
              <a:ext cx="85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3291120" y="4894560"/>
              <a:ext cx="506520" cy="531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Picture 25" descr="BD21301_"/>
            <p:cNvPicPr/>
            <p:nvPr/>
          </p:nvPicPr>
          <p:blipFill>
            <a:blip r:embed="rId1"/>
            <a:stretch/>
          </p:blipFill>
          <p:spPr>
            <a:xfrm>
              <a:off x="3484800" y="509292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Group 26"/>
            <p:cNvGrpSpPr/>
            <p:nvPr/>
          </p:nvGrpSpPr>
          <p:grpSpPr>
            <a:xfrm>
              <a:off x="4079520" y="5281560"/>
              <a:ext cx="473760" cy="567000"/>
              <a:chOff x="4079520" y="5281560"/>
              <a:chExt cx="473760" cy="567000"/>
            </a:xfrm>
          </p:grpSpPr>
          <p:sp>
            <p:nvSpPr>
              <p:cNvPr id="135" name="Oval 27"/>
              <p:cNvSpPr/>
              <p:nvPr/>
            </p:nvSpPr>
            <p:spPr>
              <a:xfrm>
                <a:off x="4210200" y="5281560"/>
                <a:ext cx="20952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28"/>
              <p:cNvSpPr/>
              <p:nvPr/>
            </p:nvSpPr>
            <p:spPr>
              <a:xfrm>
                <a:off x="4316400" y="550548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29"/>
              <p:cNvSpPr/>
              <p:nvPr/>
            </p:nvSpPr>
            <p:spPr>
              <a:xfrm flipH="1">
                <a:off x="4217760" y="5708880"/>
                <a:ext cx="9828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30"/>
              <p:cNvSpPr/>
              <p:nvPr/>
            </p:nvSpPr>
            <p:spPr>
              <a:xfrm>
                <a:off x="4316400" y="5700960"/>
                <a:ext cx="9864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31"/>
              <p:cNvSpPr/>
              <p:nvPr/>
            </p:nvSpPr>
            <p:spPr>
              <a:xfrm flipH="1" flipV="1">
                <a:off x="4079520" y="5495760"/>
                <a:ext cx="236520" cy="9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32"/>
              <p:cNvSpPr/>
              <p:nvPr/>
            </p:nvSpPr>
            <p:spPr>
              <a:xfrm flipV="1">
                <a:off x="4316400" y="5513040"/>
                <a:ext cx="236880" cy="8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Line 33"/>
            <p:cNvSpPr/>
            <p:nvPr/>
          </p:nvSpPr>
          <p:spPr>
            <a:xfrm>
              <a:off x="4654800" y="5550120"/>
              <a:ext cx="85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34"/>
            <p:cNvSpPr/>
            <p:nvPr/>
          </p:nvSpPr>
          <p:spPr>
            <a:xfrm>
              <a:off x="4800600" y="4896000"/>
              <a:ext cx="506520" cy="531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Picture 35" descr="BD21301_"/>
            <p:cNvPicPr/>
            <p:nvPr/>
          </p:nvPicPr>
          <p:blipFill>
            <a:blip r:embed="rId2"/>
            <a:stretch/>
          </p:blipFill>
          <p:spPr>
            <a:xfrm>
              <a:off x="4907160" y="509436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6" descr="BD21301_"/>
            <p:cNvPicPr/>
            <p:nvPr/>
          </p:nvPicPr>
          <p:blipFill>
            <a:blip r:embed="rId3"/>
            <a:stretch/>
          </p:blipFill>
          <p:spPr>
            <a:xfrm>
              <a:off x="5059440" y="509616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" name="Group 37"/>
            <p:cNvGrpSpPr/>
            <p:nvPr/>
          </p:nvGrpSpPr>
          <p:grpSpPr>
            <a:xfrm>
              <a:off x="5589720" y="5283360"/>
              <a:ext cx="472680" cy="566280"/>
              <a:chOff x="5589720" y="5283360"/>
              <a:chExt cx="472680" cy="566280"/>
            </a:xfrm>
          </p:grpSpPr>
          <p:sp>
            <p:nvSpPr>
              <p:cNvPr id="146" name="Oval 38"/>
              <p:cNvSpPr/>
              <p:nvPr/>
            </p:nvSpPr>
            <p:spPr>
              <a:xfrm>
                <a:off x="5719680" y="5283360"/>
                <a:ext cx="209160" cy="228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39"/>
              <p:cNvSpPr/>
              <p:nvPr/>
            </p:nvSpPr>
            <p:spPr>
              <a:xfrm>
                <a:off x="5825880" y="550692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40"/>
              <p:cNvSpPr/>
              <p:nvPr/>
            </p:nvSpPr>
            <p:spPr>
              <a:xfrm flipH="1">
                <a:off x="5727600" y="5710320"/>
                <a:ext cx="97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41"/>
              <p:cNvSpPr/>
              <p:nvPr/>
            </p:nvSpPr>
            <p:spPr>
              <a:xfrm>
                <a:off x="5825880" y="5702400"/>
                <a:ext cx="9828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42"/>
              <p:cNvSpPr/>
              <p:nvPr/>
            </p:nvSpPr>
            <p:spPr>
              <a:xfrm flipH="1" flipV="1">
                <a:off x="5589720" y="5497560"/>
                <a:ext cx="236160" cy="9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43"/>
              <p:cNvSpPr/>
              <p:nvPr/>
            </p:nvSpPr>
            <p:spPr>
              <a:xfrm flipV="1">
                <a:off x="5825880" y="5514840"/>
                <a:ext cx="236520" cy="8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Line 44"/>
            <p:cNvSpPr/>
            <p:nvPr/>
          </p:nvSpPr>
          <p:spPr>
            <a:xfrm>
              <a:off x="6164280" y="5551560"/>
              <a:ext cx="85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45"/>
            <p:cNvSpPr/>
            <p:nvPr/>
          </p:nvSpPr>
          <p:spPr>
            <a:xfrm>
              <a:off x="6310440" y="4897440"/>
              <a:ext cx="506520" cy="532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Picture 46" descr="BD21301_"/>
            <p:cNvPicPr/>
            <p:nvPr/>
          </p:nvPicPr>
          <p:blipFill>
            <a:blip r:embed="rId4"/>
            <a:stretch/>
          </p:blipFill>
          <p:spPr>
            <a:xfrm>
              <a:off x="6353280" y="509616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7" descr="BD21301_"/>
            <p:cNvPicPr/>
            <p:nvPr/>
          </p:nvPicPr>
          <p:blipFill>
            <a:blip r:embed="rId5"/>
            <a:stretch/>
          </p:blipFill>
          <p:spPr>
            <a:xfrm>
              <a:off x="6505920" y="5097600"/>
              <a:ext cx="12348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8" descr="BD21301_"/>
            <p:cNvPicPr/>
            <p:nvPr/>
          </p:nvPicPr>
          <p:blipFill>
            <a:blip r:embed="rId6"/>
            <a:stretch/>
          </p:blipFill>
          <p:spPr>
            <a:xfrm>
              <a:off x="6658200" y="509904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Group 49"/>
            <p:cNvGrpSpPr/>
            <p:nvPr/>
          </p:nvGrpSpPr>
          <p:grpSpPr>
            <a:xfrm>
              <a:off x="7083720" y="5284800"/>
              <a:ext cx="472680" cy="567000"/>
              <a:chOff x="7083720" y="5284800"/>
              <a:chExt cx="472680" cy="567000"/>
            </a:xfrm>
          </p:grpSpPr>
          <p:sp>
            <p:nvSpPr>
              <p:cNvPr id="158" name="Oval 50"/>
              <p:cNvSpPr/>
              <p:nvPr/>
            </p:nvSpPr>
            <p:spPr>
              <a:xfrm>
                <a:off x="7213680" y="5284800"/>
                <a:ext cx="20916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51"/>
              <p:cNvSpPr/>
              <p:nvPr/>
            </p:nvSpPr>
            <p:spPr>
              <a:xfrm>
                <a:off x="7319880" y="550872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52"/>
              <p:cNvSpPr/>
              <p:nvPr/>
            </p:nvSpPr>
            <p:spPr>
              <a:xfrm flipH="1">
                <a:off x="7221600" y="5712120"/>
                <a:ext cx="9792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53"/>
              <p:cNvSpPr/>
              <p:nvPr/>
            </p:nvSpPr>
            <p:spPr>
              <a:xfrm>
                <a:off x="7319880" y="5704200"/>
                <a:ext cx="9828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54"/>
              <p:cNvSpPr/>
              <p:nvPr/>
            </p:nvSpPr>
            <p:spPr>
              <a:xfrm flipH="1" flipV="1">
                <a:off x="7083720" y="5499000"/>
                <a:ext cx="236160" cy="9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55"/>
              <p:cNvSpPr/>
              <p:nvPr/>
            </p:nvSpPr>
            <p:spPr>
              <a:xfrm flipV="1">
                <a:off x="7319880" y="5516280"/>
                <a:ext cx="236520" cy="8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56"/>
            <p:cNvGrpSpPr/>
            <p:nvPr/>
          </p:nvGrpSpPr>
          <p:grpSpPr>
            <a:xfrm>
              <a:off x="1063800" y="5273640"/>
              <a:ext cx="472680" cy="567000"/>
              <a:chOff x="1063800" y="5273640"/>
              <a:chExt cx="472680" cy="567000"/>
            </a:xfrm>
          </p:grpSpPr>
          <p:sp>
            <p:nvSpPr>
              <p:cNvPr id="165" name="Oval 57"/>
              <p:cNvSpPr/>
              <p:nvPr/>
            </p:nvSpPr>
            <p:spPr>
              <a:xfrm>
                <a:off x="1193760" y="5273640"/>
                <a:ext cx="20916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58"/>
              <p:cNvSpPr/>
              <p:nvPr/>
            </p:nvSpPr>
            <p:spPr>
              <a:xfrm>
                <a:off x="1299960" y="549756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59"/>
              <p:cNvSpPr/>
              <p:nvPr/>
            </p:nvSpPr>
            <p:spPr>
              <a:xfrm flipH="1">
                <a:off x="1201680" y="5700960"/>
                <a:ext cx="9792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60"/>
              <p:cNvSpPr/>
              <p:nvPr/>
            </p:nvSpPr>
            <p:spPr>
              <a:xfrm>
                <a:off x="1299960" y="5693040"/>
                <a:ext cx="9828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61"/>
              <p:cNvSpPr/>
              <p:nvPr/>
            </p:nvSpPr>
            <p:spPr>
              <a:xfrm flipH="1" flipV="1">
                <a:off x="1063800" y="5487840"/>
                <a:ext cx="236160" cy="9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62"/>
              <p:cNvSpPr/>
              <p:nvPr/>
            </p:nvSpPr>
            <p:spPr>
              <a:xfrm flipV="1">
                <a:off x="1299960" y="5505120"/>
                <a:ext cx="236520" cy="8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Text Box 63"/>
            <p:cNvSpPr/>
            <p:nvPr/>
          </p:nvSpPr>
          <p:spPr>
            <a:xfrm>
              <a:off x="997920" y="58420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64"/>
            <p:cNvSpPr/>
            <p:nvPr/>
          </p:nvSpPr>
          <p:spPr>
            <a:xfrm>
              <a:off x="2467800" y="58485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l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5"/>
            <p:cNvSpPr/>
            <p:nvPr/>
          </p:nvSpPr>
          <p:spPr>
            <a:xfrm>
              <a:off x="3988080" y="5848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66"/>
            <p:cNvSpPr/>
            <p:nvPr/>
          </p:nvSpPr>
          <p:spPr>
            <a:xfrm>
              <a:off x="5618880" y="584208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i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67"/>
            <p:cNvSpPr/>
            <p:nvPr/>
          </p:nvSpPr>
          <p:spPr>
            <a:xfrm>
              <a:off x="6817680" y="58420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ho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Text Box 71"/>
          <p:cNvSpPr/>
          <p:nvPr/>
        </p:nvSpPr>
        <p:spPr>
          <a:xfrm>
            <a:off x="1630440" y="3710160"/>
            <a:ext cx="54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occurring in the form of a work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72"/>
          <p:cNvSpPr/>
          <p:nvPr/>
        </p:nvSpPr>
        <p:spPr>
          <a:xfrm rot="16200000">
            <a:off x="4226040" y="2666880"/>
            <a:ext cx="225360" cy="1479600"/>
          </a:xfrm>
          <a:custGeom>
            <a:avLst/>
            <a:gdLst>
              <a:gd name="textAreaLeft" fmla="*/ 144000 w 225360"/>
              <a:gd name="textAreaRight" fmla="*/ 225720 w 225360"/>
              <a:gd name="textAreaTop" fmla="*/ 38520 h 1479600"/>
              <a:gd name="textAreaBottom" fmla="*/ 1441080 h 147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dent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facing-right"/>
          <p:cNvPicPr/>
          <p:nvPr/>
        </p:nvPicPr>
        <p:blipFill>
          <a:blip r:embed="rId1"/>
          <a:stretch/>
        </p:blipFill>
        <p:spPr>
          <a:xfrm>
            <a:off x="2055960" y="3844800"/>
            <a:ext cx="1185840" cy="181764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5"/>
          <p:cNvSpPr/>
          <p:nvPr/>
        </p:nvSpPr>
        <p:spPr>
          <a:xfrm>
            <a:off x="3263760" y="2646360"/>
            <a:ext cx="3737160" cy="1490760"/>
          </a:xfrm>
          <a:prstGeom prst="wedgeRoundRectCallout">
            <a:avLst>
              <a:gd name="adj1" fmla="val -45750"/>
              <a:gd name="adj2" fmla="val 782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SN 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employee #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driver's license # 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D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1.1 enables you to associate multiple ID values to an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2322720" y="3578400"/>
            <a:ext cx="3087000" cy="11912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-number="…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-number="…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4640" y="274320"/>
            <a:ext cx="855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mbol for the decimal point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.S.A. versus 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3018240" y="2379600"/>
            <a:ext cx="2757960" cy="17398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.7 (US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,7  (Fran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's the symbol for the decimal point in XML Schema 1.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4075200" y="3041640"/>
            <a:ext cx="981000" cy="6426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's the symbol for the decimal point in XML Schema 1.1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537280" y="4448160"/>
            <a:ext cx="48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n't that unfair to the folks in Fr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4075200" y="3041640"/>
            <a:ext cx="981000" cy="6426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dor-unique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1.1 allows vendors to extend th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 a vendor may create a new decimal datatype (French:decimal) with "," as the decimal poi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new data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Atomic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anyAtomicType is the union of the values of all the primitive types (string + integer + boolean +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dateTimeStam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a dateTimeStamp value is a date plus time plus time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yearMonthD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a yearMonthDuration value is a duration consisting of years and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dayTimeD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a dayTimeDuration value is a duration consisting of days an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1.1 has lots of powerful new f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ope this tutorial has convinced you that these new features can benefit your bus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recommend switching to XML Schema 1.1 as soon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s permanent stor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1949400" y="295416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2095560" y="2300400"/>
            <a:ext cx="506520" cy="531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3533760" y="295596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0"/>
          <p:cNvSpPr/>
          <p:nvPr/>
        </p:nvSpPr>
        <p:spPr>
          <a:xfrm>
            <a:off x="1238400" y="2724120"/>
            <a:ext cx="68868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2"/>
          <p:cNvSpPr/>
          <p:nvPr/>
        </p:nvSpPr>
        <p:spPr>
          <a:xfrm>
            <a:off x="2817720" y="2733840"/>
            <a:ext cx="68904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3"/>
          <p:cNvSpPr/>
          <p:nvPr/>
        </p:nvSpPr>
        <p:spPr>
          <a:xfrm>
            <a:off x="5133960" y="295596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4"/>
          <p:cNvSpPr/>
          <p:nvPr/>
        </p:nvSpPr>
        <p:spPr>
          <a:xfrm>
            <a:off x="4417920" y="2733840"/>
            <a:ext cx="68904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"/>
          <p:cNvSpPr/>
          <p:nvPr/>
        </p:nvSpPr>
        <p:spPr>
          <a:xfrm>
            <a:off x="6008760" y="2733840"/>
            <a:ext cx="68904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7"/>
          <p:cNvSpPr/>
          <p:nvPr/>
        </p:nvSpPr>
        <p:spPr>
          <a:xfrm>
            <a:off x="1862280" y="3649680"/>
            <a:ext cx="511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pplication does a "unit of work." It is desirable, after each unit of work, to assess the system. XML Schemas can be used to check each application's outp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2286000" y="1000080"/>
            <a:ext cx="4572000" cy="55825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the information–validate that no rules are being brok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some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validate that no rules have been broken (as a result of the work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heck that you’re still on tr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do another uni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validate ag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do another uni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validate ag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o for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266920" y="48564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envision systems working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live in a world of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e follow the rules of the 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e form lines at banks and in the checkout lanes at the super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ccountants spend lots of time each year learning the new tax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ur legal system enforces societies'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guide our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let us know if we are on or off tr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are Impor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029240" y="3204360"/>
            <a:ext cx="7218720" cy="3682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enterprise work as it grows toward perfection becomes rule-b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380200" y="392256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 Costello and Bob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Schema =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s is all about expressing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about what data is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about how the data must be organ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about the relationships betwee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My Va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730520" y="2079720"/>
            <a:ext cx="5798880" cy="34480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Vac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ip segment="1" mode="air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ansportation&gt;airplane&lt;/Transport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ri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ip segment="2" mode="water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ansportation&gt;boat&lt;/Transport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ri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ip segment="3" mode="ground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ansportation&gt;car&lt;/Transport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ri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Vac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41200" y="1658880"/>
            <a:ext cx="4543560" cy="2770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Vaca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egment id="1" mode="ai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ransportation&gt;airplane&lt;/Transporta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egm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egment id="2" mode="wate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ransportation&gt;boat&lt;/Transporta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egm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egment id="3" mode="ground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ransportation&gt;car&lt;/Transporta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egm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Vaca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51840" y="4978440"/>
            <a:ext cx="6342120" cy="14655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 1: A vacation has seg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 2: Each segment is uniquely ident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 3: There are three modes of transportation: air, water, grou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 4: Each segment has a mode of transpor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 5: Each segment must identify the specific mode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144400" y="4519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Bent-Up Arrow 6"/>
          <p:cNvSpPr/>
          <p:nvPr/>
        </p:nvSpPr>
        <p:spPr>
          <a:xfrm flipV="1">
            <a:off x="4851360" y="2687040"/>
            <a:ext cx="1587600" cy="1734840"/>
          </a:xfrm>
          <a:custGeom>
            <a:avLst/>
            <a:gdLst/>
            <a:ahLst/>
            <a:rect l="l" t="t" r="r" b="b"/>
            <a:pathLst>
              <a:path w="1587500" h="1735137">
                <a:moveTo>
                  <a:pt x="0" y="1338262"/>
                </a:moveTo>
                <a:lnTo>
                  <a:pt x="934466" y="1338262"/>
                </a:lnTo>
                <a:lnTo>
                  <a:pt x="934466" y="396875"/>
                </a:lnTo>
                <a:lnTo>
                  <a:pt x="678307" y="396875"/>
                </a:lnTo>
                <a:lnTo>
                  <a:pt x="1132904" y="0"/>
                </a:lnTo>
                <a:lnTo>
                  <a:pt x="1587500" y="396875"/>
                </a:lnTo>
                <a:lnTo>
                  <a:pt x="1331341" y="396875"/>
                </a:lnTo>
                <a:lnTo>
                  <a:pt x="1331341" y="1735137"/>
                </a:lnTo>
                <a:lnTo>
                  <a:pt x="0" y="1735137"/>
                </a:lnTo>
                <a:lnTo>
                  <a:pt x="0" y="1338262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6310800" y="2762280"/>
            <a:ext cx="241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 the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agai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rable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959120" y="2417760"/>
            <a:ext cx="3016080" cy="271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959120" y="2859120"/>
            <a:ext cx="300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2183400" y="24447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3193920" y="2417760"/>
            <a:ext cx="0" cy="27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171240" y="2427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2290320" y="298116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297240" y="291132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rplan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-air ball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1959120" y="3600360"/>
            <a:ext cx="299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2198160" y="37101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293280" y="363996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a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vercr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1954080" y="4329000"/>
            <a:ext cx="299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2194200" y="4456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3288240" y="4386240"/>
            <a:ext cx="8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5199120" y="2843280"/>
            <a:ext cx="316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: if mode = air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ation 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airplane or hot-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l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rules for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ML Schema 1.0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not detect this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228680" y="2470320"/>
            <a:ext cx="5800680" cy="11912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egment id="1" mode=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ransportation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Transporta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eg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5"/>
          <p:cNvSpPr/>
          <p:nvPr/>
        </p:nvSpPr>
        <p:spPr>
          <a:xfrm flipH="1" flipV="1">
            <a:off x="4464000" y="3271320"/>
            <a:ext cx="574560" cy="109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6"/>
          <p:cNvSpPr/>
          <p:nvPr/>
        </p:nvSpPr>
        <p:spPr>
          <a:xfrm flipH="1" flipV="1">
            <a:off x="4687920" y="2868480"/>
            <a:ext cx="350640" cy="14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4870800" y="4286160"/>
            <a:ext cx="297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inconsis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350280" y="5560920"/>
            <a:ext cx="868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can’t the error be detected using XML Schema 1.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: Because the rule on the preceding slide cannot be ex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0840" y="1627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tutorial is to give an overview of the new features of XML Schema 1.1 without getting into its synta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argeted to mana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how how these new technical features can benefit your bus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Schema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more powerful than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xpress many more rules (The rule on the preceding slide can be expressed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's see the new features that 1.1 provide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w Feature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Express Business Policies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and Rules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using Asser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1752480" y="266688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evel 1 managers may sign off on purchase requests that do not exceed $10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ounded Rectangle 7"/>
          <p:cNvSpPr/>
          <p:nvPr/>
        </p:nvSpPr>
        <p:spPr>
          <a:xfrm>
            <a:off x="1371600" y="2438280"/>
            <a:ext cx="6172200" cy="1371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1752480" y="267660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evel 1 managers may sign off on purchase requests that do not exceed $10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doesn't conform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ny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939960" y="2778120"/>
            <a:ext cx="7154640" cy="19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&lt;purchase-reque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&lt;item&gt;Widget&lt;/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&lt;cost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15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&lt;/co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&lt;signatureAuthority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evel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&lt;/signatureAuthori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&lt;/purchase-reque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140360" y="3554280"/>
            <a:ext cx="533160" cy="381240"/>
          </a:xfrm>
          <a:custGeom>
            <a:avLst/>
            <a:gdLst>
              <a:gd name="textAreaLeft" fmla="*/ 78120 w 533160"/>
              <a:gd name="textAreaRight" fmla="*/ 455040 w 53316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t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olded Corner 6"/>
          <p:cNvSpPr/>
          <p:nvPr/>
        </p:nvSpPr>
        <p:spPr>
          <a:xfrm>
            <a:off x="380880" y="1905120"/>
            <a:ext cx="2590920" cy="1904760"/>
          </a:xfrm>
          <a:prstGeom prst="foldedCorner">
            <a:avLst>
              <a:gd name="adj" fmla="val 16666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7"/>
          <p:cNvSpPr/>
          <p:nvPr/>
        </p:nvSpPr>
        <p:spPr>
          <a:xfrm flipH="1">
            <a:off x="774000" y="1898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lowchart: Document 8"/>
          <p:cNvSpPr/>
          <p:nvPr/>
        </p:nvSpPr>
        <p:spPr>
          <a:xfrm>
            <a:off x="4572000" y="2971800"/>
            <a:ext cx="2286000" cy="2133720"/>
          </a:xfrm>
          <a:prstGeom prst="flowChartDocumen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9"/>
          <p:cNvSpPr/>
          <p:nvPr/>
        </p:nvSpPr>
        <p:spPr>
          <a:xfrm flipH="1">
            <a:off x="4952160" y="32004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Straight Arrow Connector 11"/>
          <p:cNvCxnSpPr/>
          <p:nvPr/>
        </p:nvCxnSpPr>
        <p:spPr>
          <a:xfrm>
            <a:off x="3048120" y="2743200"/>
            <a:ext cx="1372320" cy="534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42" name="Straight Arrow Connector 14"/>
          <p:cNvCxnSpPr/>
          <p:nvPr/>
        </p:nvCxnSpPr>
        <p:spPr>
          <a:xfrm flipV="1">
            <a:off x="3123720" y="4266720"/>
            <a:ext cx="1296360" cy="610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43" name="Straight Arrow Connector 16"/>
          <p:cNvCxnSpPr/>
          <p:nvPr/>
        </p:nvCxnSpPr>
        <p:spPr>
          <a:xfrm>
            <a:off x="6857640" y="3809520"/>
            <a:ext cx="610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44" name="TextBox 17"/>
          <p:cNvSpPr/>
          <p:nvPr/>
        </p:nvSpPr>
        <p:spPr>
          <a:xfrm>
            <a:off x="7470360" y="358128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ali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64960" y="4213080"/>
            <a:ext cx="269100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purchase-reques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item&gt;Widget&lt;/ite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cost&gt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50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cos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signatureAuthor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signatureAuthor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purchase-reques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ounded Rectangle 7"/>
          <p:cNvSpPr/>
          <p:nvPr/>
        </p:nvSpPr>
        <p:spPr>
          <a:xfrm>
            <a:off x="520560" y="2705040"/>
            <a:ext cx="2119320" cy="957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579600" y="2658960"/>
            <a:ext cx="208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Level 1 managers may sign off on purchase requests that do not exceed $10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Schema 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XML Schema 1.0 business policies and rules could not be expres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icy rule on the previous slides could not be expr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developers buried policies and rules in procedural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5280120" y="5110200"/>
            <a:ext cx="1658880" cy="1353960"/>
          </a:xfrm>
          <a:prstGeom prst="flowChartPredefined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ounded Rectangle 7"/>
          <p:cNvSpPr/>
          <p:nvPr/>
        </p:nvSpPr>
        <p:spPr>
          <a:xfrm>
            <a:off x="2189160" y="5343480"/>
            <a:ext cx="2119320" cy="957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2247840" y="5297400"/>
            <a:ext cx="208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Level 1 managers may sign off on purchase requests that do not exceed $10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4195800" y="5342040"/>
            <a:ext cx="136188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9"/>
          <p:cNvSpPr/>
          <p:nvPr/>
        </p:nvSpPr>
        <p:spPr>
          <a:xfrm flipV="1">
            <a:off x="4221000" y="5754240"/>
            <a:ext cx="134640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advantage #1 of Buri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ies and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3827520" y="2500200"/>
            <a:ext cx="3209760" cy="3605400"/>
          </a:xfrm>
          <a:prstGeom prst="flowChartPredefined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ounded Rectangle 7"/>
          <p:cNvSpPr/>
          <p:nvPr/>
        </p:nvSpPr>
        <p:spPr>
          <a:xfrm>
            <a:off x="4527720" y="4967280"/>
            <a:ext cx="1858680" cy="534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4586400" y="4921200"/>
            <a:ext cx="208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Policy, expressed in Java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15"/>
          <p:cNvSpPr/>
          <p:nvPr/>
        </p:nvSpPr>
        <p:spPr>
          <a:xfrm flipH="1">
            <a:off x="195120" y="5043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16" descr="frustrated"/>
          <p:cNvPicPr/>
          <p:nvPr/>
        </p:nvPicPr>
        <p:blipFill>
          <a:blip r:embed="rId1"/>
          <a:stretch/>
        </p:blipFill>
        <p:spPr>
          <a:xfrm>
            <a:off x="271440" y="4079880"/>
            <a:ext cx="1247760" cy="106848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5"/>
          <p:cNvSpPr/>
          <p:nvPr/>
        </p:nvSpPr>
        <p:spPr>
          <a:xfrm>
            <a:off x="1406520" y="2475000"/>
            <a:ext cx="2260440" cy="1442880"/>
          </a:xfrm>
          <a:prstGeom prst="wedgeRoundRectCallout">
            <a:avLst>
              <a:gd name="adj1" fmla="val -60180"/>
              <a:gd name="adj2" fmla="val 7244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don't understand Java. I can't change the policy. Arg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advantage #1 of Buri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ies and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122560" y="3119400"/>
            <a:ext cx="4816440" cy="4597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change policies and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advantage #2 of Buri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ies and R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3827520" y="2500200"/>
            <a:ext cx="3209760" cy="3605400"/>
          </a:xfrm>
          <a:prstGeom prst="flowChartPredefined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ounded Rectangle 7"/>
          <p:cNvSpPr/>
          <p:nvPr/>
        </p:nvSpPr>
        <p:spPr>
          <a:xfrm>
            <a:off x="4527720" y="4967280"/>
            <a:ext cx="1858680" cy="534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4586400" y="4921200"/>
            <a:ext cx="208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Policy, expressed in Java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8" descr="facing-right"/>
          <p:cNvPicPr/>
          <p:nvPr/>
        </p:nvPicPr>
        <p:blipFill>
          <a:blip r:embed="rId1"/>
          <a:stretch/>
        </p:blipFill>
        <p:spPr>
          <a:xfrm>
            <a:off x="1027080" y="3600360"/>
            <a:ext cx="963720" cy="147816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9"/>
          <p:cNvSpPr/>
          <p:nvPr/>
        </p:nvSpPr>
        <p:spPr>
          <a:xfrm>
            <a:off x="752760" y="4797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1944720" y="2313000"/>
            <a:ext cx="1749240" cy="1236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can I sign off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advantage #2 of Buri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ies and R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813040" y="2649600"/>
            <a:ext cx="3516480" cy="22885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licies and rules are expressed in code instructions and are less visible – perhaps only the programmer knows the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6"/>
          <p:cNvSpPr/>
          <p:nvPr/>
        </p:nvSpPr>
        <p:spPr>
          <a:xfrm>
            <a:off x="2165400" y="3908520"/>
            <a:ext cx="2509920" cy="279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1.0 Schemas will still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An XML document conforming to a 1.0 schema can be validated using a 1.1 validator, but an XML document conforming to a 1.1 schema might not validate using a 1.0 valid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4"/>
          <p:cNvSpPr/>
          <p:nvPr/>
        </p:nvSpPr>
        <p:spPr>
          <a:xfrm>
            <a:off x="2790720" y="4741920"/>
            <a:ext cx="1673280" cy="1668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Schema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549520" y="424332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Schem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707360" y="4681440"/>
            <a:ext cx="271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 Schema 1.1 is a supers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XML Schema 1.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Schema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XML Schema 1.1 policies and rules can be expre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ies and rules are declaratively expre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olicies and rules can be easily chang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olicies and rules are trans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Business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1752480" y="266688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evel 1 managers may sign off on purchase requests that do not exceed $10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ounded Rectangle 7"/>
          <p:cNvSpPr/>
          <p:nvPr/>
        </p:nvSpPr>
        <p:spPr>
          <a:xfrm>
            <a:off x="1371600" y="2543040"/>
            <a:ext cx="6172200" cy="1371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1459080" y="2819520"/>
            <a:ext cx="626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o paragraph may have a security classification higher than the document's classific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388800" y="2671920"/>
            <a:ext cx="840780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-secret 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s higher 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cret 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s higher 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fidential 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s higher 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class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1444680" y="1847880"/>
            <a:ext cx="457200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ocument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lassification="secret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ar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="unclassified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ar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="secret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ar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="unclassified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ar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="secret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Docu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6184800" y="1871640"/>
            <a:ext cx="335160" cy="3905280"/>
          </a:xfrm>
          <a:custGeom>
            <a:avLst/>
            <a:gdLst>
              <a:gd name="textAreaLeft" fmla="*/ 0 w 335160"/>
              <a:gd name="textAreaRight" fmla="*/ 120960 w 335160"/>
              <a:gd name="textAreaTop" fmla="*/ 101520 h 3905280"/>
              <a:gd name="textAreaBottom" fmla="*/ 3803760 h 390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707160" y="3500280"/>
            <a:ext cx="2255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no &lt;Para&gt; element has a classification higher than the &lt;Document&gt; element's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ML Schema 1.0 vers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ML Schema 1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4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XML Schema 1.0 you cannot express the rule on the previous sl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XML Schema 1.1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ress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4"/>
          <p:cNvSpPr/>
          <p:nvPr/>
        </p:nvSpPr>
        <p:spPr>
          <a:xfrm>
            <a:off x="2889360" y="492120"/>
            <a:ext cx="3344760" cy="1623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396240" y="101448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mmar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2219400" y="3770280"/>
            <a:ext cx="4041720" cy="17416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878920" y="437688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rule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6300360" y="94284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6381360" y="435924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 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ML Schema 1.0 vers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ML Schema 1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XML Schema 1.0 you can express grammar (syntax) constraint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is markup should occur in this order, that data should be a date, and so fo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XML Schema 1.1 you can still express grammar constraints but you can also express data relationships (business rules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classification value here must be less than the classification value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2296800" y="2720880"/>
            <a:ext cx="451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Times New Roman"/>
              </a:rPr>
              <a:t>assertio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ress Policies and R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Asser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5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ies and rules are expressed in XML Schema 1.1 using asser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vel 1 managers may sign off on purchase requests that do not exceed $10K.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 paragraph may have a security classification higher than the document's classific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examined the first new feature in XML Schema 1.1, the ability to express policies and rules using asser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eature is a big benefit to businesses: now businesses can declaratively express their policies and rules in XML Schemas rather than burying them in procedural co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Schema 1.1 Vali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ma-aware version of SAXON (version 9.3 or later) supports the full XML Schema 1.1 specificatio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axonica.com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che XERCES supports XML Schema 1.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xerces.apache.org/xerces2-j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create XML Schema 1.1 schemas tod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w Feature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reating Department-Specific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Data using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Conditional Type Altern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Conditional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1752480" y="266688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evel 1 managers may sign off on purchase requests that do not exceed $10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ounded Rectangle 7"/>
          <p:cNvSpPr/>
          <p:nvPr/>
        </p:nvSpPr>
        <p:spPr>
          <a:xfrm>
            <a:off x="1371600" y="2438280"/>
            <a:ext cx="6172200" cy="1371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7"/>
          <p:cNvSpPr/>
          <p:nvPr/>
        </p:nvSpPr>
        <p:spPr>
          <a:xfrm>
            <a:off x="1752480" y="250524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or each employee store this data: name, date of hire, employee number, and emergency contact telephone numb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1599480" y="1930320"/>
            <a:ext cx="47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Resources (HR) Depart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2"/>
          <p:cNvSpPr/>
          <p:nvPr/>
        </p:nvSpPr>
        <p:spPr>
          <a:xfrm>
            <a:off x="1771560" y="5000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evel 1 managers may sign off on purchase requests that do not exceed $10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ounded Rectangle 7"/>
          <p:cNvSpPr/>
          <p:nvPr/>
        </p:nvSpPr>
        <p:spPr>
          <a:xfrm>
            <a:off x="1390680" y="4772160"/>
            <a:ext cx="6172200" cy="1371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7"/>
          <p:cNvSpPr/>
          <p:nvPr/>
        </p:nvSpPr>
        <p:spPr>
          <a:xfrm>
            <a:off x="1771560" y="502920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or each employee store this data: name, areas of expertise, and current proj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1614240" y="426420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(IT) Depart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 varies, depending on dep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04560" y="2043000"/>
            <a:ext cx="259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 dept="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628560" y="2386080"/>
            <a:ext cx="4157640" cy="1092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ame&gt;John Doe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Hire-Date&gt;2000-01-01&lt;/Hire-Date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Employee-Num&gt;123&lt;/Employee-Num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ergency-Contact&gt;617-123-4567&lt;/Emergency-Contact&gt;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5162760" y="2130480"/>
            <a:ext cx="246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 dept="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5452920" y="2482920"/>
            <a:ext cx="3148200" cy="72216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ame&gt;John Doe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Expertise&gt;XML, XML Schema&lt;/Expertis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Project&gt;upgrade xyz interface&lt;/Proj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5"/>
          <p:cNvSpPr/>
          <p:nvPr/>
        </p:nvSpPr>
        <p:spPr>
          <a:xfrm>
            <a:off x="1283760" y="3505320"/>
            <a:ext cx="340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 dept="_________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571760" y="3886200"/>
            <a:ext cx="3093840" cy="128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"/>
          <p:cNvSpPr/>
          <p:nvPr/>
        </p:nvSpPr>
        <p:spPr>
          <a:xfrm>
            <a:off x="3753000" y="3071880"/>
            <a:ext cx="0" cy="55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3559320" y="2021040"/>
            <a:ext cx="34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's HR then the content m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n HR type. If it's IT the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must be an IT ty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3189240" y="3071880"/>
            <a:ext cx="56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 flipV="1">
            <a:off x="3176640" y="2195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1"/>
          <p:cNvSpPr/>
          <p:nvPr/>
        </p:nvSpPr>
        <p:spPr>
          <a:xfrm>
            <a:off x="3176640" y="21826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"/>
          <p:cNvSpPr/>
          <p:nvPr/>
        </p:nvSpPr>
        <p:spPr>
          <a:xfrm flipH="1">
            <a:off x="4741920" y="4387680"/>
            <a:ext cx="343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5964120" y="178452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5964120" y="17762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8174160" y="1793880"/>
            <a:ext cx="0" cy="25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2363760" y="2995560"/>
            <a:ext cx="4214880" cy="8254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nt of Employee is conditional to the value of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303840" y="2043000"/>
            <a:ext cx="288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ublication kind="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ublic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628560" y="2386080"/>
            <a:ext cx="3971880" cy="1092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Title&gt;Origin of Wealth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Author&gt;Eric D. Beinhocker&lt;/Author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Date&gt;2006&lt;/Date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ISBN&gt;1-57851-777-X&lt;/ISB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Publisher&gt;Harvard Business School Press&lt;/Publisher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5164200" y="2130480"/>
            <a:ext cx="338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ublication kind="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gaz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ublic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5452920" y="2482920"/>
            <a:ext cx="2816280" cy="72216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Genre&gt;Scientific&lt;/Genr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Circulation&gt;733,000&lt;/Circula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Founded&gt;1845-08-28&lt;/Founde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2660760" y="5084640"/>
            <a:ext cx="47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nt of Publication depends on the kind of pub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5"/>
          <p:cNvSpPr/>
          <p:nvPr/>
        </p:nvSpPr>
        <p:spPr>
          <a:xfrm>
            <a:off x="1284840" y="3505320"/>
            <a:ext cx="3478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ublication kind="_________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ublic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571760" y="3886200"/>
            <a:ext cx="3093840" cy="128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7"/>
          <p:cNvSpPr/>
          <p:nvPr/>
        </p:nvSpPr>
        <p:spPr>
          <a:xfrm>
            <a:off x="3753000" y="3071880"/>
            <a:ext cx="0" cy="55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561120" y="2021040"/>
            <a:ext cx="427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's magazine then the content m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 Magazine type. If it's book the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must be a Book ty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9"/>
          <p:cNvSpPr/>
          <p:nvPr/>
        </p:nvSpPr>
        <p:spPr>
          <a:xfrm flipH="1">
            <a:off x="3189240" y="3071880"/>
            <a:ext cx="56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0"/>
          <p:cNvSpPr/>
          <p:nvPr/>
        </p:nvSpPr>
        <p:spPr>
          <a:xfrm flipV="1">
            <a:off x="3176640" y="2195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1"/>
          <p:cNvSpPr/>
          <p:nvPr/>
        </p:nvSpPr>
        <p:spPr>
          <a:xfrm>
            <a:off x="3176640" y="21826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 flipH="1">
            <a:off x="4741920" y="4387680"/>
            <a:ext cx="343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3"/>
          <p:cNvSpPr/>
          <p:nvPr/>
        </p:nvSpPr>
        <p:spPr>
          <a:xfrm flipV="1">
            <a:off x="6640560" y="179388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4"/>
          <p:cNvSpPr/>
          <p:nvPr/>
        </p:nvSpPr>
        <p:spPr>
          <a:xfrm>
            <a:off x="6645240" y="1793880"/>
            <a:ext cx="152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8174160" y="1793880"/>
            <a:ext cx="0" cy="25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363760" y="2995560"/>
            <a:ext cx="4214880" cy="8254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nt of Publication is conditional to the value of k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25120" y="2720880"/>
            <a:ext cx="532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Times New Roman"/>
              </a:rPr>
              <a:t>alternativ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 Conditional Content using Altern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57200" y="1917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 content is expressed in XML Schema 1.1 using alternativ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tern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f kind="magazine" then the content is a Magazine type.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tern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f kind="book" then the content is a Book ty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1.1 became a standard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5, 2012 (the W3C calls it a “recommendation” not a standard, but they are the sam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examined two new features in XML Schema 1.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express policies and rules using asse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express conditional content using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w Feature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Expressing Business-wide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ributes using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Schema-wide Attrib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2" descr=""/>
          <p:cNvPicPr/>
          <p:nvPr/>
        </p:nvPicPr>
        <p:blipFill>
          <a:blip r:embed="rId1"/>
          <a:stretch/>
        </p:blipFill>
        <p:spPr>
          <a:xfrm>
            <a:off x="1539720" y="1547640"/>
            <a:ext cx="6191280" cy="50770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ice feature of 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7"/>
          <p:cNvSpPr/>
          <p:nvPr/>
        </p:nvSpPr>
        <p:spPr>
          <a:xfrm flipV="1">
            <a:off x="4344840" y="3539880"/>
            <a:ext cx="95112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8"/>
          <p:cNvSpPr/>
          <p:nvPr/>
        </p:nvSpPr>
        <p:spPr>
          <a:xfrm flipV="1">
            <a:off x="4348080" y="3819240"/>
            <a:ext cx="94140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4356000" y="4392720"/>
            <a:ext cx="924120" cy="12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0"/>
          <p:cNvSpPr/>
          <p:nvPr/>
        </p:nvSpPr>
        <p:spPr>
          <a:xfrm>
            <a:off x="4348080" y="4392720"/>
            <a:ext cx="922320" cy="13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2270160" y="4113360"/>
            <a:ext cx="221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ttributes can be used with any HTML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2452680" y="2617920"/>
            <a:ext cx="4094280" cy="11912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has a set of attributes that can be used throughout the document. That's n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-wide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XML Schema 1.1 you can create a set of attributes and identify them as schema-wide, which means that they apply to every element in the schema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2247840" y="2071800"/>
            <a:ext cx="4359240" cy="22885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ML Schema 1.0 if every element is to have, say, a "title" attribute then a title attribute declaration must be repeated on every element. That's not nice (and it's error pron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85480" y="2792520"/>
            <a:ext cx="843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Times New Roman"/>
              </a:rPr>
              <a:t>defaultAttrib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4"/>
          <p:cNvSpPr/>
          <p:nvPr/>
        </p:nvSpPr>
        <p:spPr>
          <a:xfrm>
            <a:off x="457200" y="274680"/>
            <a:ext cx="84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 Schema-wide Attributes using default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457200" y="18302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-wide attributes are expressed in XML Schema 1.1 using defaultAttribut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faultAttribu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se attributes apply throughout the schema document: class, id,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examined three new features in XML Schema 1.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express policies and rules using asse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express conditional content using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define schema-wid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w Feature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Enable Business Change using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Open 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 S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265560" y="5486400"/>
            <a:ext cx="2612880" cy="87624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68800" y="4575240"/>
            <a:ext cx="2612880" cy="87624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252960" y="3664080"/>
            <a:ext cx="2612880" cy="87624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255840" y="2752560"/>
            <a:ext cx="2613240" cy="8766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 Schema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259080" y="1841400"/>
            <a:ext cx="2613240" cy="87624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 Schema 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326280" y="328464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echnology assumes you know the technologies benea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the U.S. Constitution it describes how it can be 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forefathers recognized that the world changes, and if the constitution doesn't adapt then it will ossify and be usel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y built into the Constitution mechanisms for how it can be 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965240" y="5940360"/>
            <a:ext cx="5805720" cy="7333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e section 3.1 of the following paper for a fascinating description of how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S. Constitution has mechanisms for changing itself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microfinance.com/English/Papers/Meta-rules.p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s that can't adapt to a changing world will ossify and be usel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content is a mechanism for enabling schemas to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Sell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've coordinated with your clients and agreed to provide them with this information about each bo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2196720" y="3578400"/>
            <a:ext cx="4655160" cy="4597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le, Author, Date, ISBN,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1760400" y="489600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reate an XML Schema to express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passes … some clients request this additional informa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- number of pag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- binding (hardcover or softcov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y want this information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schema working group meets quarterly. Updates to support this new information are months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signing your schemas with open content you will be able to add the requested new information to XML instance documents without waiting for the next quarterly schema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912960" y="4081320"/>
            <a:ext cx="5900760" cy="25628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Boo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itle&gt;The Origin of Wealth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Author&gt;Eric D. Beinhocker&lt;/Autho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Pages&gt;527&lt;/NumPag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&gt;2006&lt;/Date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ISBN&gt;1-57851-777-X&lt;/ISB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ublisher&gt;Harvard Business School Press&lt;/Publish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Binding&gt;Hardcover&lt;/Bind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Boo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1442880" y="1658880"/>
            <a:ext cx="2251080" cy="1873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2465280" y="3576600"/>
            <a:ext cx="0" cy="4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2433960" y="353232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ate XML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5902560" y="2054160"/>
            <a:ext cx="637920" cy="4597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6153840" y="2743200"/>
            <a:ext cx="1468440" cy="4597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reeform 12"/>
          <p:cNvSpPr/>
          <p:nvPr/>
        </p:nvSpPr>
        <p:spPr>
          <a:xfrm>
            <a:off x="4500720" y="2527200"/>
            <a:ext cx="1433520" cy="255600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2556000"/>
              <a:gd name="textAreaBottom" fmla="*/ 2556360 h 2556000"/>
            </a:gdLst>
            <a:ahLst/>
            <a:rect l="textAreaLeft" t="textAreaTop" r="textAreaRight" b="textAreaBottom"/>
            <a:pathLst>
              <a:path w="903" h="1610">
                <a:moveTo>
                  <a:pt x="886" y="0"/>
                </a:moveTo>
                <a:cubicBezTo>
                  <a:pt x="894" y="76"/>
                  <a:pt x="903" y="153"/>
                  <a:pt x="886" y="260"/>
                </a:cubicBezTo>
                <a:cubicBezTo>
                  <a:pt x="869" y="367"/>
                  <a:pt x="850" y="451"/>
                  <a:pt x="785" y="644"/>
                </a:cubicBezTo>
                <a:cubicBezTo>
                  <a:pt x="720" y="837"/>
                  <a:pt x="628" y="1257"/>
                  <a:pt x="497" y="1418"/>
                </a:cubicBezTo>
                <a:cubicBezTo>
                  <a:pt x="366" y="1579"/>
                  <a:pt x="183" y="1594"/>
                  <a:pt x="0" y="16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14"/>
          <p:cNvSpPr/>
          <p:nvPr/>
        </p:nvSpPr>
        <p:spPr>
          <a:xfrm>
            <a:off x="4660920" y="3225960"/>
            <a:ext cx="1514520" cy="296856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2968560"/>
              <a:gd name="textAreaBottom" fmla="*/ 2968920 h 2968560"/>
            </a:gdLst>
            <a:ahLst/>
            <a:rect l="textAreaLeft" t="textAreaTop" r="textAreaRight" b="textAreaBottom"/>
            <a:pathLst>
              <a:path w="903" h="1610">
                <a:moveTo>
                  <a:pt x="886" y="0"/>
                </a:moveTo>
                <a:cubicBezTo>
                  <a:pt x="894" y="76"/>
                  <a:pt x="903" y="153"/>
                  <a:pt x="886" y="260"/>
                </a:cubicBezTo>
                <a:cubicBezTo>
                  <a:pt x="869" y="367"/>
                  <a:pt x="850" y="451"/>
                  <a:pt x="785" y="644"/>
                </a:cubicBezTo>
                <a:cubicBezTo>
                  <a:pt x="720" y="837"/>
                  <a:pt x="628" y="1257"/>
                  <a:pt x="497" y="1418"/>
                </a:cubicBezTo>
                <a:cubicBezTo>
                  <a:pt x="366" y="1579"/>
                  <a:pt x="183" y="1594"/>
                  <a:pt x="0" y="16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5106960" y="2575080"/>
            <a:ext cx="6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16"/>
          <p:cNvGrpSpPr/>
          <p:nvPr/>
        </p:nvGrpSpPr>
        <p:grpSpPr>
          <a:xfrm>
            <a:off x="8132760" y="4305240"/>
            <a:ext cx="474840" cy="838440"/>
            <a:chOff x="8132760" y="4305240"/>
            <a:chExt cx="474840" cy="838440"/>
          </a:xfrm>
        </p:grpSpPr>
        <p:sp>
          <p:nvSpPr>
            <p:cNvPr id="396" name="Oval 17"/>
            <p:cNvSpPr/>
            <p:nvPr/>
          </p:nvSpPr>
          <p:spPr>
            <a:xfrm>
              <a:off x="8247240" y="4305240"/>
              <a:ext cx="231840" cy="231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8359920" y="4540320"/>
              <a:ext cx="324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 flipH="1" flipV="1">
              <a:off x="8132760" y="4579920"/>
              <a:ext cx="23040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 flipV="1">
              <a:off x="8363160" y="4595760"/>
              <a:ext cx="24444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1"/>
            <p:cNvSpPr/>
            <p:nvPr/>
          </p:nvSpPr>
          <p:spPr>
            <a:xfrm flipH="1">
              <a:off x="8247240" y="4883040"/>
              <a:ext cx="11592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2"/>
            <p:cNvSpPr/>
            <p:nvPr/>
          </p:nvSpPr>
          <p:spPr>
            <a:xfrm>
              <a:off x="8366400" y="4886280"/>
              <a:ext cx="11412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Group 23"/>
          <p:cNvGrpSpPr/>
          <p:nvPr/>
        </p:nvGrpSpPr>
        <p:grpSpPr>
          <a:xfrm>
            <a:off x="8572320" y="4718160"/>
            <a:ext cx="474480" cy="837720"/>
            <a:chOff x="8572320" y="4718160"/>
            <a:chExt cx="474480" cy="837720"/>
          </a:xfrm>
        </p:grpSpPr>
        <p:sp>
          <p:nvSpPr>
            <p:cNvPr id="403" name="Oval 24"/>
            <p:cNvSpPr/>
            <p:nvPr/>
          </p:nvSpPr>
          <p:spPr>
            <a:xfrm>
              <a:off x="8686800" y="4718160"/>
              <a:ext cx="231480" cy="23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5"/>
            <p:cNvSpPr/>
            <p:nvPr/>
          </p:nvSpPr>
          <p:spPr>
            <a:xfrm>
              <a:off x="8799480" y="4952880"/>
              <a:ext cx="2880" cy="3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6"/>
            <p:cNvSpPr/>
            <p:nvPr/>
          </p:nvSpPr>
          <p:spPr>
            <a:xfrm flipH="1" flipV="1">
              <a:off x="8572320" y="4992120"/>
              <a:ext cx="230040" cy="12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7"/>
            <p:cNvSpPr/>
            <p:nvPr/>
          </p:nvSpPr>
          <p:spPr>
            <a:xfrm flipV="1">
              <a:off x="8802720" y="5007960"/>
              <a:ext cx="2440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8"/>
            <p:cNvSpPr/>
            <p:nvPr/>
          </p:nvSpPr>
          <p:spPr>
            <a:xfrm flipH="1">
              <a:off x="8686440" y="5295600"/>
              <a:ext cx="11556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9"/>
            <p:cNvSpPr/>
            <p:nvPr/>
          </p:nvSpPr>
          <p:spPr>
            <a:xfrm>
              <a:off x="8805960" y="5298840"/>
              <a:ext cx="11376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30"/>
          <p:cNvGrpSpPr/>
          <p:nvPr/>
        </p:nvGrpSpPr>
        <p:grpSpPr>
          <a:xfrm>
            <a:off x="8177040" y="5246640"/>
            <a:ext cx="474840" cy="837720"/>
            <a:chOff x="8177040" y="5246640"/>
            <a:chExt cx="474840" cy="837720"/>
          </a:xfrm>
        </p:grpSpPr>
        <p:sp>
          <p:nvSpPr>
            <p:cNvPr id="410" name="Oval 31"/>
            <p:cNvSpPr/>
            <p:nvPr/>
          </p:nvSpPr>
          <p:spPr>
            <a:xfrm>
              <a:off x="8291520" y="5246640"/>
              <a:ext cx="231840" cy="23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2"/>
            <p:cNvSpPr/>
            <p:nvPr/>
          </p:nvSpPr>
          <p:spPr>
            <a:xfrm>
              <a:off x="8404200" y="5481360"/>
              <a:ext cx="3240" cy="3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33"/>
            <p:cNvSpPr/>
            <p:nvPr/>
          </p:nvSpPr>
          <p:spPr>
            <a:xfrm flipH="1" flipV="1">
              <a:off x="8177040" y="5520600"/>
              <a:ext cx="230400" cy="12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34"/>
            <p:cNvSpPr/>
            <p:nvPr/>
          </p:nvSpPr>
          <p:spPr>
            <a:xfrm flipV="1">
              <a:off x="8407440" y="5536440"/>
              <a:ext cx="2444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5"/>
            <p:cNvSpPr/>
            <p:nvPr/>
          </p:nvSpPr>
          <p:spPr>
            <a:xfrm flipH="1">
              <a:off x="8291520" y="5824080"/>
              <a:ext cx="115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36"/>
            <p:cNvSpPr/>
            <p:nvPr/>
          </p:nvSpPr>
          <p:spPr>
            <a:xfrm>
              <a:off x="8410680" y="5827320"/>
              <a:ext cx="11412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Line 37"/>
          <p:cNvSpPr/>
          <p:nvPr/>
        </p:nvSpPr>
        <p:spPr>
          <a:xfrm>
            <a:off x="6902280" y="5191200"/>
            <a:ext cx="125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8"/>
          <p:cNvSpPr/>
          <p:nvPr/>
        </p:nvSpPr>
        <p:spPr>
          <a:xfrm>
            <a:off x="6775200" y="4411800"/>
            <a:ext cx="134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liv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conclud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 data is delivered to the clients in a timely fash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next quarterly meeting the XML Schema is updated: the information provided for each book is title, author, date, ISBN, publisher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umP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in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1207800" y="2792520"/>
            <a:ext cx="641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Times New Roman"/>
              </a:rPr>
              <a:t>openConte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457200" y="274680"/>
            <a:ext cx="84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 Schema-wide Attributes using open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57200" y="1941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s enabled in XML Schema 1.1 using openContent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penCont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ermit new (client-requested) data to be interleaved among the standardize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examined four new features in XML Schema 1.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express policies and rules using asse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express conditional content using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define schema-wid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facilitate change using open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Review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Purpose of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XML Sch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w Feature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Enabling Departments to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ustomize Corporate Data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using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override and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sh I could customiz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times I've used a tool and thought, "Boy, if only I could open up this tool and make a few tweaks, then it would be perfect for my need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rettably the tool is not modifiable and so I'm stuck using something that's not quite what I n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said, using the tool is a lot better than creating a custom tool from scr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changeable schem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be customiz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85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1.1 provides two mechanisms for customizing another schema without modifying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1846440" y="1954080"/>
            <a:ext cx="2250720" cy="16225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6"/>
          <p:cNvSpPr/>
          <p:nvPr/>
        </p:nvSpPr>
        <p:spPr>
          <a:xfrm>
            <a:off x="1782720" y="4862520"/>
            <a:ext cx="2394000" cy="191772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rid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is cont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7"/>
          <p:cNvSpPr/>
          <p:nvPr/>
        </p:nvSpPr>
        <p:spPr>
          <a:xfrm flipV="1">
            <a:off x="2581200" y="3603600"/>
            <a:ext cx="0" cy="83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2517120" y="37940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572000" y="4913280"/>
            <a:ext cx="441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ma reuses the corporate schema, but customizes "meeting" with the data that is particular to conference meet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1878480" y="147960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1734840" y="434016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erenc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12"/>
          <p:cNvSpPr/>
          <p:nvPr/>
        </p:nvSpPr>
        <p:spPr>
          <a:xfrm>
            <a:off x="4456080" y="1631880"/>
            <a:ext cx="366840" cy="2052720"/>
          </a:xfrm>
          <a:custGeom>
            <a:avLst/>
            <a:gdLst>
              <a:gd name="textAreaLeft" fmla="*/ 0 w 366840"/>
              <a:gd name="textAreaRight" fmla="*/ 132480 w 366840"/>
              <a:gd name="textAreaTop" fmla="*/ 53280 h 2052720"/>
              <a:gd name="textAreaBottom" fmla="*/ 1999440 h 20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5006160" y="2403360"/>
            <a:ext cx="35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schema, can'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hange 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changeable sch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4"/>
          <p:cNvSpPr/>
          <p:nvPr/>
        </p:nvSpPr>
        <p:spPr>
          <a:xfrm>
            <a:off x="1846440" y="1954080"/>
            <a:ext cx="1641240" cy="16225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-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1782720" y="4643280"/>
            <a:ext cx="1641600" cy="162252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7"/>
          <p:cNvSpPr/>
          <p:nvPr/>
        </p:nvSpPr>
        <p:spPr>
          <a:xfrm flipV="1">
            <a:off x="2581200" y="3603240"/>
            <a:ext cx="0" cy="9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2563200" y="38829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3587040" y="4653000"/>
            <a:ext cx="49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 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r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ems in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4"/>
          <p:cNvSpPr/>
          <p:nvPr/>
        </p:nvSpPr>
        <p:spPr>
          <a:xfrm>
            <a:off x="1283760" y="3324240"/>
            <a:ext cx="340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 dept="_________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1571760" y="3705120"/>
            <a:ext cx="3093840" cy="128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6"/>
          <p:cNvSpPr/>
          <p:nvPr/>
        </p:nvSpPr>
        <p:spPr>
          <a:xfrm>
            <a:off x="3753000" y="2890800"/>
            <a:ext cx="0" cy="55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3559320" y="1839960"/>
            <a:ext cx="34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's HR then the content m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n HR type. If it's IT the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must be an IT ty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 flipH="1">
            <a:off x="3189240" y="2890800"/>
            <a:ext cx="56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 flipV="1">
            <a:off x="3176640" y="20142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176640" y="200196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 flipH="1">
            <a:off x="4741920" y="4206960"/>
            <a:ext cx="343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2"/>
          <p:cNvSpPr/>
          <p:nvPr/>
        </p:nvSpPr>
        <p:spPr>
          <a:xfrm flipV="1">
            <a:off x="5964120" y="16034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"/>
          <p:cNvSpPr/>
          <p:nvPr/>
        </p:nvSpPr>
        <p:spPr>
          <a:xfrm>
            <a:off x="5964120" y="15955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4"/>
          <p:cNvSpPr/>
          <p:nvPr/>
        </p:nvSpPr>
        <p:spPr>
          <a:xfrm>
            <a:off x="8174160" y="1612800"/>
            <a:ext cx="0" cy="259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5"/>
          <p:cNvSpPr/>
          <p:nvPr/>
        </p:nvSpPr>
        <p:spPr>
          <a:xfrm>
            <a:off x="1412280" y="597384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porate schema specifies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this earli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R Depa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R department wants to reuse the corporate schema, but prohibit IT cont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1249200" y="2952720"/>
            <a:ext cx="1641600" cy="13082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5"/>
          <p:cNvSpPr/>
          <p:nvPr/>
        </p:nvSpPr>
        <p:spPr>
          <a:xfrm>
            <a:off x="1185840" y="5327640"/>
            <a:ext cx="1641600" cy="12096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6"/>
          <p:cNvSpPr/>
          <p:nvPr/>
        </p:nvSpPr>
        <p:spPr>
          <a:xfrm flipV="1">
            <a:off x="1984320" y="4287600"/>
            <a:ext cx="0" cy="9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1966320" y="45673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3204720" y="4716360"/>
            <a:ext cx="340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 dept="_________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3492360" y="5097600"/>
            <a:ext cx="3094200" cy="128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0"/>
          <p:cNvSpPr/>
          <p:nvPr/>
        </p:nvSpPr>
        <p:spPr>
          <a:xfrm>
            <a:off x="5607000" y="4375080"/>
            <a:ext cx="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5384520" y="38638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pt="IT" t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2"/>
          <p:cNvSpPr/>
          <p:nvPr/>
        </p:nvSpPr>
        <p:spPr>
          <a:xfrm flipV="1">
            <a:off x="7854840" y="4362120"/>
            <a:ext cx="0" cy="67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7272720" y="4929120"/>
            <a:ext cx="193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if d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ccident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e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2371320" y="2792520"/>
            <a:ext cx="424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Times New Roman"/>
              </a:rPr>
              <a:t>overrid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3181680" y="2792520"/>
            <a:ext cx="254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Times New Roman"/>
              </a:rPr>
              <a:t>erro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4"/>
          <p:cNvSpPr/>
          <p:nvPr/>
        </p:nvSpPr>
        <p:spPr>
          <a:xfrm>
            <a:off x="457200" y="274680"/>
            <a:ext cx="84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able Customization u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ride and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customization is expressed in XML Schema 1.1 using override and erro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verr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place items in the corporate schema with your own data (and without changing the corporate schem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isallow the use of certain items in the corporate sch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uses of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85800" y="1981080"/>
            <a:ext cx="380988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as a temporary transport vehic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soon a the XML gets to its destination the data is extracted and put into a permanent storage mechanism (such as a database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s operate on the data in the permanent stor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as permanent stor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operate directly on the X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6148440" y="4232160"/>
            <a:ext cx="1437480" cy="1432440"/>
            <a:chOff x="6148440" y="4232160"/>
            <a:chExt cx="1437480" cy="1432440"/>
          </a:xfrm>
        </p:grpSpPr>
        <p:sp>
          <p:nvSpPr>
            <p:cNvPr id="69" name="Rectangle 8"/>
            <p:cNvSpPr/>
            <p:nvPr/>
          </p:nvSpPr>
          <p:spPr>
            <a:xfrm>
              <a:off x="6148440" y="4680000"/>
              <a:ext cx="460440" cy="5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7026840" y="423216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7036560" y="474192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7031520" y="526572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2"/>
            <p:cNvSpPr/>
            <p:nvPr/>
          </p:nvSpPr>
          <p:spPr>
            <a:xfrm flipH="1">
              <a:off x="6635880" y="4433760"/>
              <a:ext cx="38880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3"/>
            <p:cNvSpPr/>
            <p:nvPr/>
          </p:nvSpPr>
          <p:spPr>
            <a:xfrm flipH="1">
              <a:off x="6621480" y="4940280"/>
              <a:ext cx="38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 flipH="1" flipV="1">
              <a:off x="6607080" y="5127120"/>
              <a:ext cx="40320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15"/>
          <p:cNvGrpSpPr/>
          <p:nvPr/>
        </p:nvGrpSpPr>
        <p:grpSpPr>
          <a:xfrm>
            <a:off x="563400" y="5051520"/>
            <a:ext cx="4398120" cy="1432080"/>
            <a:chOff x="563400" y="5051520"/>
            <a:chExt cx="4398120" cy="1432080"/>
          </a:xfrm>
        </p:grpSpPr>
        <p:sp>
          <p:nvSpPr>
            <p:cNvPr id="77" name="Rectangle 16"/>
            <p:cNvSpPr/>
            <p:nvPr/>
          </p:nvSpPr>
          <p:spPr>
            <a:xfrm>
              <a:off x="563400" y="5456160"/>
              <a:ext cx="460440" cy="5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7"/>
            <p:cNvSpPr/>
            <p:nvPr/>
          </p:nvSpPr>
          <p:spPr>
            <a:xfrm>
              <a:off x="1125360" y="5773680"/>
              <a:ext cx="112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2359080" y="5465880"/>
              <a:ext cx="460440" cy="5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AutoShape 19"/>
            <p:cNvSpPr/>
            <p:nvPr/>
          </p:nvSpPr>
          <p:spPr>
            <a:xfrm>
              <a:off x="3463920" y="5353200"/>
              <a:ext cx="533520" cy="77940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0"/>
            <p:cNvSpPr/>
            <p:nvPr/>
          </p:nvSpPr>
          <p:spPr>
            <a:xfrm flipV="1">
              <a:off x="2843280" y="5614560"/>
              <a:ext cx="60480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>
              <a:off x="2843280" y="5729400"/>
              <a:ext cx="60480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2828880" y="5830920"/>
              <a:ext cx="60480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23"/>
            <p:cNvSpPr/>
            <p:nvPr/>
          </p:nvSpPr>
          <p:spPr>
            <a:xfrm>
              <a:off x="2779560" y="60753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"shred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4"/>
            <p:cNvSpPr/>
            <p:nvPr/>
          </p:nvSpPr>
          <p:spPr>
            <a:xfrm>
              <a:off x="4402800" y="505152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5"/>
            <p:cNvSpPr/>
            <p:nvPr/>
          </p:nvSpPr>
          <p:spPr>
            <a:xfrm>
              <a:off x="4412160" y="556092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26"/>
            <p:cNvSpPr/>
            <p:nvPr/>
          </p:nvSpPr>
          <p:spPr>
            <a:xfrm>
              <a:off x="4407480" y="608472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27"/>
            <p:cNvSpPr/>
            <p:nvPr/>
          </p:nvSpPr>
          <p:spPr>
            <a:xfrm flipH="1">
              <a:off x="4011120" y="5253120"/>
              <a:ext cx="38916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8"/>
            <p:cNvSpPr/>
            <p:nvPr/>
          </p:nvSpPr>
          <p:spPr>
            <a:xfrm flipH="1">
              <a:off x="3997440" y="5759280"/>
              <a:ext cx="38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9"/>
            <p:cNvSpPr/>
            <p:nvPr/>
          </p:nvSpPr>
          <p:spPr>
            <a:xfrm flipH="1" flipV="1">
              <a:off x="3983040" y="5946480"/>
              <a:ext cx="40320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30"/>
            <p:cNvSpPr/>
            <p:nvPr/>
          </p:nvSpPr>
          <p:spPr>
            <a:xfrm>
              <a:off x="1063440" y="580068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hip the 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examined five new features in XML Schema 1.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express policies and rules using asse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express conditional content using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define schema-wid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facilitate change using open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customize schemas that ordinarily are unchangeable, using override and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w Feature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Enabling Dissemination of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w Announcements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using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inherited attrib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4"/>
          <p:cNvSpPr/>
          <p:nvPr/>
        </p:nvSpPr>
        <p:spPr>
          <a:xfrm>
            <a:off x="1081080" y="528480"/>
            <a:ext cx="6095880" cy="59706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254600" y="549360"/>
            <a:ext cx="419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rchandise discount="10%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erchandi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6"/>
          <p:cNvSpPr/>
          <p:nvPr/>
        </p:nvSpPr>
        <p:spPr>
          <a:xfrm>
            <a:off x="3060720" y="368280"/>
            <a:ext cx="2357280" cy="868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5432400" y="393840"/>
            <a:ext cx="3470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his discount information to be visible (disseminated) throughout th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2292120" y="2349360"/>
            <a:ext cx="1305360" cy="33858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a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Coa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hir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hi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n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10"/>
          <p:cNvSpPr/>
          <p:nvPr/>
        </p:nvSpPr>
        <p:spPr>
          <a:xfrm rot="10800000">
            <a:off x="3930480" y="2140920"/>
            <a:ext cx="2849760" cy="1523880"/>
          </a:xfrm>
          <a:custGeom>
            <a:avLst/>
            <a:gdLst>
              <a:gd name="textAreaLeft" fmla="*/ 1639440 w 2849760"/>
              <a:gd name="textAreaRight" fmla="*/ 2404800 w 2849760"/>
              <a:gd name="textAreaTop" fmla="*/ 205200 h 1523880"/>
              <a:gd name="textAreaBottom" fmla="*/ 6523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AutoShape 4"/>
          <p:cNvSpPr/>
          <p:nvPr/>
        </p:nvSpPr>
        <p:spPr>
          <a:xfrm>
            <a:off x="1030320" y="528480"/>
            <a:ext cx="6095880" cy="59706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5"/>
          <p:cNvSpPr/>
          <p:nvPr/>
        </p:nvSpPr>
        <p:spPr>
          <a:xfrm>
            <a:off x="3009960" y="368280"/>
            <a:ext cx="2357280" cy="868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5381640" y="393840"/>
            <a:ext cx="3365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ant this discount attribute to be "inherite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1203840" y="549360"/>
            <a:ext cx="419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rchandise discount="10%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erchandi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2240640" y="2349360"/>
            <a:ext cx="1323720" cy="33858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a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Coa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hir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hir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n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an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4"/>
          <p:cNvSpPr/>
          <p:nvPr/>
        </p:nvSpPr>
        <p:spPr>
          <a:xfrm>
            <a:off x="1533600" y="528480"/>
            <a:ext cx="6095880" cy="59706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1707840" y="549360"/>
            <a:ext cx="3548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ntract language="F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Contra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6"/>
          <p:cNvSpPr/>
          <p:nvPr/>
        </p:nvSpPr>
        <p:spPr>
          <a:xfrm>
            <a:off x="2998800" y="368280"/>
            <a:ext cx="2070000" cy="866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5256360" y="393840"/>
            <a:ext cx="35226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his language information to be visible (disseminated) throughout th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2740680" y="2349360"/>
            <a:ext cx="2765520" cy="33858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reign-Relea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Foreign-Relea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te-Depart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tate-Depart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Leg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Leg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9"/>
          <p:cNvSpPr/>
          <p:nvPr/>
        </p:nvSpPr>
        <p:spPr>
          <a:xfrm rot="10800000">
            <a:off x="5567400" y="2141280"/>
            <a:ext cx="1665360" cy="1506600"/>
          </a:xfrm>
          <a:custGeom>
            <a:avLst/>
            <a:gdLst>
              <a:gd name="textAreaLeft" fmla="*/ 958320 w 1665360"/>
              <a:gd name="textAreaRight" fmla="*/ 1405440 w 1665360"/>
              <a:gd name="textAreaTop" fmla="*/ 203040 h 1506600"/>
              <a:gd name="textAreaBottom" fmla="*/ 644760 h 1506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AutoShape 4"/>
          <p:cNvSpPr/>
          <p:nvPr/>
        </p:nvSpPr>
        <p:spPr>
          <a:xfrm>
            <a:off x="1533600" y="528480"/>
            <a:ext cx="6095880" cy="59706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1707840" y="549360"/>
            <a:ext cx="3548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ntract language="F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Contra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2998800" y="368280"/>
            <a:ext cx="2070000" cy="866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5284800" y="393840"/>
            <a:ext cx="3365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ant this language attribute to be "inherite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740680" y="2349360"/>
            <a:ext cx="2765520" cy="33858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reign-Relea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Foreign-Relea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te-Depart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tate-Depart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Leg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Leg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1837440" y="2792520"/>
            <a:ext cx="539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Times New Roman"/>
              </a:rPr>
              <a:t>inherita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4"/>
          <p:cNvSpPr/>
          <p:nvPr/>
        </p:nvSpPr>
        <p:spPr>
          <a:xfrm>
            <a:off x="322200" y="274680"/>
            <a:ext cx="85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able Information Dissemin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using inheritab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57200" y="1925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the dissemination of information is expressed in XML Schema 1.1 using inheritable attribut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heri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is attribute can be viewed and used from here on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examined six new features in XML Schema 1.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ility to express policies and rules using asse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ility to express conditional content using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ility to define schema-wid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ility to facilitate change using open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ility to customize schemas that ordinarily are unchangeable, using override and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ility to disseminate information within a document using inheritabl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w Feature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Enabling User-Friendly Arrangement of Information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using "all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ML as a tempora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port vehi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1898640" y="2101680"/>
            <a:ext cx="4398120" cy="1432080"/>
            <a:chOff x="1898640" y="2101680"/>
            <a:chExt cx="4398120" cy="1432080"/>
          </a:xfrm>
        </p:grpSpPr>
        <p:sp>
          <p:nvSpPr>
            <p:cNvPr id="94" name="Rectangle 5"/>
            <p:cNvSpPr/>
            <p:nvPr/>
          </p:nvSpPr>
          <p:spPr>
            <a:xfrm>
              <a:off x="1898640" y="2506320"/>
              <a:ext cx="460440" cy="5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6"/>
            <p:cNvSpPr/>
            <p:nvPr/>
          </p:nvSpPr>
          <p:spPr>
            <a:xfrm>
              <a:off x="2460600" y="2823840"/>
              <a:ext cx="112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3694320" y="2516040"/>
              <a:ext cx="460440" cy="5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8"/>
            <p:cNvSpPr/>
            <p:nvPr/>
          </p:nvSpPr>
          <p:spPr>
            <a:xfrm>
              <a:off x="4799160" y="2403360"/>
              <a:ext cx="533520" cy="77940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9"/>
            <p:cNvSpPr/>
            <p:nvPr/>
          </p:nvSpPr>
          <p:spPr>
            <a:xfrm flipV="1">
              <a:off x="4178520" y="2664720"/>
              <a:ext cx="60480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>
              <a:off x="4178520" y="2779560"/>
              <a:ext cx="60480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1"/>
            <p:cNvSpPr/>
            <p:nvPr/>
          </p:nvSpPr>
          <p:spPr>
            <a:xfrm>
              <a:off x="4164120" y="2881080"/>
              <a:ext cx="60480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4114800" y="3125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"shred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5738040" y="210168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4"/>
            <p:cNvSpPr/>
            <p:nvPr/>
          </p:nvSpPr>
          <p:spPr>
            <a:xfrm>
              <a:off x="5747400" y="261108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15"/>
            <p:cNvSpPr/>
            <p:nvPr/>
          </p:nvSpPr>
          <p:spPr>
            <a:xfrm>
              <a:off x="5742720" y="313488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6"/>
            <p:cNvSpPr/>
            <p:nvPr/>
          </p:nvSpPr>
          <p:spPr>
            <a:xfrm flipH="1">
              <a:off x="5346360" y="2303280"/>
              <a:ext cx="38916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7"/>
            <p:cNvSpPr/>
            <p:nvPr/>
          </p:nvSpPr>
          <p:spPr>
            <a:xfrm flipH="1">
              <a:off x="5332680" y="2809440"/>
              <a:ext cx="38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8"/>
            <p:cNvSpPr/>
            <p:nvPr/>
          </p:nvSpPr>
          <p:spPr>
            <a:xfrm flipH="1" flipV="1">
              <a:off x="5318280" y="2996640"/>
              <a:ext cx="40320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9"/>
            <p:cNvSpPr/>
            <p:nvPr/>
          </p:nvSpPr>
          <p:spPr>
            <a:xfrm>
              <a:off x="2398680" y="285084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hip the 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Line 20"/>
          <p:cNvSpPr/>
          <p:nvPr/>
        </p:nvSpPr>
        <p:spPr>
          <a:xfrm flipH="1" flipV="1">
            <a:off x="2197080" y="3155760"/>
            <a:ext cx="56376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1"/>
          <p:cNvSpPr/>
          <p:nvPr/>
        </p:nvSpPr>
        <p:spPr>
          <a:xfrm flipV="1">
            <a:off x="3244680" y="3164040"/>
            <a:ext cx="528840" cy="11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2552760" y="4295880"/>
            <a:ext cx="54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XML Schema can be used as a contract between the sender and the receiver: "Here's the information we agree to exchange, and the format of the information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era L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face"/>
          <p:cNvPicPr/>
          <p:nvPr/>
        </p:nvPicPr>
        <p:blipFill>
          <a:blip r:embed="rId1"/>
          <a:stretch/>
        </p:blipFill>
        <p:spPr>
          <a:xfrm>
            <a:off x="19080" y="3833640"/>
            <a:ext cx="1455840" cy="126540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5"/>
          <p:cNvSpPr/>
          <p:nvPr/>
        </p:nvSpPr>
        <p:spPr>
          <a:xfrm>
            <a:off x="1071720" y="2063880"/>
            <a:ext cx="3379680" cy="1747800"/>
          </a:xfrm>
          <a:prstGeom prst="wedgeRoundRectCallout">
            <a:avLst>
              <a:gd name="adj1" fmla="val -46337"/>
              <a:gd name="adj2" fmla="val 71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mera comes with a 37-155mm zoom lens that has an f-stop of 4.8-1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6" descr="face"/>
          <p:cNvPicPr/>
          <p:nvPr/>
        </p:nvPicPr>
        <p:blipFill>
          <a:blip r:embed="rId2"/>
          <a:stretch/>
        </p:blipFill>
        <p:spPr>
          <a:xfrm>
            <a:off x="7664400" y="3670200"/>
            <a:ext cx="1455840" cy="126540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7"/>
          <p:cNvSpPr/>
          <p:nvPr/>
        </p:nvSpPr>
        <p:spPr>
          <a:xfrm>
            <a:off x="4624560" y="2044800"/>
            <a:ext cx="3379680" cy="1747800"/>
          </a:xfrm>
          <a:prstGeom prst="wedgeRoundRectCallout">
            <a:avLst>
              <a:gd name="adj1" fmla="val 48356"/>
              <a:gd name="adj2" fmla="val 679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mera comes with a lens that has an f-stop of 4.8-11.7 and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-155mm zo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s Order Really Ma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357480" y="1622520"/>
            <a:ext cx="8631000" cy="204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amera-Len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f-stop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8-11.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f-sto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focal-length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7-155mm zo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focal-length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Camera-Len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347760" y="4532400"/>
            <a:ext cx="8631000" cy="204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amera-Len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focal-length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7-155mm zo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focal-length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f-stop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8-11.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f-sto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Camera-Len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3243600" y="38736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- versu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s Order Really Mat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2104920" y="2887560"/>
            <a:ext cx="4613400" cy="8254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y not. To be user-friendly, allow both 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1.0 was pretty controlling in terms of the order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1.1 is much less controlling; schemas can be designed to allow the data to be arranged in any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3799080" y="2728800"/>
            <a:ext cx="139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Times New Roman"/>
              </a:rPr>
              <a:t>al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378080" y="5576760"/>
            <a:ext cx="653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"all" is found in XML Schema 1.0, but it did not permit elements with maxOccurs of 2 or more. XML Schema 1.1 does not have this restri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4"/>
          <p:cNvSpPr/>
          <p:nvPr/>
        </p:nvSpPr>
        <p:spPr>
          <a:xfrm>
            <a:off x="322200" y="550800"/>
            <a:ext cx="85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able a user-friendly arrangement of inform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using "all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457200" y="2625840"/>
            <a:ext cx="8229600" cy="31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information to be expressed in any order is accomplished in XML Schema 1.1 using the "all" element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rovide the f-stop and the focal-length of the camera lens in an order that is useful to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examined seven new features in XML Schema 1.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ility to express policies and rules using asser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ility to express conditional content using alter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ility to define schema-wid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ility to facilitate change using open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ility to customize schemas that ordinarily are unchangeable, using override an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ility to disseminate information within a document using inheritabl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ility to present the information in a user-friendly order, using the "all"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Other New Fea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ny names of "subway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different ways of saying "I took the subway into town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oston we say "I took the T into town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.C. they say "I took the metro into town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ondon they say "I took the tube into town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hicago they say "I took the L into town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12120" cy="12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1.1 enables you to express "T can be substituted for either metro or tube or L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5"/>
          <p:cNvSpPr/>
          <p:nvPr/>
        </p:nvSpPr>
        <p:spPr>
          <a:xfrm>
            <a:off x="4222800" y="52992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7"/>
          <p:cNvSpPr/>
          <p:nvPr/>
        </p:nvSpPr>
        <p:spPr>
          <a:xfrm>
            <a:off x="2620800" y="3255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8"/>
          <p:cNvSpPr/>
          <p:nvPr/>
        </p:nvSpPr>
        <p:spPr>
          <a:xfrm>
            <a:off x="5607000" y="31561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9"/>
          <p:cNvSpPr/>
          <p:nvPr/>
        </p:nvSpPr>
        <p:spPr>
          <a:xfrm flipH="1" flipV="1">
            <a:off x="3254040" y="4168440"/>
            <a:ext cx="1165320" cy="11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0"/>
          <p:cNvSpPr/>
          <p:nvPr/>
        </p:nvSpPr>
        <p:spPr>
          <a:xfrm flipV="1">
            <a:off x="4930920" y="4041360"/>
            <a:ext cx="912600" cy="12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1"/>
          <p:cNvSpPr/>
          <p:nvPr/>
        </p:nvSpPr>
        <p:spPr>
          <a:xfrm>
            <a:off x="2432160" y="468144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ubstitutabl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5203800" y="470376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ubstitutabl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13"/>
          <p:cNvSpPr/>
          <p:nvPr/>
        </p:nvSpPr>
        <p:spPr>
          <a:xfrm>
            <a:off x="4208400" y="314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4"/>
          <p:cNvSpPr/>
          <p:nvPr/>
        </p:nvSpPr>
        <p:spPr>
          <a:xfrm flipV="1">
            <a:off x="4670280" y="4114800"/>
            <a:ext cx="0" cy="11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3903840" y="430992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ubstitutabl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9:00:49Z</dcterms:created>
  <dc:creator>Roger L. Costello</dc:creator>
  <dc:description>Copyright 2009. The MITRE Corporation. All Rights Reserved.</dc:description>
  <cp:keywords>XML Schema 1.1 tutorial XML Schema 1.1 tutorial</cp:keywords>
  <dc:language>en-US</dc:language>
  <cp:lastModifiedBy>Costello, Roger L.</cp:lastModifiedBy>
  <dcterms:modified xsi:type="dcterms:W3CDTF">2012-12-14T20:07:30Z</dcterms:modified>
  <cp:revision>1334</cp:revision>
  <dc:subject/>
  <dc:title>XML Schema 1.1 for Managers</dc:title>
</cp:coreProperties>
</file>