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8567280" y="144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00BE-9C6A-4E57-ACE4-025F60F5DDFF}" type="slidenum">
              <a:rPr b="0" lang="en-US" sz="1200" spc="-1" strike="noStrike">
                <a:solidFill>
                  <a:srgbClr val="91919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725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XS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236000" y="6248160"/>
            <a:ext cx="1908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Roger L. Cost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7 November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 within XS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111320" y="2104920"/>
            <a:ext cx="6921360" cy="3660120"/>
          </a:xfrm>
          <a:prstGeom prst="rect">
            <a:avLst/>
          </a:prstGeom>
          <a:noFill/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800"/>
            </a:b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                        version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Document/@classification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4572000" y="346068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Path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eft Brace 1"/>
          <p:cNvSpPr/>
          <p:nvPr/>
        </p:nvSpPr>
        <p:spPr>
          <a:xfrm rot="5400000">
            <a:off x="4823280" y="2853360"/>
            <a:ext cx="513000" cy="2463840"/>
          </a:xfrm>
          <a:custGeom>
            <a:avLst/>
            <a:gdLst>
              <a:gd name="textAreaLeft" fmla="*/ 327960 w 513000"/>
              <a:gd name="textAreaRight" fmla="*/ 513360 w 513000"/>
              <a:gd name="textAreaTop" fmla="*/ 13320 h 2463840"/>
              <a:gd name="textAreaBottom" fmla="*/ 2450520 h 246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7"/>
                  <a:pt x="10800" y="374"/>
                </a:cubicBezTo>
                <a:lnTo>
                  <a:pt x="10800" y="10426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7"/>
                  <a:pt x="10800" y="11174"/>
                </a:cubicBezTo>
                <a:lnTo>
                  <a:pt x="10800" y="21226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s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111320" y="2104920"/>
            <a:ext cx="6921360" cy="3660120"/>
          </a:xfrm>
          <a:prstGeom prst="rect">
            <a:avLst/>
          </a:prstGeom>
          <a:noFill/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800"/>
            </a:b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                        version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Document/@classification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4572000" y="346068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Path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eft Brace 1"/>
          <p:cNvSpPr/>
          <p:nvPr/>
        </p:nvSpPr>
        <p:spPr>
          <a:xfrm rot="5400000">
            <a:off x="4823280" y="2853360"/>
            <a:ext cx="513000" cy="2463840"/>
          </a:xfrm>
          <a:custGeom>
            <a:avLst/>
            <a:gdLst>
              <a:gd name="textAreaLeft" fmla="*/ 327960 w 513000"/>
              <a:gd name="textAreaRight" fmla="*/ 513360 w 513000"/>
              <a:gd name="textAreaTop" fmla="*/ 13320 h 2463840"/>
              <a:gd name="textAreaBottom" fmla="*/ 2450520 h 246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7"/>
                  <a:pt x="10800" y="374"/>
                </a:cubicBezTo>
                <a:lnTo>
                  <a:pt x="10800" y="10426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7"/>
                  <a:pt x="10800" y="11174"/>
                </a:cubicBezTo>
                <a:lnTo>
                  <a:pt x="10800" y="21226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ap value in start/end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11320" y="2104920"/>
            <a:ext cx="6921360" cy="3660120"/>
          </a:xfrm>
          <a:prstGeom prst="rect">
            <a:avLst/>
          </a:prstGeom>
          <a:noFill/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800"/>
            </a:b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                       version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lt;Document-Classificati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Document/@classification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lt;/Document-Classificati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1633680" y="920880"/>
            <a:ext cx="2620800" cy="1159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26c9"/>
                </a:solidFill>
                <a:latin typeface="Arial"/>
                <a:ea typeface="Arial"/>
              </a:rPr>
              <a:t>&lt;?xml version="1.0" encoding="UTF-8"?&gt;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Document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secret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Para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unclassified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One if by land, two if by sea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Para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...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Docum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ounded Rectangle 3"/>
          <p:cNvSpPr/>
          <p:nvPr/>
        </p:nvSpPr>
        <p:spPr>
          <a:xfrm>
            <a:off x="1895400" y="2873520"/>
            <a:ext cx="2046240" cy="73008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own Arrow 4"/>
          <p:cNvSpPr/>
          <p:nvPr/>
        </p:nvSpPr>
        <p:spPr>
          <a:xfrm>
            <a:off x="2778120" y="2097000"/>
            <a:ext cx="347760" cy="7765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own Arrow 5"/>
          <p:cNvSpPr/>
          <p:nvPr/>
        </p:nvSpPr>
        <p:spPr>
          <a:xfrm>
            <a:off x="2778120" y="3610080"/>
            <a:ext cx="347760" cy="1253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46200" y="4976640"/>
            <a:ext cx="4545000" cy="27648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6"/>
                </a:solidFill>
                <a:latin typeface="Arial"/>
                <a:ea typeface="Arial"/>
              </a:rPr>
              <a:t>&lt; Document-Classification 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cret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  <a:ea typeface="Arial"/>
              </a:rPr>
              <a:t>&lt;/ Document-Classification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ight Arrow 8"/>
          <p:cNvSpPr/>
          <p:nvPr/>
        </p:nvSpPr>
        <p:spPr>
          <a:xfrm flipH="1">
            <a:off x="3941640" y="3090960"/>
            <a:ext cx="959040" cy="349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900680" y="2676600"/>
            <a:ext cx="3786120" cy="187704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b26c9"/>
                </a:solidFill>
                <a:latin typeface="Arial"/>
                <a:ea typeface="Arial"/>
              </a:rPr>
              <a:t>&lt;?xml version="1.0" encoding="UTF-8"?&gt;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Arial"/>
                <a:ea typeface="Arial"/>
              </a:rPr>
              <a:t>&lt;xsl:stylesheet</a:t>
            </a:r>
            <a:r>
              <a:rPr b="0" lang="en-US" sz="900" spc="-1" strike="noStrike">
                <a:solidFill>
                  <a:srgbClr val="f5844c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0099cc"/>
                </a:solidFill>
                <a:latin typeface="Arial"/>
                <a:ea typeface="Arial"/>
              </a:rPr>
              <a:t>xmlns:xsl</a:t>
            </a:r>
            <a:r>
              <a:rPr b="0" lang="en-US" sz="9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Arial"/>
                <a:ea typeface="Arial"/>
              </a:rPr>
              <a:t>"http://www.w3.org/1999/XSL/Transform"</a:t>
            </a:r>
            <a:br>
              <a:rPr sz="900"/>
            </a:br>
            <a:r>
              <a:rPr b="0" lang="en-US" sz="900" spc="-1" strike="noStrike">
                <a:solidFill>
                  <a:srgbClr val="f5844c"/>
                </a:solidFill>
                <a:latin typeface="Arial"/>
                <a:ea typeface="Arial"/>
              </a:rPr>
              <a:t>                         version</a:t>
            </a:r>
            <a:r>
              <a:rPr b="0" lang="en-US" sz="9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Arial"/>
                <a:ea typeface="Arial"/>
              </a:rPr>
              <a:t>"3.0"</a:t>
            </a:r>
            <a:r>
              <a:rPr b="0" lang="en-US" sz="9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Arial"/>
                <a:ea typeface="Arial"/>
              </a:rPr>
              <a:t>&lt;xsl:output</a:t>
            </a:r>
            <a:r>
              <a:rPr b="0" lang="en-US" sz="900" spc="-1" strike="noStrike">
                <a:solidFill>
                  <a:srgbClr val="f5844c"/>
                </a:solidFill>
                <a:latin typeface="Arial"/>
                <a:ea typeface="Arial"/>
              </a:rPr>
              <a:t> method</a:t>
            </a:r>
            <a:r>
              <a:rPr b="0" lang="en-US" sz="9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Arial"/>
                <a:ea typeface="Arial"/>
              </a:rPr>
              <a:t>"xml"</a:t>
            </a:r>
            <a:r>
              <a:rPr b="0" lang="en-US" sz="900" spc="-1" strike="noStrike">
                <a:solidFill>
                  <a:srgbClr val="f5844c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Arial"/>
                <a:ea typeface="Arial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Arial"/>
                <a:ea typeface="Arial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Arial"/>
                <a:ea typeface="Arial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Arial"/>
                <a:ea typeface="Arial"/>
              </a:rPr>
              <a:t>"/"</a:t>
            </a:r>
            <a:r>
              <a:rPr b="0" lang="en-US" sz="9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900" spc="-1" strike="noStrike">
                <a:solidFill>
                  <a:srgbClr val="000096"/>
                </a:solidFill>
                <a:latin typeface="Arial"/>
                <a:ea typeface="Arial"/>
              </a:rPr>
              <a:t>&lt;Document-Classification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900" spc="-1" strike="noStrike">
                <a:solidFill>
                  <a:srgbClr val="005ab4"/>
                </a:solidFill>
                <a:latin typeface="Arial"/>
                <a:ea typeface="Arial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Arial"/>
                <a:ea typeface="Arial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Arial"/>
                <a:ea typeface="Arial"/>
              </a:rPr>
              <a:t>"/Document/@classification"</a:t>
            </a:r>
            <a:r>
              <a:rPr b="0" lang="en-US" sz="900" spc="-1" strike="noStrike">
                <a:solidFill>
                  <a:srgbClr val="f5844c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Arial"/>
                <a:ea typeface="Arial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900" spc="-1" strike="noStrike">
                <a:solidFill>
                  <a:srgbClr val="000096"/>
                </a:solidFill>
                <a:latin typeface="Arial"/>
                <a:ea typeface="Arial"/>
              </a:rPr>
              <a:t>&lt;/Document-Classification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Arial"/>
                <a:ea typeface="Arial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Arial"/>
                <a:ea typeface="Arial"/>
              </a:rPr>
              <a:t>&lt;/xsl:styleshee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2517480" y="30636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173560" y="20750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2535120" y="5253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see how to perform the transformation shown on the previous sl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use Oxygen XML to perform the trans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slides show 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ad XML document into 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7"/>
          <p:cNvGrpSpPr/>
          <p:nvPr/>
        </p:nvGrpSpPr>
        <p:grpSpPr>
          <a:xfrm>
            <a:off x="520560" y="1892160"/>
            <a:ext cx="7937640" cy="4419720"/>
            <a:chOff x="520560" y="1892160"/>
            <a:chExt cx="7937640" cy="4419720"/>
          </a:xfrm>
        </p:grpSpPr>
        <p:pic>
          <p:nvPicPr>
            <p:cNvPr id="169" name="Picture 2" descr=""/>
            <p:cNvPicPr/>
            <p:nvPr/>
          </p:nvPicPr>
          <p:blipFill>
            <a:blip r:embed="rId1"/>
            <a:srcRect l="0" t="0" r="34895" b="38950"/>
            <a:stretch/>
          </p:blipFill>
          <p:spPr>
            <a:xfrm>
              <a:off x="520560" y="1892160"/>
              <a:ext cx="7937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Straight Connector 4"/>
            <p:cNvSpPr/>
            <p:nvPr/>
          </p:nvSpPr>
          <p:spPr>
            <a:xfrm>
              <a:off x="520560" y="6311880"/>
              <a:ext cx="793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Straight Connector 6"/>
            <p:cNvSpPr/>
            <p:nvPr/>
          </p:nvSpPr>
          <p:spPr>
            <a:xfrm>
              <a:off x="8458200" y="1892160"/>
              <a:ext cx="0" cy="441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rcRect l="0" t="0" r="26459" b="39651"/>
          <a:stretch/>
        </p:blipFill>
        <p:spPr>
          <a:xfrm>
            <a:off x="114480" y="1752480"/>
            <a:ext cx="8966160" cy="4368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e XS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Straight Arrow Connector 4"/>
          <p:cNvCxnSpPr/>
          <p:nvPr/>
        </p:nvCxnSpPr>
        <p:spPr>
          <a:xfrm flipV="1">
            <a:off x="6565680" y="2781000"/>
            <a:ext cx="711720" cy="1092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TextBox 5"/>
          <p:cNvSpPr/>
          <p:nvPr/>
        </p:nvSpPr>
        <p:spPr>
          <a:xfrm>
            <a:off x="5798880" y="386064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on this 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the XSLT t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590920" y="3071880"/>
            <a:ext cx="3962160" cy="1933560"/>
          </a:xfrm>
          <a:prstGeom prst="rect">
            <a:avLst/>
          </a:prstGeom>
          <a:ln w="0">
            <a:noFill/>
          </a:ln>
        </p:spPr>
      </p:pic>
      <p:cxnSp>
        <p:nvCxnSpPr>
          <p:cNvPr id="178" name="Straight Arrow Connector 4"/>
          <p:cNvCxnSpPr/>
          <p:nvPr/>
        </p:nvCxnSpPr>
        <p:spPr>
          <a:xfrm>
            <a:off x="3200040" y="2603520"/>
            <a:ext cx="1080" cy="775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TextBox 5"/>
          <p:cNvSpPr/>
          <p:nvPr/>
        </p:nvSpPr>
        <p:spPr>
          <a:xfrm>
            <a:off x="3000960" y="22604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the folder ic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863640" y="3186000"/>
            <a:ext cx="3962520" cy="1933560"/>
          </a:xfrm>
          <a:prstGeom prst="rect">
            <a:avLst/>
          </a:prstGeom>
          <a:ln w="0">
            <a:noFill/>
          </a:ln>
        </p:spPr>
      </p:pic>
      <p:cxnSp>
        <p:nvCxnSpPr>
          <p:cNvPr id="182" name="Straight Arrow Connector 4"/>
          <p:cNvCxnSpPr/>
          <p:nvPr/>
        </p:nvCxnSpPr>
        <p:spPr>
          <a:xfrm>
            <a:off x="4292280" y="2921040"/>
            <a:ext cx="514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TextBox 5"/>
          <p:cNvSpPr/>
          <p:nvPr/>
        </p:nvSpPr>
        <p:spPr>
          <a:xfrm>
            <a:off x="4114800" y="2298600"/>
            <a:ext cx="49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on this and then navigate to the XSLT document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t-Document-Classification.xs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the OK but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590920" y="2462040"/>
            <a:ext cx="3962160" cy="1933920"/>
          </a:xfrm>
          <a:prstGeom prst="rect">
            <a:avLst/>
          </a:prstGeom>
          <a:ln w="0">
            <a:noFill/>
          </a:ln>
        </p:spPr>
      </p:pic>
      <p:cxnSp>
        <p:nvCxnSpPr>
          <p:cNvPr id="186" name="Straight Arrow Connector 4"/>
          <p:cNvCxnSpPr/>
          <p:nvPr/>
        </p:nvCxnSpPr>
        <p:spPr>
          <a:xfrm flipV="1">
            <a:off x="5270040" y="4279680"/>
            <a:ext cx="1080" cy="546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TextBox 5"/>
          <p:cNvSpPr/>
          <p:nvPr/>
        </p:nvSpPr>
        <p:spPr>
          <a:xfrm>
            <a:off x="4981680" y="482616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Kinds of Outp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0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may be used to transform an XML document into 3 types of documents: HTML, XML, or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973240" y="5127480"/>
            <a:ext cx="3079800" cy="110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433680" y="5429160"/>
            <a:ext cx="220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SLT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4429080" y="448632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4100400" y="3755880"/>
            <a:ext cx="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789440" y="394812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4092480" y="3730680"/>
            <a:ext cx="690480" cy="231840"/>
          </a:xfrm>
          <a:custGeom>
            <a:avLst/>
            <a:gdLst>
              <a:gd name="textAreaLeft" fmla="*/ 0 w 690480"/>
              <a:gd name="textAreaRight" fmla="*/ 690840 w 6904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73" h="116">
                <a:moveTo>
                  <a:pt x="0" y="0"/>
                </a:moveTo>
                <a:lnTo>
                  <a:pt x="25" y="25"/>
                </a:lnTo>
                <a:lnTo>
                  <a:pt x="50" y="33"/>
                </a:lnTo>
                <a:lnTo>
                  <a:pt x="83" y="41"/>
                </a:lnTo>
                <a:lnTo>
                  <a:pt x="116" y="49"/>
                </a:lnTo>
                <a:lnTo>
                  <a:pt x="148" y="66"/>
                </a:lnTo>
                <a:lnTo>
                  <a:pt x="173" y="90"/>
                </a:lnTo>
                <a:lnTo>
                  <a:pt x="198" y="90"/>
                </a:lnTo>
                <a:lnTo>
                  <a:pt x="231" y="98"/>
                </a:lnTo>
                <a:lnTo>
                  <a:pt x="263" y="115"/>
                </a:lnTo>
                <a:lnTo>
                  <a:pt x="272" y="1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10"/>
          <p:cNvSpPr/>
          <p:nvPr/>
        </p:nvSpPr>
        <p:spPr>
          <a:xfrm>
            <a:off x="4098960" y="4368960"/>
            <a:ext cx="690480" cy="231480"/>
          </a:xfrm>
          <a:custGeom>
            <a:avLst/>
            <a:gdLst>
              <a:gd name="textAreaLeft" fmla="*/ 0 w 690480"/>
              <a:gd name="textAreaRight" fmla="*/ 690840 w 69048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273" h="116">
                <a:moveTo>
                  <a:pt x="0" y="0"/>
                </a:moveTo>
                <a:lnTo>
                  <a:pt x="25" y="25"/>
                </a:lnTo>
                <a:lnTo>
                  <a:pt x="50" y="33"/>
                </a:lnTo>
                <a:lnTo>
                  <a:pt x="83" y="41"/>
                </a:lnTo>
                <a:lnTo>
                  <a:pt x="116" y="49"/>
                </a:lnTo>
                <a:lnTo>
                  <a:pt x="148" y="66"/>
                </a:lnTo>
                <a:lnTo>
                  <a:pt x="173" y="90"/>
                </a:lnTo>
                <a:lnTo>
                  <a:pt x="198" y="90"/>
                </a:lnTo>
                <a:lnTo>
                  <a:pt x="231" y="98"/>
                </a:lnTo>
                <a:lnTo>
                  <a:pt x="263" y="115"/>
                </a:lnTo>
                <a:lnTo>
                  <a:pt x="272" y="1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4176720" y="4035600"/>
            <a:ext cx="56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1535040" y="5207040"/>
            <a:ext cx="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2297160" y="5392800"/>
            <a:ext cx="0" cy="6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15"/>
          <p:cNvSpPr/>
          <p:nvPr/>
        </p:nvSpPr>
        <p:spPr>
          <a:xfrm>
            <a:off x="1523880" y="5183280"/>
            <a:ext cx="765360" cy="223920"/>
          </a:xfrm>
          <a:custGeom>
            <a:avLst/>
            <a:gdLst>
              <a:gd name="textAreaLeft" fmla="*/ 0 w 765360"/>
              <a:gd name="textAreaRight" fmla="*/ 765720 w 7653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273" h="116">
                <a:moveTo>
                  <a:pt x="0" y="0"/>
                </a:moveTo>
                <a:lnTo>
                  <a:pt x="25" y="25"/>
                </a:lnTo>
                <a:lnTo>
                  <a:pt x="50" y="33"/>
                </a:lnTo>
                <a:lnTo>
                  <a:pt x="83" y="41"/>
                </a:lnTo>
                <a:lnTo>
                  <a:pt x="116" y="49"/>
                </a:lnTo>
                <a:lnTo>
                  <a:pt x="148" y="66"/>
                </a:lnTo>
                <a:lnTo>
                  <a:pt x="173" y="90"/>
                </a:lnTo>
                <a:lnTo>
                  <a:pt x="198" y="90"/>
                </a:lnTo>
                <a:lnTo>
                  <a:pt x="231" y="98"/>
                </a:lnTo>
                <a:lnTo>
                  <a:pt x="263" y="115"/>
                </a:lnTo>
                <a:lnTo>
                  <a:pt x="272" y="1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6"/>
          <p:cNvSpPr/>
          <p:nvPr/>
        </p:nvSpPr>
        <p:spPr>
          <a:xfrm>
            <a:off x="1531800" y="5799240"/>
            <a:ext cx="765360" cy="223560"/>
          </a:xfrm>
          <a:custGeom>
            <a:avLst/>
            <a:gdLst>
              <a:gd name="textAreaLeft" fmla="*/ 0 w 765360"/>
              <a:gd name="textAreaRight" fmla="*/ 765720 w 76536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273" h="116">
                <a:moveTo>
                  <a:pt x="0" y="0"/>
                </a:moveTo>
                <a:lnTo>
                  <a:pt x="25" y="25"/>
                </a:lnTo>
                <a:lnTo>
                  <a:pt x="50" y="33"/>
                </a:lnTo>
                <a:lnTo>
                  <a:pt x="83" y="41"/>
                </a:lnTo>
                <a:lnTo>
                  <a:pt x="116" y="49"/>
                </a:lnTo>
                <a:lnTo>
                  <a:pt x="148" y="66"/>
                </a:lnTo>
                <a:lnTo>
                  <a:pt x="173" y="90"/>
                </a:lnTo>
                <a:lnTo>
                  <a:pt x="198" y="90"/>
                </a:lnTo>
                <a:lnTo>
                  <a:pt x="231" y="98"/>
                </a:lnTo>
                <a:lnTo>
                  <a:pt x="263" y="115"/>
                </a:lnTo>
                <a:lnTo>
                  <a:pt x="272" y="1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1663200" y="5487840"/>
            <a:ext cx="519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>
            <a:off x="2308320" y="5646600"/>
            <a:ext cx="639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6075360" y="5603760"/>
            <a:ext cx="639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6721560" y="527688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7445520" y="54626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23"/>
          <p:cNvSpPr/>
          <p:nvPr/>
        </p:nvSpPr>
        <p:spPr>
          <a:xfrm>
            <a:off x="6711840" y="5253120"/>
            <a:ext cx="727200" cy="223920"/>
          </a:xfrm>
          <a:custGeom>
            <a:avLst/>
            <a:gdLst>
              <a:gd name="textAreaLeft" fmla="*/ 0 w 727200"/>
              <a:gd name="textAreaRight" fmla="*/ 727560 w 7272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273" h="116">
                <a:moveTo>
                  <a:pt x="0" y="0"/>
                </a:moveTo>
                <a:lnTo>
                  <a:pt x="25" y="25"/>
                </a:lnTo>
                <a:lnTo>
                  <a:pt x="50" y="33"/>
                </a:lnTo>
                <a:lnTo>
                  <a:pt x="83" y="41"/>
                </a:lnTo>
                <a:lnTo>
                  <a:pt x="116" y="49"/>
                </a:lnTo>
                <a:lnTo>
                  <a:pt x="148" y="66"/>
                </a:lnTo>
                <a:lnTo>
                  <a:pt x="173" y="90"/>
                </a:lnTo>
                <a:lnTo>
                  <a:pt x="198" y="90"/>
                </a:lnTo>
                <a:lnTo>
                  <a:pt x="231" y="98"/>
                </a:lnTo>
                <a:lnTo>
                  <a:pt x="263" y="115"/>
                </a:lnTo>
                <a:lnTo>
                  <a:pt x="272" y="1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24"/>
          <p:cNvSpPr/>
          <p:nvPr/>
        </p:nvSpPr>
        <p:spPr>
          <a:xfrm>
            <a:off x="6718320" y="5872320"/>
            <a:ext cx="727200" cy="223560"/>
          </a:xfrm>
          <a:custGeom>
            <a:avLst/>
            <a:gdLst>
              <a:gd name="textAreaLeft" fmla="*/ 0 w 727200"/>
              <a:gd name="textAreaRight" fmla="*/ 727560 w 72720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273" h="116">
                <a:moveTo>
                  <a:pt x="0" y="0"/>
                </a:moveTo>
                <a:lnTo>
                  <a:pt x="25" y="25"/>
                </a:lnTo>
                <a:lnTo>
                  <a:pt x="50" y="33"/>
                </a:lnTo>
                <a:lnTo>
                  <a:pt x="83" y="41"/>
                </a:lnTo>
                <a:lnTo>
                  <a:pt x="116" y="49"/>
                </a:lnTo>
                <a:lnTo>
                  <a:pt x="148" y="66"/>
                </a:lnTo>
                <a:lnTo>
                  <a:pt x="173" y="90"/>
                </a:lnTo>
                <a:lnTo>
                  <a:pt x="198" y="90"/>
                </a:lnTo>
                <a:lnTo>
                  <a:pt x="231" y="98"/>
                </a:lnTo>
                <a:lnTo>
                  <a:pt x="263" y="115"/>
                </a:lnTo>
                <a:lnTo>
                  <a:pt x="272" y="1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6780240" y="5559480"/>
            <a:ext cx="1914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      (or XML or 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re’s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tylesheet P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t top of the XML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7"/>
          <p:cNvGrpSpPr/>
          <p:nvPr/>
        </p:nvGrpSpPr>
        <p:grpSpPr>
          <a:xfrm>
            <a:off x="1663560" y="2070000"/>
            <a:ext cx="5816880" cy="4572000"/>
            <a:chOff x="1663560" y="2070000"/>
            <a:chExt cx="5816880" cy="4572000"/>
          </a:xfrm>
        </p:grpSpPr>
        <p:pic>
          <p:nvPicPr>
            <p:cNvPr id="190" name="Picture 2" descr=""/>
            <p:cNvPicPr/>
            <p:nvPr/>
          </p:nvPicPr>
          <p:blipFill>
            <a:blip r:embed="rId1"/>
            <a:srcRect l="0" t="0" r="52293" b="37194"/>
            <a:stretch/>
          </p:blipFill>
          <p:spPr>
            <a:xfrm>
              <a:off x="1663560" y="2070000"/>
              <a:ext cx="5816880" cy="45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Straight Connector 4"/>
            <p:cNvSpPr/>
            <p:nvPr/>
          </p:nvSpPr>
          <p:spPr>
            <a:xfrm>
              <a:off x="7455240" y="2070000"/>
              <a:ext cx="25200" cy="45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Straight Connector 6"/>
            <p:cNvSpPr/>
            <p:nvPr/>
          </p:nvSpPr>
          <p:spPr>
            <a:xfrm>
              <a:off x="1688760" y="6642000"/>
              <a:ext cx="579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3" name="Straight Arrow Connector 9"/>
          <p:cNvCxnSpPr/>
          <p:nvPr/>
        </p:nvCxnSpPr>
        <p:spPr>
          <a:xfrm flipH="1" flipV="1">
            <a:off x="5498280" y="3733200"/>
            <a:ext cx="724680" cy="711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TextBox 11"/>
          <p:cNvSpPr/>
          <p:nvPr/>
        </p:nvSpPr>
        <p:spPr>
          <a:xfrm>
            <a:off x="6026760" y="4392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ylesheet 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Apply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rcRect l="0" t="0" r="36980" b="40832"/>
          <a:stretch/>
        </p:blipFill>
        <p:spPr>
          <a:xfrm>
            <a:off x="774720" y="2031840"/>
            <a:ext cx="7683480" cy="45086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cxnSp>
        <p:nvCxnSpPr>
          <p:cNvPr id="197" name="Straight Arrow Connector 4"/>
          <p:cNvCxnSpPr/>
          <p:nvPr/>
        </p:nvCxnSpPr>
        <p:spPr>
          <a:xfrm flipV="1">
            <a:off x="5397480" y="3047760"/>
            <a:ext cx="673920" cy="978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TextBox 5"/>
          <p:cNvSpPr/>
          <p:nvPr/>
        </p:nvSpPr>
        <p:spPr>
          <a:xfrm>
            <a:off x="5032440" y="40258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he Yes but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414520" y="2881440"/>
            <a:ext cx="4314960" cy="1095120"/>
          </a:xfrm>
          <a:prstGeom prst="rect">
            <a:avLst/>
          </a:prstGeom>
          <a:ln w="0">
            <a:noFill/>
          </a:ln>
        </p:spPr>
      </p:pic>
      <p:cxnSp>
        <p:nvCxnSpPr>
          <p:cNvPr id="201" name="Straight Arrow Connector 4"/>
          <p:cNvCxnSpPr/>
          <p:nvPr/>
        </p:nvCxnSpPr>
        <p:spPr>
          <a:xfrm flipV="1">
            <a:off x="4177800" y="3834720"/>
            <a:ext cx="1080" cy="610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TextBox 5"/>
          <p:cNvSpPr/>
          <p:nvPr/>
        </p:nvSpPr>
        <p:spPr>
          <a:xfrm>
            <a:off x="3927600" y="450864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 the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rcRect l="0" t="0" r="30209" b="47021"/>
          <a:stretch/>
        </p:blipFill>
        <p:spPr>
          <a:xfrm>
            <a:off x="228600" y="1955880"/>
            <a:ext cx="8508960" cy="38354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110120" y="330120"/>
            <a:ext cx="45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XSLT document has one template rule, containing instructions on what to do when positioned here in the XML (input) doc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Straight Arrow Connector 5"/>
          <p:cNvCxnSpPr/>
          <p:nvPr/>
        </p:nvCxnSpPr>
        <p:spPr>
          <a:xfrm flipH="1">
            <a:off x="3847320" y="1231920"/>
            <a:ext cx="13690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4122720" y="74520"/>
            <a:ext cx="4927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can create a template rule for each type of node in the XML (input) document. This document contains these types of no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 node (/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 instruction node (XML decla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 element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 elemen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ification attribute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x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1727280" y="49320"/>
            <a:ext cx="5803920" cy="6700680"/>
          </a:xfrm>
          <a:prstGeom prst="rect">
            <a:avLst/>
          </a:prstGeom>
          <a:noFill/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400"/>
            </a:b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400"/>
            </a:b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1727280" y="49320"/>
            <a:ext cx="5803920" cy="6700680"/>
          </a:xfrm>
          <a:prstGeom prst="rect">
            <a:avLst/>
          </a:prstGeom>
          <a:noFill/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400"/>
            </a:b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400"/>
            </a:b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1955880" y="1359000"/>
            <a:ext cx="1942920" cy="67284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955880" y="2235240"/>
            <a:ext cx="3593880" cy="67320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1955880" y="3056040"/>
            <a:ext cx="2641680" cy="67284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1955880" y="3932280"/>
            <a:ext cx="2260440" cy="67320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1955880" y="4781520"/>
            <a:ext cx="2984400" cy="67320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968480" y="5619600"/>
            <a:ext cx="2247840" cy="67320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6016680" y="2792520"/>
            <a:ext cx="27226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of these template rules can contain node-specific instru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1968480" y="5848200"/>
            <a:ext cx="3898800" cy="91620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1955880" y="4781520"/>
            <a:ext cx="4952880" cy="83808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1955880" y="3932280"/>
            <a:ext cx="3124080" cy="67320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955880" y="3056040"/>
            <a:ext cx="3124080" cy="67284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955880" y="2235240"/>
            <a:ext cx="3593880" cy="67320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"/>
          <p:cNvSpPr/>
          <p:nvPr/>
        </p:nvSpPr>
        <p:spPr>
          <a:xfrm>
            <a:off x="1955880" y="1359000"/>
            <a:ext cx="3809880" cy="67284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27280" y="49320"/>
            <a:ext cx="5803920" cy="6700680"/>
          </a:xfrm>
          <a:prstGeom prst="rect">
            <a:avLst/>
          </a:prstGeom>
          <a:noFill/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400"/>
            </a:b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400"/>
            </a:b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a Para element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a classification attribute and its value is: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a text node and its text is: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Down Arrow 4"/>
          <p:cNvSpPr/>
          <p:nvPr/>
        </p:nvSpPr>
        <p:spPr>
          <a:xfrm flipV="1">
            <a:off x="4394160" y="3568680"/>
            <a:ext cx="355680" cy="87624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2635920" y="46432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teral text  (text you want output, as 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letal structure of XS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111320" y="2104920"/>
            <a:ext cx="6921360" cy="3660120"/>
          </a:xfrm>
          <a:prstGeom prst="rect">
            <a:avLst/>
          </a:prstGeom>
          <a:noFill/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800"/>
            </a:b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                        version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t your XSLT code he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1633680" y="920880"/>
            <a:ext cx="2620800" cy="1159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26c9"/>
                </a:solidFill>
                <a:latin typeface="Arial"/>
                <a:ea typeface="Arial"/>
              </a:rPr>
              <a:t>&lt;?xml version="1.0" encoding="UTF-8"?&gt;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Document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secret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Para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unclassified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One if by land, two if by sea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Para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...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Docum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ounded Rectangle 3"/>
          <p:cNvSpPr/>
          <p:nvPr/>
        </p:nvSpPr>
        <p:spPr>
          <a:xfrm>
            <a:off x="1895400" y="2873520"/>
            <a:ext cx="2046240" cy="73008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Down Arrow 4"/>
          <p:cNvSpPr/>
          <p:nvPr/>
        </p:nvSpPr>
        <p:spPr>
          <a:xfrm>
            <a:off x="2778120" y="2097000"/>
            <a:ext cx="347760" cy="7765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Down Arrow 5"/>
          <p:cNvSpPr/>
          <p:nvPr/>
        </p:nvSpPr>
        <p:spPr>
          <a:xfrm>
            <a:off x="2778120" y="3610080"/>
            <a:ext cx="347760" cy="1253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1827360" y="4976640"/>
            <a:ext cx="2249280" cy="27648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p of input XML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ight Arrow 8"/>
          <p:cNvSpPr/>
          <p:nvPr/>
        </p:nvSpPr>
        <p:spPr>
          <a:xfrm flipH="1">
            <a:off x="3941640" y="3090960"/>
            <a:ext cx="959040" cy="349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4900680" y="1749600"/>
            <a:ext cx="3786120" cy="462024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900"/>
            </a:b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Para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classification attribute and its value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text node and its text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10"/>
          <p:cNvSpPr/>
          <p:nvPr/>
        </p:nvSpPr>
        <p:spPr>
          <a:xfrm>
            <a:off x="2517480" y="30636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11"/>
          <p:cNvSpPr/>
          <p:nvPr/>
        </p:nvSpPr>
        <p:spPr>
          <a:xfrm>
            <a:off x="5173560" y="11476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2"/>
          <p:cNvSpPr/>
          <p:nvPr/>
        </p:nvSpPr>
        <p:spPr>
          <a:xfrm>
            <a:off x="2535120" y="5253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1368720" y="5907240"/>
            <a:ext cx="3047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’s not the expected outpu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4110120" y="330120"/>
            <a:ext cx="45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XSLT processor executes the instruction in the template for this node, and then sto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Straight Arrow Connector 5"/>
          <p:cNvCxnSpPr/>
          <p:nvPr/>
        </p:nvCxnSpPr>
        <p:spPr>
          <a:xfrm flipH="1">
            <a:off x="3847680" y="976320"/>
            <a:ext cx="1982160" cy="1170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3"/>
          <p:cNvSpPr/>
          <p:nvPr/>
        </p:nvSpPr>
        <p:spPr>
          <a:xfrm>
            <a:off x="4110120" y="330120"/>
            <a:ext cx="45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Times New Roman"/>
              </a:rPr>
              <a:t>The XSLT processor executes the instruction in the template for this node, and then stops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nless you specifically tell the XSLT processor to execute the other templa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-tem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981080"/>
            <a:ext cx="7772400" cy="124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nstructs the XSLT processor to execute the templates  for each child n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2802600" y="37083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3670200" y="1598760"/>
            <a:ext cx="296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982800" y="274968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6615000" y="2712960"/>
            <a:ext cx="24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Straight Arrow Connector 41"/>
          <p:cNvCxnSpPr>
            <a:stCxn id="409" idx="3"/>
          </p:cNvCxnSpPr>
          <p:nvPr/>
        </p:nvCxnSpPr>
        <p:spPr>
          <a:xfrm>
            <a:off x="2854440" y="1440000"/>
            <a:ext cx="993960" cy="504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TextBox 42"/>
          <p:cNvSpPr/>
          <p:nvPr/>
        </p:nvSpPr>
        <p:spPr>
          <a:xfrm>
            <a:off x="358560" y="1254240"/>
            <a:ext cx="2486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apply-templates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"/>
          <p:cNvSpPr/>
          <p:nvPr/>
        </p:nvSpPr>
        <p:spPr>
          <a:xfrm>
            <a:off x="3670200" y="1598760"/>
            <a:ext cx="296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982800" y="274968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6615000" y="2712960"/>
            <a:ext cx="24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Straight Arrow Connector 6"/>
          <p:cNvCxnSpPr/>
          <p:nvPr/>
        </p:nvCxnSpPr>
        <p:spPr>
          <a:xfrm flipH="1">
            <a:off x="2044080" y="2095200"/>
            <a:ext cx="2166120" cy="654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6" name="Rounded Rectangular Callout 5"/>
          <p:cNvSpPr/>
          <p:nvPr/>
        </p:nvSpPr>
        <p:spPr>
          <a:xfrm>
            <a:off x="5638680" y="190440"/>
            <a:ext cx="2552760" cy="1130400"/>
          </a:xfrm>
          <a:prstGeom prst="wedgeRoundRectCallout">
            <a:avLst>
              <a:gd name="adj1" fmla="val -69699"/>
              <a:gd name="adj2" fmla="val 109689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y XSLT processor, please go to the XML PI and then go to the template rule for that PI and execute its instru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"/>
          <p:cNvSpPr/>
          <p:nvPr/>
        </p:nvSpPr>
        <p:spPr>
          <a:xfrm>
            <a:off x="3670200" y="1598760"/>
            <a:ext cx="296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982800" y="274968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6615000" y="2712960"/>
            <a:ext cx="24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Straight Arrow Connector 6"/>
          <p:cNvCxnSpPr/>
          <p:nvPr/>
        </p:nvCxnSpPr>
        <p:spPr>
          <a:xfrm>
            <a:off x="4210200" y="2095200"/>
            <a:ext cx="2481840" cy="74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Rounded Rectangular Callout 5"/>
          <p:cNvSpPr/>
          <p:nvPr/>
        </p:nvSpPr>
        <p:spPr>
          <a:xfrm>
            <a:off x="5638680" y="190440"/>
            <a:ext cx="2768760" cy="1130400"/>
          </a:xfrm>
          <a:prstGeom prst="wedgeRoundRectCallout">
            <a:avLst>
              <a:gd name="adj1" fmla="val -69699"/>
              <a:gd name="adj2" fmla="val 109689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y XSLT processor, please go to the root element and then go to the template rule for that element  and execute its instru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1633680" y="920880"/>
            <a:ext cx="2620800" cy="1159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26c9"/>
                </a:solidFill>
                <a:latin typeface="Arial"/>
                <a:ea typeface="Arial"/>
              </a:rPr>
              <a:t>&lt;?xml version="1.0" encoding="UTF-8"?&gt;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Document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secret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Para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unclassified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One if by land, two if by sea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Para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...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Docum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ounded Rectangle 3"/>
          <p:cNvSpPr/>
          <p:nvPr/>
        </p:nvSpPr>
        <p:spPr>
          <a:xfrm>
            <a:off x="1895400" y="2873520"/>
            <a:ext cx="2046240" cy="73008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Down Arrow 4"/>
          <p:cNvSpPr/>
          <p:nvPr/>
        </p:nvSpPr>
        <p:spPr>
          <a:xfrm>
            <a:off x="2778120" y="2097000"/>
            <a:ext cx="347760" cy="7765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Down Arrow 5"/>
          <p:cNvSpPr/>
          <p:nvPr/>
        </p:nvSpPr>
        <p:spPr>
          <a:xfrm>
            <a:off x="2778120" y="3610080"/>
            <a:ext cx="347760" cy="1253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1827360" y="4976640"/>
            <a:ext cx="2249280" cy="6415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p of input XML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the XML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the root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ight Arrow 8"/>
          <p:cNvSpPr/>
          <p:nvPr/>
        </p:nvSpPr>
        <p:spPr>
          <a:xfrm flipH="1">
            <a:off x="3941640" y="3090960"/>
            <a:ext cx="959040" cy="349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4900680" y="1749600"/>
            <a:ext cx="3786120" cy="475740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900"/>
            </a:b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Para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classification attribute and its value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text node and its text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0"/>
          <p:cNvSpPr/>
          <p:nvPr/>
        </p:nvSpPr>
        <p:spPr>
          <a:xfrm>
            <a:off x="2517480" y="30636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11"/>
          <p:cNvSpPr/>
          <p:nvPr/>
        </p:nvSpPr>
        <p:spPr>
          <a:xfrm>
            <a:off x="5173560" y="11476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Box 12"/>
          <p:cNvSpPr/>
          <p:nvPr/>
        </p:nvSpPr>
        <p:spPr>
          <a:xfrm>
            <a:off x="2536920" y="56786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Box 1"/>
          <p:cNvSpPr/>
          <p:nvPr/>
        </p:nvSpPr>
        <p:spPr>
          <a:xfrm>
            <a:off x="1226880" y="6237360"/>
            <a:ext cx="3449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’s still not the expected outpu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2"/>
          <p:cNvSpPr/>
          <p:nvPr/>
        </p:nvSpPr>
        <p:spPr>
          <a:xfrm>
            <a:off x="5160960" y="2873520"/>
            <a:ext cx="1239840" cy="13968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"/>
          <p:cNvSpPr/>
          <p:nvPr/>
        </p:nvSpPr>
        <p:spPr>
          <a:xfrm>
            <a:off x="3670200" y="1598760"/>
            <a:ext cx="296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982800" y="274968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6615000" y="2712960"/>
            <a:ext cx="24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7"/>
          <p:cNvCxnSpPr/>
          <p:nvPr/>
        </p:nvCxnSpPr>
        <p:spPr>
          <a:xfrm flipV="1">
            <a:off x="5524200" y="3060000"/>
            <a:ext cx="1321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2" name="TextBox 9"/>
          <p:cNvSpPr/>
          <p:nvPr/>
        </p:nvSpPr>
        <p:spPr>
          <a:xfrm>
            <a:off x="3762000" y="2840040"/>
            <a:ext cx="2486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apply-templates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"/>
          <p:cNvSpPr/>
          <p:nvPr/>
        </p:nvSpPr>
        <p:spPr>
          <a:xfrm>
            <a:off x="3670200" y="1598760"/>
            <a:ext cx="296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982800" y="274968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6615000" y="2712960"/>
            <a:ext cx="24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Straight Arrow Connector 7"/>
          <p:cNvCxnSpPr/>
          <p:nvPr/>
        </p:nvCxnSpPr>
        <p:spPr>
          <a:xfrm flipH="1">
            <a:off x="2552400" y="1817640"/>
            <a:ext cx="267120" cy="2586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TextBox 9"/>
          <p:cNvSpPr/>
          <p:nvPr/>
        </p:nvSpPr>
        <p:spPr>
          <a:xfrm>
            <a:off x="216360" y="1449360"/>
            <a:ext cx="2937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dd apply-templates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2247840" y="4046400"/>
            <a:ext cx="23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a Para ele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, html, or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987560" y="1889280"/>
            <a:ext cx="6921360" cy="3660120"/>
          </a:xfrm>
          <a:prstGeom prst="rect">
            <a:avLst/>
          </a:prstGeom>
          <a:noFill/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800"/>
            </a:b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                        version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____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t your XSLT code he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2600280" y="1479600"/>
            <a:ext cx="3943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3"/>
          <p:cNvSpPr/>
          <p:nvPr/>
        </p:nvSpPr>
        <p:spPr>
          <a:xfrm>
            <a:off x="1633680" y="920880"/>
            <a:ext cx="2620800" cy="1159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26c9"/>
                </a:solidFill>
                <a:latin typeface="Arial"/>
                <a:ea typeface="Arial"/>
              </a:rPr>
              <a:t>&lt;?xml version="1.0" encoding="UTF-8"?&gt;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Document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secret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Para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unclassified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One if by land, two if by sea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Para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...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Docum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ounded Rectangle 3"/>
          <p:cNvSpPr/>
          <p:nvPr/>
        </p:nvSpPr>
        <p:spPr>
          <a:xfrm>
            <a:off x="1895400" y="2873520"/>
            <a:ext cx="2046240" cy="73008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Down Arrow 4"/>
          <p:cNvSpPr/>
          <p:nvPr/>
        </p:nvSpPr>
        <p:spPr>
          <a:xfrm>
            <a:off x="2778120" y="2097000"/>
            <a:ext cx="347760" cy="7765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Down Arrow 5"/>
          <p:cNvSpPr/>
          <p:nvPr/>
        </p:nvSpPr>
        <p:spPr>
          <a:xfrm>
            <a:off x="2778120" y="3610080"/>
            <a:ext cx="347760" cy="1253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1092240" y="4976640"/>
            <a:ext cx="2984400" cy="137160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p of input XML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the XML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the root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a Para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a text node and its text is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One if by land, two if by sea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ight Arrow 8"/>
          <p:cNvSpPr/>
          <p:nvPr/>
        </p:nvSpPr>
        <p:spPr>
          <a:xfrm flipH="1">
            <a:off x="3941640" y="3090960"/>
            <a:ext cx="959040" cy="349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4900680" y="1355760"/>
            <a:ext cx="3786120" cy="50317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900"/>
            </a:b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Para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classification attribute and its value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text node and its text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Box 10"/>
          <p:cNvSpPr/>
          <p:nvPr/>
        </p:nvSpPr>
        <p:spPr>
          <a:xfrm>
            <a:off x="2517480" y="30636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Box 11"/>
          <p:cNvSpPr/>
          <p:nvPr/>
        </p:nvSpPr>
        <p:spPr>
          <a:xfrm>
            <a:off x="5173560" y="7542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12"/>
          <p:cNvSpPr/>
          <p:nvPr/>
        </p:nvSpPr>
        <p:spPr>
          <a:xfrm>
            <a:off x="1008000" y="4606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Box 1"/>
          <p:cNvSpPr/>
          <p:nvPr/>
        </p:nvSpPr>
        <p:spPr>
          <a:xfrm>
            <a:off x="1221840" y="6434280"/>
            <a:ext cx="2581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a, that’s what we wan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1"/>
          <p:cNvSpPr/>
          <p:nvPr/>
        </p:nvSpPr>
        <p:spPr>
          <a:xfrm>
            <a:off x="5160960" y="2489040"/>
            <a:ext cx="1239840" cy="14004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5173560" y="3719520"/>
            <a:ext cx="1239840" cy="13968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5173560" y="4390920"/>
            <a:ext cx="1239840" cy="13968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3"/>
          <p:cNvSpPr/>
          <p:nvPr/>
        </p:nvSpPr>
        <p:spPr>
          <a:xfrm>
            <a:off x="4900680" y="1355760"/>
            <a:ext cx="3786120" cy="50317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900"/>
            </a:b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Para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classification attribute and its value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text node and its text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11"/>
          <p:cNvSpPr/>
          <p:nvPr/>
        </p:nvSpPr>
        <p:spPr>
          <a:xfrm>
            <a:off x="5173560" y="7542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eft Brace 2"/>
          <p:cNvSpPr/>
          <p:nvPr/>
        </p:nvSpPr>
        <p:spPr>
          <a:xfrm>
            <a:off x="4584600" y="4102200"/>
            <a:ext cx="316080" cy="736560"/>
          </a:xfrm>
          <a:custGeom>
            <a:avLst/>
            <a:gdLst>
              <a:gd name="textAreaLeft" fmla="*/ 201960 w 316080"/>
              <a:gd name="textAreaRight" fmla="*/ 316440 w 316080"/>
              <a:gd name="textAreaTop" fmla="*/ 7920 h 736560"/>
              <a:gd name="textAreaBottom" fmla="*/ 728640 h 73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2"/>
                </a:cubicBezTo>
                <a:lnTo>
                  <a:pt x="10800" y="10028"/>
                </a:lnTo>
                <a:cubicBezTo>
                  <a:pt x="10800" y="10414"/>
                  <a:pt x="5400" y="10800"/>
                  <a:pt x="0" y="10800"/>
                </a:cubicBezTo>
                <a:cubicBezTo>
                  <a:pt x="5400" y="10800"/>
                  <a:pt x="10800" y="11186"/>
                  <a:pt x="10800" y="11572"/>
                </a:cubicBezTo>
                <a:lnTo>
                  <a:pt x="10800" y="20828"/>
                </a:lnTo>
                <a:cubicBezTo>
                  <a:pt x="10800" y="2121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7"/>
          <p:cNvSpPr/>
          <p:nvPr/>
        </p:nvSpPr>
        <p:spPr>
          <a:xfrm>
            <a:off x="1173600" y="4286160"/>
            <a:ext cx="3405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template rule for all the Para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3"/>
          <p:cNvSpPr/>
          <p:nvPr/>
        </p:nvSpPr>
        <p:spPr>
          <a:xfrm>
            <a:off x="4900680" y="1355760"/>
            <a:ext cx="3786120" cy="50317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900"/>
            </a:b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Para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classification attribute and its value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text node and its text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Box 11"/>
          <p:cNvSpPr/>
          <p:nvPr/>
        </p:nvSpPr>
        <p:spPr>
          <a:xfrm>
            <a:off x="5173560" y="7542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eft Brace 2"/>
          <p:cNvSpPr/>
          <p:nvPr/>
        </p:nvSpPr>
        <p:spPr>
          <a:xfrm>
            <a:off x="4584600" y="4102200"/>
            <a:ext cx="316080" cy="736560"/>
          </a:xfrm>
          <a:custGeom>
            <a:avLst/>
            <a:gdLst>
              <a:gd name="textAreaLeft" fmla="*/ 201960 w 316080"/>
              <a:gd name="textAreaRight" fmla="*/ 316440 w 316080"/>
              <a:gd name="textAreaTop" fmla="*/ 7920 h 736560"/>
              <a:gd name="textAreaBottom" fmla="*/ 728640 h 73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2"/>
                </a:cubicBezTo>
                <a:lnTo>
                  <a:pt x="10800" y="10028"/>
                </a:lnTo>
                <a:cubicBezTo>
                  <a:pt x="10800" y="10414"/>
                  <a:pt x="5400" y="10800"/>
                  <a:pt x="0" y="10800"/>
                </a:cubicBezTo>
                <a:cubicBezTo>
                  <a:pt x="5400" y="10800"/>
                  <a:pt x="10800" y="11186"/>
                  <a:pt x="10800" y="11572"/>
                </a:cubicBezTo>
                <a:lnTo>
                  <a:pt x="10800" y="20828"/>
                </a:lnTo>
                <a:cubicBezTo>
                  <a:pt x="10800" y="2121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Box 7"/>
          <p:cNvSpPr/>
          <p:nvPr/>
        </p:nvSpPr>
        <p:spPr>
          <a:xfrm>
            <a:off x="892080" y="4192560"/>
            <a:ext cx="35146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want to have a different template rule for each Pa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template for each P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1930320" y="1992240"/>
            <a:ext cx="5283360" cy="393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Document/Para[1]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the first Para element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Document/Para[2]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the second Para element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Document/Para[3]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the third Para element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1930320" y="1992240"/>
            <a:ext cx="5283360" cy="393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Document/Para[1]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the first Para element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Document/Para[2]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the second Para element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Document/Para[3]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the third Para element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4081320" y="2057400"/>
            <a:ext cx="1760760" cy="22860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4081320" y="3427560"/>
            <a:ext cx="1760760" cy="22860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4081320" y="4780080"/>
            <a:ext cx="1760760" cy="22860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1633680" y="920880"/>
            <a:ext cx="2620800" cy="1159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26c9"/>
                </a:solidFill>
                <a:latin typeface="Arial"/>
                <a:ea typeface="Arial"/>
              </a:rPr>
              <a:t>&lt;?xml version="1.0" encoding="UTF-8"?&gt;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Document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secret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Para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unclassified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One if by land, two if by sea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Para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...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Docum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ounded Rectangle 3"/>
          <p:cNvSpPr/>
          <p:nvPr/>
        </p:nvSpPr>
        <p:spPr>
          <a:xfrm>
            <a:off x="1895400" y="2873520"/>
            <a:ext cx="2046240" cy="73008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Down Arrow 4"/>
          <p:cNvSpPr/>
          <p:nvPr/>
        </p:nvSpPr>
        <p:spPr>
          <a:xfrm>
            <a:off x="2778120" y="2097000"/>
            <a:ext cx="347760" cy="7765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Down Arrow 5"/>
          <p:cNvSpPr/>
          <p:nvPr/>
        </p:nvSpPr>
        <p:spPr>
          <a:xfrm>
            <a:off x="2778120" y="3610080"/>
            <a:ext cx="347760" cy="1253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1092240" y="4976640"/>
            <a:ext cx="2984400" cy="137160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p of input XML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the XML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the root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the first Para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a text node and its text is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One if by land, two if by sea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ight Arrow 8"/>
          <p:cNvSpPr/>
          <p:nvPr/>
        </p:nvSpPr>
        <p:spPr>
          <a:xfrm flipH="1">
            <a:off x="3941640" y="3090960"/>
            <a:ext cx="959040" cy="349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4900680" y="695160"/>
            <a:ext cx="3786120" cy="599184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900"/>
            </a:b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1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900" spc="-1" strike="noStrike">
                <a:solidFill>
                  <a:srgbClr val="993300"/>
                </a:solidFill>
                <a:latin typeface="Times New Roman"/>
              </a:rPr>
              <a:t>"Document/Para[1]"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t the first Para element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1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900" spc="-1" strike="noStrike">
                <a:solidFill>
                  <a:srgbClr val="993300"/>
                </a:solidFill>
                <a:latin typeface="Times New Roman"/>
              </a:rPr>
              <a:t>"Document/Para[2]"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t the second Para element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1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900" spc="-1" strike="noStrike">
                <a:solidFill>
                  <a:srgbClr val="993300"/>
                </a:solidFill>
                <a:latin typeface="Times New Roman"/>
              </a:rPr>
              <a:t>"Document/Para[3]"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t the third Para element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classification attribute and its value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 …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Box 10"/>
          <p:cNvSpPr/>
          <p:nvPr/>
        </p:nvSpPr>
        <p:spPr>
          <a:xfrm>
            <a:off x="2517480" y="30636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Box 11"/>
          <p:cNvSpPr/>
          <p:nvPr/>
        </p:nvSpPr>
        <p:spPr>
          <a:xfrm>
            <a:off x="5173560" y="936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12"/>
          <p:cNvSpPr/>
          <p:nvPr/>
        </p:nvSpPr>
        <p:spPr>
          <a:xfrm>
            <a:off x="1008000" y="4606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1"/>
          <p:cNvSpPr/>
          <p:nvPr/>
        </p:nvSpPr>
        <p:spPr>
          <a:xfrm>
            <a:off x="1233000" y="6434280"/>
            <a:ext cx="689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c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"/>
          <p:cNvSpPr/>
          <p:nvPr/>
        </p:nvSpPr>
        <p:spPr>
          <a:xfrm>
            <a:off x="4991040" y="3440160"/>
            <a:ext cx="2806920" cy="19828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2"/>
          <p:cNvSpPr/>
          <p:nvPr/>
        </p:nvSpPr>
        <p:spPr>
          <a:xfrm>
            <a:off x="1092240" y="5575320"/>
            <a:ext cx="1879560" cy="190440"/>
          </a:xfrm>
          <a:prstGeom prst="rect">
            <a:avLst/>
          </a:pr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lt;xsl:apply-templates select="…" /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(optional) select attribute enables you to identify a specific node: “Hey XSLT processor, go to this specific node in the XML input and fire its template ru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2051"/>
          <p:cNvSpPr/>
          <p:nvPr/>
        </p:nvSpPr>
        <p:spPr>
          <a:xfrm>
            <a:off x="3084480" y="107964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052"/>
          <p:cNvSpPr/>
          <p:nvPr/>
        </p:nvSpPr>
        <p:spPr>
          <a:xfrm>
            <a:off x="3254400" y="138744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053"/>
          <p:cNvSpPr/>
          <p:nvPr/>
        </p:nvSpPr>
        <p:spPr>
          <a:xfrm>
            <a:off x="203040" y="236844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2054"/>
          <p:cNvSpPr/>
          <p:nvPr/>
        </p:nvSpPr>
        <p:spPr>
          <a:xfrm>
            <a:off x="289440" y="238752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055"/>
          <p:cNvSpPr/>
          <p:nvPr/>
        </p:nvSpPr>
        <p:spPr>
          <a:xfrm>
            <a:off x="6243480" y="2384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056"/>
          <p:cNvSpPr/>
          <p:nvPr/>
        </p:nvSpPr>
        <p:spPr>
          <a:xfrm>
            <a:off x="6283440" y="241452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2057"/>
          <p:cNvSpPr/>
          <p:nvPr/>
        </p:nvSpPr>
        <p:spPr>
          <a:xfrm>
            <a:off x="1352520" y="3540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2058"/>
          <p:cNvSpPr/>
          <p:nvPr/>
        </p:nvSpPr>
        <p:spPr>
          <a:xfrm>
            <a:off x="1537200" y="35701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059"/>
          <p:cNvSpPr/>
          <p:nvPr/>
        </p:nvSpPr>
        <p:spPr>
          <a:xfrm>
            <a:off x="4264200" y="35132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060"/>
          <p:cNvSpPr/>
          <p:nvPr/>
        </p:nvSpPr>
        <p:spPr>
          <a:xfrm>
            <a:off x="4448880" y="3543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2061"/>
          <p:cNvSpPr/>
          <p:nvPr/>
        </p:nvSpPr>
        <p:spPr>
          <a:xfrm>
            <a:off x="7068960" y="3522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062"/>
          <p:cNvSpPr/>
          <p:nvPr/>
        </p:nvSpPr>
        <p:spPr>
          <a:xfrm>
            <a:off x="7254000" y="35528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2063"/>
          <p:cNvSpPr/>
          <p:nvPr/>
        </p:nvSpPr>
        <p:spPr>
          <a:xfrm>
            <a:off x="1087560" y="181620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064"/>
          <p:cNvSpPr/>
          <p:nvPr/>
        </p:nvSpPr>
        <p:spPr>
          <a:xfrm>
            <a:off x="1081080" y="1822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2065"/>
          <p:cNvSpPr/>
          <p:nvPr/>
        </p:nvSpPr>
        <p:spPr>
          <a:xfrm>
            <a:off x="6769080" y="183528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2066"/>
          <p:cNvSpPr/>
          <p:nvPr/>
        </p:nvSpPr>
        <p:spPr>
          <a:xfrm>
            <a:off x="1857240" y="319896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2067"/>
          <p:cNvSpPr/>
          <p:nvPr/>
        </p:nvSpPr>
        <p:spPr>
          <a:xfrm>
            <a:off x="1884240" y="3218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2068"/>
          <p:cNvSpPr/>
          <p:nvPr/>
        </p:nvSpPr>
        <p:spPr>
          <a:xfrm>
            <a:off x="4789440" y="320040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69"/>
          <p:cNvSpPr/>
          <p:nvPr/>
        </p:nvSpPr>
        <p:spPr>
          <a:xfrm>
            <a:off x="7597800" y="321300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2077"/>
          <p:cNvSpPr/>
          <p:nvPr/>
        </p:nvSpPr>
        <p:spPr>
          <a:xfrm>
            <a:off x="1438200" y="42512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2078"/>
          <p:cNvSpPr/>
          <p:nvPr/>
        </p:nvSpPr>
        <p:spPr>
          <a:xfrm>
            <a:off x="1855800" y="404172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079"/>
          <p:cNvSpPr/>
          <p:nvPr/>
        </p:nvSpPr>
        <p:spPr>
          <a:xfrm>
            <a:off x="6796080" y="289260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2092"/>
          <p:cNvSpPr/>
          <p:nvPr/>
        </p:nvSpPr>
        <p:spPr>
          <a:xfrm>
            <a:off x="4419720" y="42768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093"/>
          <p:cNvSpPr/>
          <p:nvPr/>
        </p:nvSpPr>
        <p:spPr>
          <a:xfrm>
            <a:off x="4794120" y="402264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2094"/>
          <p:cNvSpPr/>
          <p:nvPr/>
        </p:nvSpPr>
        <p:spPr>
          <a:xfrm>
            <a:off x="4477320" y="439740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2106"/>
          <p:cNvSpPr/>
          <p:nvPr/>
        </p:nvSpPr>
        <p:spPr>
          <a:xfrm>
            <a:off x="7286760" y="42721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107"/>
          <p:cNvSpPr/>
          <p:nvPr/>
        </p:nvSpPr>
        <p:spPr>
          <a:xfrm>
            <a:off x="7661160" y="403236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2108"/>
          <p:cNvSpPr/>
          <p:nvPr/>
        </p:nvSpPr>
        <p:spPr>
          <a:xfrm>
            <a:off x="7315920" y="439272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69"/>
          <p:cNvSpPr/>
          <p:nvPr/>
        </p:nvSpPr>
        <p:spPr>
          <a:xfrm>
            <a:off x="7280280" y="268776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70"/>
          <p:cNvSpPr/>
          <p:nvPr/>
        </p:nvSpPr>
        <p:spPr>
          <a:xfrm>
            <a:off x="2368440" y="38703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71"/>
          <p:cNvSpPr/>
          <p:nvPr/>
        </p:nvSpPr>
        <p:spPr>
          <a:xfrm>
            <a:off x="5272920" y="384012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72"/>
          <p:cNvSpPr/>
          <p:nvPr/>
        </p:nvSpPr>
        <p:spPr>
          <a:xfrm>
            <a:off x="8065440" y="387036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"/>
          <p:cNvSpPr/>
          <p:nvPr/>
        </p:nvSpPr>
        <p:spPr>
          <a:xfrm>
            <a:off x="3774960" y="735120"/>
            <a:ext cx="3444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5ab4"/>
                </a:solidFill>
                <a:latin typeface="Times New Roman"/>
              </a:rPr>
              <a:t>&lt;xsl:apply-templates select=“/Document/Para[2]”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Box 42"/>
          <p:cNvSpPr/>
          <p:nvPr/>
        </p:nvSpPr>
        <p:spPr>
          <a:xfrm>
            <a:off x="2719440" y="2244600"/>
            <a:ext cx="2400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 to this node and fire its template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"/>
          <p:cNvSpPr/>
          <p:nvPr/>
        </p:nvSpPr>
        <p:spPr>
          <a:xfrm>
            <a:off x="3952800" y="1079640"/>
            <a:ext cx="2959200" cy="164880"/>
          </a:xfrm>
          <a:prstGeom prst="rect">
            <a:avLst/>
          </a:prstGeom>
          <a:solidFill>
            <a:srgbClr val="ffff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0" name="Straight Arrow Connector 4"/>
          <p:cNvCxnSpPr/>
          <p:nvPr/>
        </p:nvCxnSpPr>
        <p:spPr>
          <a:xfrm flipH="1">
            <a:off x="4917600" y="1244520"/>
            <a:ext cx="1029600" cy="2256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each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980720"/>
            <a:ext cx="7772400" cy="28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:for-each is used to instruct the XSLT processor that you want to sequentially process a collection of nodes in the input XML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ays: process each (child) Para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2725560" y="4933800"/>
            <a:ext cx="3383280" cy="131076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6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6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6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5ab4"/>
                </a:solidFill>
                <a:latin typeface="Times New Roman"/>
              </a:rPr>
              <a:t>&lt;xsl:for-each</a:t>
            </a:r>
            <a:r>
              <a:rPr b="0" lang="en-US" sz="16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6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6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structions for processing a Pa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5ab4"/>
                </a:solidFill>
                <a:latin typeface="Times New Roman"/>
              </a:rPr>
              <a:t>&lt;/xsl:for-each&gt;</a:t>
            </a:r>
            <a:br>
              <a:rPr sz="1600"/>
            </a:br>
            <a:r>
              <a:rPr b="0" lang="en-US" sz="16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3"/>
          <p:cNvSpPr/>
          <p:nvPr/>
        </p:nvSpPr>
        <p:spPr>
          <a:xfrm>
            <a:off x="1633680" y="920880"/>
            <a:ext cx="2620800" cy="1159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26c9"/>
                </a:solidFill>
                <a:latin typeface="Arial"/>
                <a:ea typeface="Arial"/>
              </a:rPr>
              <a:t>&lt;?xml version="1.0" encoding="UTF-8"?&gt;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Document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secret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Para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unclassified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One if by land, two if by sea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Para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...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Docum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ounded Rectangle 3"/>
          <p:cNvSpPr/>
          <p:nvPr/>
        </p:nvSpPr>
        <p:spPr>
          <a:xfrm>
            <a:off x="1895400" y="2873520"/>
            <a:ext cx="2046240" cy="73008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Down Arrow 4"/>
          <p:cNvSpPr/>
          <p:nvPr/>
        </p:nvSpPr>
        <p:spPr>
          <a:xfrm>
            <a:off x="2778120" y="2097000"/>
            <a:ext cx="347760" cy="7765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Down Arrow 5"/>
          <p:cNvSpPr/>
          <p:nvPr/>
        </p:nvSpPr>
        <p:spPr>
          <a:xfrm>
            <a:off x="2778120" y="3610080"/>
            <a:ext cx="347760" cy="1253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1092240" y="4976640"/>
            <a:ext cx="2984400" cy="15541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a Para element. Its value is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One if by land, two if by sea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a Para element. Its value is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And I on the opposite shore wil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l be, Ready to ride and sprea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the alar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ight Arrow 8"/>
          <p:cNvSpPr/>
          <p:nvPr/>
        </p:nvSpPr>
        <p:spPr>
          <a:xfrm flipH="1">
            <a:off x="3941640" y="3090960"/>
            <a:ext cx="959040" cy="349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4890960" y="2147760"/>
            <a:ext cx="4060800" cy="356184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200"/>
            </a:b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200"/>
            </a:b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for-each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 Para element. Its value is: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for-each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10"/>
          <p:cNvSpPr/>
          <p:nvPr/>
        </p:nvSpPr>
        <p:spPr>
          <a:xfrm>
            <a:off x="2517480" y="30636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1"/>
          <p:cNvSpPr/>
          <p:nvPr/>
        </p:nvSpPr>
        <p:spPr>
          <a:xfrm>
            <a:off x="5470560" y="15019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12"/>
          <p:cNvSpPr/>
          <p:nvPr/>
        </p:nvSpPr>
        <p:spPr>
          <a:xfrm>
            <a:off x="1008000" y="4606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1"/>
          <p:cNvSpPr/>
          <p:nvPr/>
        </p:nvSpPr>
        <p:spPr>
          <a:xfrm>
            <a:off x="5025960" y="4138560"/>
            <a:ext cx="3699000" cy="122076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14"/>
          <p:cNvSpPr/>
          <p:nvPr/>
        </p:nvSpPr>
        <p:spPr>
          <a:xfrm>
            <a:off x="1168560" y="5575320"/>
            <a:ext cx="2286000" cy="173160"/>
          </a:xfrm>
          <a:prstGeom prst="rect">
            <a:avLst/>
          </a:pr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ose we want to process this XML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15"/>
          <p:cNvSpPr/>
          <p:nvPr/>
        </p:nvSpPr>
        <p:spPr>
          <a:xfrm>
            <a:off x="2434680" y="2470320"/>
            <a:ext cx="4274280" cy="350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?xml version="1.0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ocument classification="secre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Para classification="unclassified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if by land, two if by se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Para classification="confidential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I on the opposite shore will b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y to ride and spread the al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Para classification="unclassified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y to ride and spread the al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ugh every Middlesex, village and farm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Docum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"/>
          <p:cNvSpPr/>
          <p:nvPr/>
        </p:nvSpPr>
        <p:spPr>
          <a:xfrm>
            <a:off x="3753000" y="1752480"/>
            <a:ext cx="166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3"/>
          <p:cNvSpPr/>
          <p:nvPr/>
        </p:nvSpPr>
        <p:spPr>
          <a:xfrm>
            <a:off x="982800" y="274968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6615000" y="2712960"/>
            <a:ext cx="24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1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993300"/>
                </a:solidFill>
                <a:latin typeface="Times New Roman"/>
              </a:rPr>
              <a:t>"Para[2]"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Straight Arrow Connector 7"/>
          <p:cNvCxnSpPr/>
          <p:nvPr/>
        </p:nvCxnSpPr>
        <p:spPr>
          <a:xfrm flipV="1">
            <a:off x="5486040" y="2983680"/>
            <a:ext cx="132120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2" name="TextBox 9"/>
          <p:cNvSpPr/>
          <p:nvPr/>
        </p:nvSpPr>
        <p:spPr>
          <a:xfrm>
            <a:off x="3753000" y="2840040"/>
            <a:ext cx="26812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the value of the second Para element (i.e., the content of the text no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value-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"/>
          <p:cNvSpPr/>
          <p:nvPr/>
        </p:nvSpPr>
        <p:spPr>
          <a:xfrm>
            <a:off x="3753000" y="1752480"/>
            <a:ext cx="166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982800" y="274968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6615000" y="2712960"/>
            <a:ext cx="24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5ab4"/>
                </a:solidFill>
                <a:latin typeface="Times New Roman"/>
              </a:rPr>
              <a:t>&lt;xsl:sequence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1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993300"/>
                </a:solidFill>
                <a:latin typeface="Times New Roman"/>
              </a:rPr>
              <a:t>"Para[2]"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9"/>
          <p:cNvSpPr/>
          <p:nvPr/>
        </p:nvSpPr>
        <p:spPr>
          <a:xfrm>
            <a:off x="3753000" y="2840040"/>
            <a:ext cx="26812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the second Para element (i.e., the markup and the cont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Straight Arrow Connector 7"/>
          <p:cNvCxnSpPr/>
          <p:nvPr/>
        </p:nvCxnSpPr>
        <p:spPr>
          <a:xfrm flipV="1">
            <a:off x="6019560" y="2984040"/>
            <a:ext cx="788040" cy="136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3"/>
          <p:cNvSpPr/>
          <p:nvPr/>
        </p:nvSpPr>
        <p:spPr>
          <a:xfrm>
            <a:off x="1633680" y="920880"/>
            <a:ext cx="2620800" cy="1159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26c9"/>
                </a:solidFill>
                <a:latin typeface="Arial"/>
                <a:ea typeface="Arial"/>
              </a:rPr>
              <a:t>&lt;?xml version="1.0" encoding="UTF-8"?&gt;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Document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secret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Para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unclassified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One if by land, two if by sea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Para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...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Docum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ounded Rectangle 3"/>
          <p:cNvSpPr/>
          <p:nvPr/>
        </p:nvSpPr>
        <p:spPr>
          <a:xfrm>
            <a:off x="1895400" y="2873520"/>
            <a:ext cx="2046240" cy="73008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Down Arrow 4"/>
          <p:cNvSpPr/>
          <p:nvPr/>
        </p:nvSpPr>
        <p:spPr>
          <a:xfrm>
            <a:off x="2778120" y="2097000"/>
            <a:ext cx="347760" cy="7765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Down Arrow 5"/>
          <p:cNvSpPr/>
          <p:nvPr/>
        </p:nvSpPr>
        <p:spPr>
          <a:xfrm>
            <a:off x="2778120" y="3610080"/>
            <a:ext cx="347760" cy="1253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1092240" y="4976640"/>
            <a:ext cx="2984400" cy="82404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6"/>
                </a:solidFill>
                <a:latin typeface="Arial"/>
                <a:ea typeface="Arial"/>
              </a:rPr>
              <a:t>&lt;Para</a:t>
            </a:r>
            <a:r>
              <a:rPr b="1" lang="en-US" sz="12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1" lang="en-US" sz="12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1" lang="en-US" sz="1200" spc="-1" strike="noStrike">
                <a:solidFill>
                  <a:srgbClr val="993300"/>
                </a:solidFill>
                <a:latin typeface="Arial"/>
                <a:ea typeface="Arial"/>
              </a:rPr>
              <a:t>"confidential"</a:t>
            </a:r>
            <a:r>
              <a:rPr b="1" lang="en-US" sz="12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And I on the opposite shore will be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Ready to ride and spread the alarm </a:t>
            </a:r>
            <a:br>
              <a:rPr sz="1200"/>
            </a:br>
            <a:r>
              <a:rPr b="1" lang="en-US" sz="1200" spc="-1" strike="noStrike">
                <a:solidFill>
                  <a:srgbClr val="000096"/>
                </a:solidFill>
                <a:latin typeface="Arial"/>
                <a:ea typeface="Arial"/>
              </a:rPr>
              <a:t>&lt;/Par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ight Arrow 8"/>
          <p:cNvSpPr/>
          <p:nvPr/>
        </p:nvSpPr>
        <p:spPr>
          <a:xfrm flipH="1">
            <a:off x="3941640" y="3090960"/>
            <a:ext cx="959040" cy="349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4890960" y="2147760"/>
            <a:ext cx="4060800" cy="283176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200"/>
            </a:b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sequenc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Para[2]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Box 10"/>
          <p:cNvSpPr/>
          <p:nvPr/>
        </p:nvSpPr>
        <p:spPr>
          <a:xfrm>
            <a:off x="2517480" y="30636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Box 11"/>
          <p:cNvSpPr/>
          <p:nvPr/>
        </p:nvSpPr>
        <p:spPr>
          <a:xfrm>
            <a:off x="5470560" y="15019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Box 12"/>
          <p:cNvSpPr/>
          <p:nvPr/>
        </p:nvSpPr>
        <p:spPr>
          <a:xfrm>
            <a:off x="1008000" y="4606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1"/>
          <p:cNvSpPr/>
          <p:nvPr/>
        </p:nvSpPr>
        <p:spPr>
          <a:xfrm>
            <a:off x="5262480" y="4199040"/>
            <a:ext cx="2154240" cy="19512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982800" y="274968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value-of versus xsl: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3"/>
          <p:cNvSpPr/>
          <p:nvPr/>
        </p:nvSpPr>
        <p:spPr>
          <a:xfrm>
            <a:off x="345240" y="6286680"/>
            <a:ext cx="4178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:value-of select="/Document/Para[2]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Box 40"/>
          <p:cNvSpPr/>
          <p:nvPr/>
        </p:nvSpPr>
        <p:spPr>
          <a:xfrm>
            <a:off x="4836240" y="6286680"/>
            <a:ext cx="4254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:sequence select="/Document/Para[2]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reeform 4"/>
          <p:cNvSpPr/>
          <p:nvPr/>
        </p:nvSpPr>
        <p:spPr>
          <a:xfrm>
            <a:off x="4191120" y="5041800"/>
            <a:ext cx="1054080" cy="1003320"/>
          </a:xfrm>
          <a:custGeom>
            <a:avLst/>
            <a:gdLst/>
            <a:ahLst/>
            <a:rect l="l" t="t" r="r" b="b"/>
            <a:pathLst>
              <a:path w="1053932" h="1003300">
                <a:moveTo>
                  <a:pt x="127000" y="114300"/>
                </a:moveTo>
                <a:cubicBezTo>
                  <a:pt x="118533" y="135467"/>
                  <a:pt x="114851" y="159249"/>
                  <a:pt x="101600" y="177800"/>
                </a:cubicBezTo>
                <a:cubicBezTo>
                  <a:pt x="92728" y="190220"/>
                  <a:pt x="74293" y="192407"/>
                  <a:pt x="63500" y="203200"/>
                </a:cubicBezTo>
                <a:cubicBezTo>
                  <a:pt x="52707" y="213993"/>
                  <a:pt x="46567" y="228600"/>
                  <a:pt x="38100" y="241300"/>
                </a:cubicBezTo>
                <a:cubicBezTo>
                  <a:pt x="33867" y="283633"/>
                  <a:pt x="31869" y="326250"/>
                  <a:pt x="25400" y="368300"/>
                </a:cubicBezTo>
                <a:cubicBezTo>
                  <a:pt x="23364" y="381531"/>
                  <a:pt x="14593" y="393148"/>
                  <a:pt x="12700" y="406400"/>
                </a:cubicBezTo>
                <a:cubicBezTo>
                  <a:pt x="6087" y="452689"/>
                  <a:pt x="4233" y="499533"/>
                  <a:pt x="0" y="546100"/>
                </a:cubicBezTo>
                <a:cubicBezTo>
                  <a:pt x="29334" y="780774"/>
                  <a:pt x="-3966" y="568335"/>
                  <a:pt x="25400" y="685800"/>
                </a:cubicBezTo>
                <a:cubicBezTo>
                  <a:pt x="30635" y="706741"/>
                  <a:pt x="30521" y="729089"/>
                  <a:pt x="38100" y="749300"/>
                </a:cubicBezTo>
                <a:cubicBezTo>
                  <a:pt x="43459" y="763592"/>
                  <a:pt x="55033" y="774700"/>
                  <a:pt x="63500" y="787400"/>
                </a:cubicBezTo>
                <a:cubicBezTo>
                  <a:pt x="67733" y="804333"/>
                  <a:pt x="66518" y="823677"/>
                  <a:pt x="76200" y="838200"/>
                </a:cubicBezTo>
                <a:cubicBezTo>
                  <a:pt x="84667" y="850900"/>
                  <a:pt x="102574" y="853829"/>
                  <a:pt x="114300" y="863600"/>
                </a:cubicBezTo>
                <a:cubicBezTo>
                  <a:pt x="128098" y="875098"/>
                  <a:pt x="138602" y="890202"/>
                  <a:pt x="152400" y="901700"/>
                </a:cubicBezTo>
                <a:cubicBezTo>
                  <a:pt x="185226" y="929055"/>
                  <a:pt x="190415" y="927072"/>
                  <a:pt x="228600" y="939800"/>
                </a:cubicBezTo>
                <a:cubicBezTo>
                  <a:pt x="237067" y="952500"/>
                  <a:pt x="240348" y="971074"/>
                  <a:pt x="254000" y="977900"/>
                </a:cubicBezTo>
                <a:cubicBezTo>
                  <a:pt x="277032" y="989416"/>
                  <a:pt x="304577" y="988038"/>
                  <a:pt x="330200" y="990600"/>
                </a:cubicBezTo>
                <a:cubicBezTo>
                  <a:pt x="389323" y="996512"/>
                  <a:pt x="448733" y="999067"/>
                  <a:pt x="508000" y="1003300"/>
                </a:cubicBezTo>
                <a:cubicBezTo>
                  <a:pt x="609600" y="999067"/>
                  <a:pt x="712210" y="1005502"/>
                  <a:pt x="812800" y="990600"/>
                </a:cubicBezTo>
                <a:cubicBezTo>
                  <a:pt x="830567" y="987968"/>
                  <a:pt x="839873" y="966677"/>
                  <a:pt x="850900" y="952500"/>
                </a:cubicBezTo>
                <a:cubicBezTo>
                  <a:pt x="869642" y="928403"/>
                  <a:pt x="876300" y="893233"/>
                  <a:pt x="901700" y="876300"/>
                </a:cubicBezTo>
                <a:cubicBezTo>
                  <a:pt x="950939" y="843474"/>
                  <a:pt x="925320" y="855727"/>
                  <a:pt x="977900" y="838200"/>
                </a:cubicBezTo>
                <a:cubicBezTo>
                  <a:pt x="982133" y="825500"/>
                  <a:pt x="987975" y="813227"/>
                  <a:pt x="990600" y="800100"/>
                </a:cubicBezTo>
                <a:cubicBezTo>
                  <a:pt x="998400" y="761098"/>
                  <a:pt x="996872" y="711356"/>
                  <a:pt x="1016000" y="673100"/>
                </a:cubicBezTo>
                <a:cubicBezTo>
                  <a:pt x="1022826" y="659448"/>
                  <a:pt x="1032933" y="647700"/>
                  <a:pt x="1041400" y="635000"/>
                </a:cubicBezTo>
                <a:cubicBezTo>
                  <a:pt x="1040598" y="614140"/>
                  <a:pt x="1088069" y="351469"/>
                  <a:pt x="1003300" y="266700"/>
                </a:cubicBezTo>
                <a:cubicBezTo>
                  <a:pt x="992507" y="255907"/>
                  <a:pt x="977900" y="249767"/>
                  <a:pt x="965200" y="241300"/>
                </a:cubicBezTo>
                <a:cubicBezTo>
                  <a:pt x="954871" y="210312"/>
                  <a:pt x="951719" y="189719"/>
                  <a:pt x="927100" y="165100"/>
                </a:cubicBezTo>
                <a:cubicBezTo>
                  <a:pt x="916307" y="154307"/>
                  <a:pt x="900726" y="149471"/>
                  <a:pt x="889000" y="139700"/>
                </a:cubicBezTo>
                <a:cubicBezTo>
                  <a:pt x="875202" y="128202"/>
                  <a:pt x="864698" y="113098"/>
                  <a:pt x="850900" y="101600"/>
                </a:cubicBezTo>
                <a:cubicBezTo>
                  <a:pt x="839174" y="91829"/>
                  <a:pt x="826452" y="83026"/>
                  <a:pt x="812800" y="76200"/>
                </a:cubicBezTo>
                <a:cubicBezTo>
                  <a:pt x="786765" y="63183"/>
                  <a:pt x="735352" y="55630"/>
                  <a:pt x="711200" y="50800"/>
                </a:cubicBezTo>
                <a:cubicBezTo>
                  <a:pt x="698500" y="42333"/>
                  <a:pt x="687048" y="31599"/>
                  <a:pt x="673100" y="25400"/>
                </a:cubicBezTo>
                <a:cubicBezTo>
                  <a:pt x="648634" y="14526"/>
                  <a:pt x="596900" y="0"/>
                  <a:pt x="596900" y="0"/>
                </a:cubicBezTo>
                <a:cubicBezTo>
                  <a:pt x="524933" y="4233"/>
                  <a:pt x="452293" y="2006"/>
                  <a:pt x="381000" y="12700"/>
                </a:cubicBezTo>
                <a:cubicBezTo>
                  <a:pt x="365905" y="14964"/>
                  <a:pt x="357380" y="33273"/>
                  <a:pt x="342900" y="38100"/>
                </a:cubicBezTo>
                <a:cubicBezTo>
                  <a:pt x="318471" y="46243"/>
                  <a:pt x="291682" y="44555"/>
                  <a:pt x="266700" y="50800"/>
                </a:cubicBezTo>
                <a:cubicBezTo>
                  <a:pt x="240725" y="57294"/>
                  <a:pt x="215900" y="67733"/>
                  <a:pt x="190500" y="76200"/>
                </a:cubicBezTo>
                <a:lnTo>
                  <a:pt x="127000" y="1143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0" name="Straight Arrow Connector 6"/>
          <p:cNvCxnSpPr>
            <a:endCxn id="789" idx="8"/>
          </p:cNvCxnSpPr>
          <p:nvPr/>
        </p:nvCxnSpPr>
        <p:spPr>
          <a:xfrm flipV="1">
            <a:off x="2979360" y="5790960"/>
            <a:ext cx="1250280" cy="496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1" name="Freeform 7"/>
          <p:cNvSpPr/>
          <p:nvPr/>
        </p:nvSpPr>
        <p:spPr>
          <a:xfrm>
            <a:off x="4064040" y="4178160"/>
            <a:ext cx="3000240" cy="2006640"/>
          </a:xfrm>
          <a:custGeom>
            <a:avLst/>
            <a:gdLst/>
            <a:ahLst/>
            <a:rect l="l" t="t" r="r" b="b"/>
            <a:pathLst>
              <a:path w="2999764" h="2006600">
                <a:moveTo>
                  <a:pt x="190500" y="25400"/>
                </a:moveTo>
                <a:cubicBezTo>
                  <a:pt x="169333" y="42333"/>
                  <a:pt x="148922" y="60257"/>
                  <a:pt x="127000" y="76200"/>
                </a:cubicBezTo>
                <a:cubicBezTo>
                  <a:pt x="102312" y="94155"/>
                  <a:pt x="50800" y="127000"/>
                  <a:pt x="50800" y="127000"/>
                </a:cubicBezTo>
                <a:cubicBezTo>
                  <a:pt x="42333" y="139700"/>
                  <a:pt x="32226" y="151448"/>
                  <a:pt x="25400" y="165100"/>
                </a:cubicBezTo>
                <a:cubicBezTo>
                  <a:pt x="-15771" y="247442"/>
                  <a:pt x="22566" y="418940"/>
                  <a:pt x="25400" y="457200"/>
                </a:cubicBezTo>
                <a:cubicBezTo>
                  <a:pt x="30190" y="521865"/>
                  <a:pt x="36891" y="541266"/>
                  <a:pt x="50800" y="596900"/>
                </a:cubicBezTo>
                <a:cubicBezTo>
                  <a:pt x="60124" y="829989"/>
                  <a:pt x="74902" y="873987"/>
                  <a:pt x="50800" y="1066800"/>
                </a:cubicBezTo>
                <a:cubicBezTo>
                  <a:pt x="46389" y="1102091"/>
                  <a:pt x="34772" y="1122897"/>
                  <a:pt x="25400" y="1155700"/>
                </a:cubicBezTo>
                <a:cubicBezTo>
                  <a:pt x="10244" y="1208747"/>
                  <a:pt x="9980" y="1222823"/>
                  <a:pt x="0" y="1282700"/>
                </a:cubicBezTo>
                <a:cubicBezTo>
                  <a:pt x="63366" y="1472797"/>
                  <a:pt x="-723" y="1268233"/>
                  <a:pt x="25400" y="1790700"/>
                </a:cubicBezTo>
                <a:cubicBezTo>
                  <a:pt x="28270" y="1848101"/>
                  <a:pt x="61993" y="1836764"/>
                  <a:pt x="114300" y="1854200"/>
                </a:cubicBezTo>
                <a:lnTo>
                  <a:pt x="190500" y="1879600"/>
                </a:lnTo>
                <a:cubicBezTo>
                  <a:pt x="203200" y="1883833"/>
                  <a:pt x="215279" y="1890968"/>
                  <a:pt x="228600" y="1892300"/>
                </a:cubicBezTo>
                <a:lnTo>
                  <a:pt x="355600" y="1905000"/>
                </a:lnTo>
                <a:cubicBezTo>
                  <a:pt x="432375" y="1924194"/>
                  <a:pt x="389841" y="1912180"/>
                  <a:pt x="482600" y="1943100"/>
                </a:cubicBezTo>
                <a:lnTo>
                  <a:pt x="520700" y="1955800"/>
                </a:lnTo>
                <a:cubicBezTo>
                  <a:pt x="533400" y="1960033"/>
                  <a:pt x="547661" y="1961074"/>
                  <a:pt x="558800" y="1968500"/>
                </a:cubicBezTo>
                <a:cubicBezTo>
                  <a:pt x="608039" y="2001326"/>
                  <a:pt x="582420" y="1989073"/>
                  <a:pt x="635000" y="2006600"/>
                </a:cubicBezTo>
                <a:cubicBezTo>
                  <a:pt x="762000" y="2002367"/>
                  <a:pt x="889125" y="2000949"/>
                  <a:pt x="1016000" y="1993900"/>
                </a:cubicBezTo>
                <a:cubicBezTo>
                  <a:pt x="1077566" y="1990480"/>
                  <a:pt x="1110446" y="1975118"/>
                  <a:pt x="1168400" y="1955800"/>
                </a:cubicBezTo>
                <a:lnTo>
                  <a:pt x="1206500" y="1943100"/>
                </a:lnTo>
                <a:cubicBezTo>
                  <a:pt x="1274233" y="1841500"/>
                  <a:pt x="1185333" y="1964267"/>
                  <a:pt x="1270000" y="1879600"/>
                </a:cubicBezTo>
                <a:cubicBezTo>
                  <a:pt x="1354667" y="1794933"/>
                  <a:pt x="1231900" y="1883833"/>
                  <a:pt x="1333500" y="1816100"/>
                </a:cubicBezTo>
                <a:cubicBezTo>
                  <a:pt x="1392767" y="1727200"/>
                  <a:pt x="1358900" y="1756833"/>
                  <a:pt x="1422400" y="1714500"/>
                </a:cubicBezTo>
                <a:cubicBezTo>
                  <a:pt x="1490133" y="1612900"/>
                  <a:pt x="1401233" y="1735667"/>
                  <a:pt x="1485900" y="1651000"/>
                </a:cubicBezTo>
                <a:cubicBezTo>
                  <a:pt x="1496693" y="1640207"/>
                  <a:pt x="1500507" y="1623693"/>
                  <a:pt x="1511300" y="1612900"/>
                </a:cubicBezTo>
                <a:cubicBezTo>
                  <a:pt x="1522093" y="1602107"/>
                  <a:pt x="1537992" y="1597641"/>
                  <a:pt x="1549400" y="1587500"/>
                </a:cubicBezTo>
                <a:cubicBezTo>
                  <a:pt x="1576248" y="1563635"/>
                  <a:pt x="1600200" y="1536700"/>
                  <a:pt x="1625600" y="1511300"/>
                </a:cubicBezTo>
                <a:cubicBezTo>
                  <a:pt x="1638300" y="1498600"/>
                  <a:pt x="1653737" y="1488144"/>
                  <a:pt x="1663700" y="1473200"/>
                </a:cubicBezTo>
                <a:cubicBezTo>
                  <a:pt x="1680633" y="1447800"/>
                  <a:pt x="1689100" y="1413933"/>
                  <a:pt x="1714500" y="1397000"/>
                </a:cubicBezTo>
                <a:lnTo>
                  <a:pt x="1752600" y="1371600"/>
                </a:lnTo>
                <a:cubicBezTo>
                  <a:pt x="1761067" y="1358900"/>
                  <a:pt x="1767207" y="1344293"/>
                  <a:pt x="1778000" y="1333500"/>
                </a:cubicBezTo>
                <a:cubicBezTo>
                  <a:pt x="1788793" y="1322707"/>
                  <a:pt x="1803680" y="1316972"/>
                  <a:pt x="1816100" y="1308100"/>
                </a:cubicBezTo>
                <a:cubicBezTo>
                  <a:pt x="1833324" y="1295797"/>
                  <a:pt x="1848522" y="1280502"/>
                  <a:pt x="1866900" y="1270000"/>
                </a:cubicBezTo>
                <a:cubicBezTo>
                  <a:pt x="1878523" y="1263358"/>
                  <a:pt x="1893026" y="1263287"/>
                  <a:pt x="1905000" y="1257300"/>
                </a:cubicBezTo>
                <a:cubicBezTo>
                  <a:pt x="1958511" y="1230545"/>
                  <a:pt x="1940664" y="1213053"/>
                  <a:pt x="2019300" y="1206500"/>
                </a:cubicBezTo>
                <a:lnTo>
                  <a:pt x="2171700" y="1193800"/>
                </a:lnTo>
                <a:cubicBezTo>
                  <a:pt x="2338397" y="1182687"/>
                  <a:pt x="2382551" y="1186494"/>
                  <a:pt x="2527300" y="1168400"/>
                </a:cubicBezTo>
                <a:cubicBezTo>
                  <a:pt x="2566532" y="1163496"/>
                  <a:pt x="2615247" y="1154716"/>
                  <a:pt x="2654300" y="1143000"/>
                </a:cubicBezTo>
                <a:cubicBezTo>
                  <a:pt x="2679945" y="1135307"/>
                  <a:pt x="2705100" y="1126067"/>
                  <a:pt x="2730500" y="1117600"/>
                </a:cubicBezTo>
                <a:lnTo>
                  <a:pt x="2806700" y="1092200"/>
                </a:lnTo>
                <a:cubicBezTo>
                  <a:pt x="2819400" y="1087967"/>
                  <a:pt x="2833661" y="1086926"/>
                  <a:pt x="2844800" y="1079500"/>
                </a:cubicBezTo>
                <a:lnTo>
                  <a:pt x="2921000" y="1028700"/>
                </a:lnTo>
                <a:cubicBezTo>
                  <a:pt x="2929467" y="1016000"/>
                  <a:pt x="2935607" y="1001393"/>
                  <a:pt x="2946400" y="990600"/>
                </a:cubicBezTo>
                <a:cubicBezTo>
                  <a:pt x="2957193" y="979807"/>
                  <a:pt x="2982483" y="980330"/>
                  <a:pt x="2984500" y="965200"/>
                </a:cubicBezTo>
                <a:cubicBezTo>
                  <a:pt x="3006696" y="798727"/>
                  <a:pt x="3015451" y="814650"/>
                  <a:pt x="2933700" y="787400"/>
                </a:cubicBezTo>
                <a:cubicBezTo>
                  <a:pt x="2921000" y="774700"/>
                  <a:pt x="2911300" y="758022"/>
                  <a:pt x="2895600" y="749300"/>
                </a:cubicBezTo>
                <a:cubicBezTo>
                  <a:pt x="2872195" y="736297"/>
                  <a:pt x="2844800" y="732367"/>
                  <a:pt x="2819400" y="723900"/>
                </a:cubicBezTo>
                <a:lnTo>
                  <a:pt x="2781300" y="711200"/>
                </a:lnTo>
                <a:cubicBezTo>
                  <a:pt x="2768600" y="706967"/>
                  <a:pt x="2756452" y="700393"/>
                  <a:pt x="2743200" y="698500"/>
                </a:cubicBezTo>
                <a:cubicBezTo>
                  <a:pt x="2634572" y="682982"/>
                  <a:pt x="2642622" y="682583"/>
                  <a:pt x="2514600" y="673100"/>
                </a:cubicBezTo>
                <a:cubicBezTo>
                  <a:pt x="2446920" y="668087"/>
                  <a:pt x="2379133" y="664633"/>
                  <a:pt x="2311400" y="660400"/>
                </a:cubicBezTo>
                <a:cubicBezTo>
                  <a:pt x="2273312" y="654052"/>
                  <a:pt x="2192543" y="644662"/>
                  <a:pt x="2159000" y="622300"/>
                </a:cubicBezTo>
                <a:cubicBezTo>
                  <a:pt x="2146300" y="613833"/>
                  <a:pt x="2134552" y="603726"/>
                  <a:pt x="2120900" y="596900"/>
                </a:cubicBezTo>
                <a:cubicBezTo>
                  <a:pt x="2108926" y="590913"/>
                  <a:pt x="2094502" y="590701"/>
                  <a:pt x="2082800" y="584200"/>
                </a:cubicBezTo>
                <a:cubicBezTo>
                  <a:pt x="2056115" y="569375"/>
                  <a:pt x="2028186" y="554986"/>
                  <a:pt x="2006600" y="533400"/>
                </a:cubicBezTo>
                <a:cubicBezTo>
                  <a:pt x="1978513" y="505313"/>
                  <a:pt x="1965763" y="487581"/>
                  <a:pt x="1930400" y="469900"/>
                </a:cubicBezTo>
                <a:cubicBezTo>
                  <a:pt x="1918426" y="463913"/>
                  <a:pt x="1904274" y="463187"/>
                  <a:pt x="1892300" y="457200"/>
                </a:cubicBezTo>
                <a:cubicBezTo>
                  <a:pt x="1878648" y="450374"/>
                  <a:pt x="1868148" y="437999"/>
                  <a:pt x="1854200" y="431800"/>
                </a:cubicBezTo>
                <a:cubicBezTo>
                  <a:pt x="1829734" y="420926"/>
                  <a:pt x="1800277" y="421252"/>
                  <a:pt x="1778000" y="406400"/>
                </a:cubicBezTo>
                <a:lnTo>
                  <a:pt x="1701800" y="355600"/>
                </a:lnTo>
                <a:cubicBezTo>
                  <a:pt x="1689100" y="347133"/>
                  <a:pt x="1678180" y="335027"/>
                  <a:pt x="1663700" y="330200"/>
                </a:cubicBezTo>
                <a:lnTo>
                  <a:pt x="1625600" y="317500"/>
                </a:lnTo>
                <a:cubicBezTo>
                  <a:pt x="1541046" y="232946"/>
                  <a:pt x="1632108" y="312649"/>
                  <a:pt x="1549400" y="266700"/>
                </a:cubicBezTo>
                <a:cubicBezTo>
                  <a:pt x="1522715" y="251875"/>
                  <a:pt x="1502816" y="223304"/>
                  <a:pt x="1473200" y="215900"/>
                </a:cubicBezTo>
                <a:cubicBezTo>
                  <a:pt x="1456267" y="211667"/>
                  <a:pt x="1438743" y="209329"/>
                  <a:pt x="1422400" y="203200"/>
                </a:cubicBezTo>
                <a:cubicBezTo>
                  <a:pt x="1404673" y="196553"/>
                  <a:pt x="1389178" y="184831"/>
                  <a:pt x="1371600" y="177800"/>
                </a:cubicBezTo>
                <a:cubicBezTo>
                  <a:pt x="1346741" y="167856"/>
                  <a:pt x="1320800" y="160867"/>
                  <a:pt x="1295400" y="152400"/>
                </a:cubicBezTo>
                <a:cubicBezTo>
                  <a:pt x="1282700" y="148167"/>
                  <a:pt x="1270641" y="140812"/>
                  <a:pt x="1257300" y="139700"/>
                </a:cubicBezTo>
                <a:lnTo>
                  <a:pt x="1104900" y="127000"/>
                </a:lnTo>
                <a:cubicBezTo>
                  <a:pt x="1066715" y="114272"/>
                  <a:pt x="1061526" y="116255"/>
                  <a:pt x="1028700" y="88900"/>
                </a:cubicBezTo>
                <a:cubicBezTo>
                  <a:pt x="1014902" y="77402"/>
                  <a:pt x="1004777" y="61827"/>
                  <a:pt x="990600" y="50800"/>
                </a:cubicBezTo>
                <a:cubicBezTo>
                  <a:pt x="966503" y="32058"/>
                  <a:pt x="914400" y="0"/>
                  <a:pt x="914400" y="0"/>
                </a:cubicBezTo>
                <a:lnTo>
                  <a:pt x="190500" y="254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2" name="Straight Arrow Connector 9"/>
          <p:cNvCxnSpPr>
            <a:endCxn id="791" idx="194"/>
          </p:cNvCxnSpPr>
          <p:nvPr/>
        </p:nvCxnSpPr>
        <p:spPr>
          <a:xfrm flipH="1" flipV="1">
            <a:off x="6234840" y="5371920"/>
            <a:ext cx="972360" cy="915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3189240" y="2236680"/>
            <a:ext cx="4786200" cy="283176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200"/>
            </a:b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variabl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name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selected-para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Para[2]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sequenc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$selected-para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3"/>
          <p:cNvSpPr/>
          <p:nvPr/>
        </p:nvSpPr>
        <p:spPr>
          <a:xfrm>
            <a:off x="3494160" y="4110120"/>
            <a:ext cx="3592440" cy="18252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4932360" y="4292640"/>
            <a:ext cx="1011240" cy="19044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ight Arrow 5"/>
          <p:cNvSpPr/>
          <p:nvPr/>
        </p:nvSpPr>
        <p:spPr>
          <a:xfrm>
            <a:off x="2654280" y="4110120"/>
            <a:ext cx="839880" cy="18252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Box 6"/>
          <p:cNvSpPr/>
          <p:nvPr/>
        </p:nvSpPr>
        <p:spPr>
          <a:xfrm>
            <a:off x="531720" y="3994200"/>
            <a:ext cx="25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variable that holds Para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Down Arrow 7"/>
          <p:cNvSpPr/>
          <p:nvPr/>
        </p:nvSpPr>
        <p:spPr>
          <a:xfrm flipV="1">
            <a:off x="5291280" y="4483080"/>
            <a:ext cx="195120" cy="109872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Box 8"/>
          <p:cNvSpPr/>
          <p:nvPr/>
        </p:nvSpPr>
        <p:spPr>
          <a:xfrm>
            <a:off x="5079960" y="5581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the content of the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copy-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3189240" y="2236680"/>
            <a:ext cx="4786200" cy="264924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200"/>
            </a:b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copy-of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Para[2]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3494160" y="4110120"/>
            <a:ext cx="2131920" cy="16992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ight Arrow 5"/>
          <p:cNvSpPr/>
          <p:nvPr/>
        </p:nvSpPr>
        <p:spPr>
          <a:xfrm>
            <a:off x="2654280" y="4110120"/>
            <a:ext cx="839880" cy="18252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Box 6"/>
          <p:cNvSpPr/>
          <p:nvPr/>
        </p:nvSpPr>
        <p:spPr>
          <a:xfrm>
            <a:off x="290520" y="3968640"/>
            <a:ext cx="25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copy of Para[2] and output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2833560" y="1868400"/>
            <a:ext cx="4786560" cy="4291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200"/>
            </a:b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                       version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text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ode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TableOfContents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5844c"/>
                </a:solidFill>
                <a:latin typeface="Times New Roman"/>
              </a:rPr>
              <a:t>mode</a:t>
            </a:r>
            <a:r>
              <a:rPr b="1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"TableOfContents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 ............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eft Brace 3"/>
          <p:cNvSpPr/>
          <p:nvPr/>
        </p:nvSpPr>
        <p:spPr>
          <a:xfrm>
            <a:off x="2374920" y="4483080"/>
            <a:ext cx="419040" cy="1270080"/>
          </a:xfrm>
          <a:custGeom>
            <a:avLst/>
            <a:gdLst>
              <a:gd name="textAreaLeft" fmla="*/ 267840 w 419040"/>
              <a:gd name="textAreaRight" fmla="*/ 419400 w 419040"/>
              <a:gd name="textAreaTop" fmla="*/ 10800 h 1270080"/>
              <a:gd name="textAreaBottom" fmla="*/ 1259280 h 12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7"/>
                  <a:pt x="10800" y="594"/>
                </a:cubicBezTo>
                <a:lnTo>
                  <a:pt x="10800" y="10206"/>
                </a:lnTo>
                <a:cubicBezTo>
                  <a:pt x="10800" y="10503"/>
                  <a:pt x="5400" y="10800"/>
                  <a:pt x="0" y="10800"/>
                </a:cubicBezTo>
                <a:cubicBezTo>
                  <a:pt x="5400" y="10800"/>
                  <a:pt x="10800" y="11097"/>
                  <a:pt x="10800" y="11394"/>
                </a:cubicBezTo>
                <a:lnTo>
                  <a:pt x="10800" y="21006"/>
                </a:lnTo>
                <a:cubicBezTo>
                  <a:pt x="10800" y="2130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Box 4"/>
          <p:cNvSpPr/>
          <p:nvPr/>
        </p:nvSpPr>
        <p:spPr>
          <a:xfrm>
            <a:off x="584280" y="4908600"/>
            <a:ext cx="25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templates for processing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1030320" y="1843200"/>
            <a:ext cx="4786200" cy="4291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200"/>
            </a:b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                       version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text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5844c"/>
                </a:solidFill>
                <a:latin typeface="Times New Roman"/>
              </a:rPr>
              <a:t>mode</a:t>
            </a:r>
            <a:r>
              <a:rPr b="1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"TableOfContents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5844c"/>
                </a:solidFill>
                <a:latin typeface="Times New Roman"/>
              </a:rPr>
              <a:t>mode</a:t>
            </a:r>
            <a:r>
              <a:rPr b="1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"TableOfContents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 ............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Box 3"/>
          <p:cNvSpPr/>
          <p:nvPr/>
        </p:nvSpPr>
        <p:spPr>
          <a:xfrm>
            <a:off x="6056280" y="2560680"/>
            <a:ext cx="31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ute the template rule that has the mode TableOfCon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Straight Arrow Connector 5"/>
          <p:cNvCxnSpPr/>
          <p:nvPr/>
        </p:nvCxnSpPr>
        <p:spPr>
          <a:xfrm flipV="1">
            <a:off x="3962520" y="2742840"/>
            <a:ext cx="20944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4" name="Straight Arrow Connector 7"/>
          <p:cNvCxnSpPr/>
          <p:nvPr/>
        </p:nvCxnSpPr>
        <p:spPr>
          <a:xfrm flipH="1">
            <a:off x="4470120" y="3206880"/>
            <a:ext cx="3442320" cy="1187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s its tre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4508640" y="965160"/>
            <a:ext cx="45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“template rule” that describes the actions to perform when positioned at this n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Straight Arrow Connector 5"/>
          <p:cNvCxnSpPr/>
          <p:nvPr/>
        </p:nvCxnSpPr>
        <p:spPr>
          <a:xfrm flipH="1">
            <a:off x="3847320" y="1790640"/>
            <a:ext cx="661320" cy="356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1320840" y="3759120"/>
            <a:ext cx="3085920" cy="1473120"/>
          </a:xfrm>
          <a:prstGeom prst="rect">
            <a:avLst/>
          </a:prstGeom>
          <a:solidFill>
            <a:srgbClr val="618ffd">
              <a:alpha val="51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let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111320" y="2104920"/>
            <a:ext cx="6921360" cy="3660120"/>
          </a:xfrm>
          <a:prstGeom prst="rect">
            <a:avLst/>
          </a:prstGeom>
          <a:noFill/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800"/>
            </a:b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                        version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t your XSLT code he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4406760" y="3952800"/>
            <a:ext cx="36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de in here tells the XSLT processor what to do when at the top of the XML document (at the 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od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xsl:value-of to output the value of a n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111320" y="2104920"/>
            <a:ext cx="6921360" cy="3660120"/>
          </a:xfrm>
          <a:prstGeom prst="rect">
            <a:avLst/>
          </a:prstGeom>
          <a:noFill/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800"/>
            </a:b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                        version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1" lang="en-US" sz="18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1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"__________"</a:t>
            </a:r>
            <a:r>
              <a:rPr b="1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4572000" y="2862360"/>
            <a:ext cx="3340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vigate to the value we want to output. Use XPat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Straight Arrow Connector 2"/>
          <p:cNvCxnSpPr/>
          <p:nvPr/>
        </p:nvCxnSpPr>
        <p:spPr>
          <a:xfrm flipH="1">
            <a:off x="4266360" y="3136680"/>
            <a:ext cx="305640" cy="1270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8T10:42:01Z</dcterms:created>
  <dc:creator>Roger L. Costello</dc:creator>
  <dc:description/>
  <cp:keywords>XSLT XPath XML XSLT Tutorial</cp:keywords>
  <dc:language>en-US</dc:language>
  <cp:lastModifiedBy>Costello, Roger L.</cp:lastModifiedBy>
  <dcterms:modified xsi:type="dcterms:W3CDTF">2014-11-07T10:23:07Z</dcterms:modified>
  <cp:revision>1156</cp:revision>
  <dc:subject/>
  <dc:title>XSLT </dc:title>
</cp:coreProperties>
</file>