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C1A-2FFD-4A2D-8086-E5AAD28F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1E7-F76E-4D24-BAEB-C3F82FC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260-E4FD-4CB3-B2F3-4E43995F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C3E-66E7-4B75-B656-122B27E9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55C-EDB6-4988-909B-B452B53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03C-4929-41DB-874B-58DE7DD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B9B-9CD7-4BE9-8631-D0D36F2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CF0-93BD-4F00-9034-3A14B05B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A1C-8DEC-425A-A4EC-4F17FE38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C16-F324-49B6-ACB9-BA3083B7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349-4455-4159-8983-F7DEC363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E28-3903-479D-97E0-5CF1CB4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DDF-B53F-46D3-BED2-4809BA09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81400" y="2530440"/>
            <a:ext cx="3224160" cy="906480"/>
            <a:chOff x="2381400" y="2530440"/>
            <a:chExt cx="3224160" cy="906480"/>
          </a:xfrm>
        </p:grpSpPr>
        <p:sp>
          <p:nvSpPr>
            <p:cNvPr id="42" name=""/>
            <p:cNvSpPr/>
            <p:nvPr/>
          </p:nvSpPr>
          <p:spPr>
            <a:xfrm>
              <a:off x="3865320" y="26128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81400" y="30830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4600" y="25304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98880" y="304164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46400" y="2765520"/>
            <a:ext cx="4343400" cy="941040"/>
            <a:chOff x="2246400" y="2765520"/>
            <a:chExt cx="4343400" cy="941040"/>
          </a:xfrm>
        </p:grpSpPr>
        <p:sp>
          <p:nvSpPr>
            <p:cNvPr id="137" name=""/>
            <p:cNvSpPr/>
            <p:nvPr/>
          </p:nvSpPr>
          <p:spPr>
            <a:xfrm>
              <a:off x="3736080" y="3125880"/>
              <a:ext cx="666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46400" y="344016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35320" y="288756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30880" y="34322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7440" y="3232080"/>
              <a:ext cx="688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3120" y="3440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099120" y="2774520"/>
              <a:ext cx="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076280" y="2765520"/>
              <a:ext cx="20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76640" y="2765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45120" y="3378240"/>
              <a:ext cx="889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9400" y="3279600"/>
            <a:ext cx="6995880" cy="2091960"/>
            <a:chOff x="149400" y="3279600"/>
            <a:chExt cx="6995880" cy="2091960"/>
          </a:xfrm>
        </p:grpSpPr>
        <p:sp>
          <p:nvSpPr>
            <p:cNvPr id="149" name=""/>
            <p:cNvSpPr/>
            <p:nvPr/>
          </p:nvSpPr>
          <p:spPr>
            <a:xfrm>
              <a:off x="2387880" y="3343320"/>
              <a:ext cx="19105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400" y="433548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680" y="3782880"/>
              <a:ext cx="8236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30800" y="375768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19280" y="3745080"/>
              <a:ext cx="738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90400" y="327960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960" y="376560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17840" y="4356000"/>
              <a:ext cx="75384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3720" y="4518000"/>
              <a:ext cx="18313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Book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05240" y="4932360"/>
              <a:ext cx="70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0400" y="4454640"/>
              <a:ext cx="12841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3400" y="4940280"/>
              <a:ext cx="706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24880" y="340524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t'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080" y="461160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t'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ookStore.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79360" y="2813040"/>
            <a:ext cx="6488280" cy="951120"/>
            <a:chOff x="1179360" y="2813040"/>
            <a:chExt cx="6488280" cy="951120"/>
          </a:xfrm>
        </p:grpSpPr>
        <p:sp>
          <p:nvSpPr>
            <p:cNvPr id="164" name=""/>
            <p:cNvSpPr/>
            <p:nvPr/>
          </p:nvSpPr>
          <p:spPr>
            <a:xfrm>
              <a:off x="2657880" y="2940120"/>
              <a:ext cx="2012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s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3365640"/>
              <a:ext cx="14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12920" y="28130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6480" y="33577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440" y="2936880"/>
              <a:ext cx="1526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-list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61320" y="33656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32000" y="2965320"/>
            <a:ext cx="6487560" cy="951120"/>
            <a:chOff x="1332000" y="2965320"/>
            <a:chExt cx="6487560" cy="951120"/>
          </a:xfrm>
        </p:grpSpPr>
        <p:sp>
          <p:nvSpPr>
            <p:cNvPr id="172" name=""/>
            <p:cNvSpPr/>
            <p:nvPr/>
          </p:nvSpPr>
          <p:spPr>
            <a:xfrm>
              <a:off x="2809800" y="3092400"/>
              <a:ext cx="2012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JuicersList.x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35179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65200" y="2965320"/>
              <a:ext cx="124272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38760" y="3510000"/>
              <a:ext cx="7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3089160"/>
              <a:ext cx="15264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-list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517920"/>
              <a:ext cx="7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88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5840" y="2862360"/>
            <a:ext cx="14433480" cy="1316520"/>
            <a:chOff x="-15840" y="2862360"/>
            <a:chExt cx="14433480" cy="1316520"/>
          </a:xfrm>
        </p:grpSpPr>
        <p:sp>
          <p:nvSpPr>
            <p:cNvPr id="181" name=""/>
            <p:cNvSpPr/>
            <p:nvPr/>
          </p:nvSpPr>
          <p:spPr>
            <a:xfrm>
              <a:off x="2132280" y="3351240"/>
              <a:ext cx="8802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360" y="3648240"/>
              <a:ext cx="20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15840" y="3095640"/>
              <a:ext cx="173664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-roster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21120" y="36511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5120" y="3111480"/>
              <a:ext cx="126288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o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m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2040" y="36702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07880" y="3370320"/>
              <a:ext cx="12535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c:request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75440" y="36399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7040" y="3449520"/>
              <a:ext cx="12628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-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72720" y="363708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32680" y="3338640"/>
              <a:ext cx="971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yle 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14040" y="36450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517840" y="3336840"/>
              <a:ext cx="2197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at($Name, '.html'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1320" y="36417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52520" y="3583080"/>
              <a:ext cx="889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995360" y="287172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881360" y="2862360"/>
              <a:ext cx="1211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8120" y="286236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d Decision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2240" y="1981080"/>
            <a:ext cx="6791400" cy="3046680"/>
            <a:chOff x="192240" y="1981080"/>
            <a:chExt cx="6791400" cy="3046680"/>
          </a:xfrm>
        </p:grpSpPr>
        <p:sp>
          <p:nvSpPr>
            <p:cNvPr id="201" name=""/>
            <p:cNvSpPr/>
            <p:nvPr/>
          </p:nvSpPr>
          <p:spPr>
            <a:xfrm>
              <a:off x="3504240" y="1981080"/>
              <a:ext cx="114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ag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240" y="3517920"/>
              <a:ext cx="27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120" y="2965320"/>
              <a:ext cx="224316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an-application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0000" y="4203720"/>
              <a:ext cx="14090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the ca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powe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orts c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7880" y="3078000"/>
              <a:ext cx="12657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936880" y="2387520"/>
              <a:ext cx="21600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41720" y="237816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6880" y="3517920"/>
              <a:ext cx="25884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95720" y="4529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7240" y="350676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8840" y="2324160"/>
              <a:ext cx="677880" cy="11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916520" y="3506400"/>
              <a:ext cx="441360" cy="11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381400" y="2376360"/>
            <a:ext cx="4809960" cy="1310760"/>
            <a:chOff x="2381400" y="2376360"/>
            <a:chExt cx="4809960" cy="1310760"/>
          </a:xfrm>
        </p:grpSpPr>
        <p:sp>
          <p:nvSpPr>
            <p:cNvPr id="48" name=""/>
            <p:cNvSpPr/>
            <p:nvPr/>
          </p:nvSpPr>
          <p:spPr>
            <a:xfrm>
              <a:off x="3865320" y="26128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81400" y="30830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5304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98880" y="304164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50200" y="2376360"/>
              <a:ext cx="79020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85040" y="304956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68440" y="2529000"/>
            <a:ext cx="6418440" cy="1310760"/>
            <a:chOff x="1468440" y="2529000"/>
            <a:chExt cx="6418440" cy="1310760"/>
          </a:xfrm>
        </p:grpSpPr>
        <p:sp>
          <p:nvSpPr>
            <p:cNvPr id="57" name=""/>
            <p:cNvSpPr/>
            <p:nvPr/>
          </p:nvSpPr>
          <p:spPr>
            <a:xfrm>
              <a:off x="2952360" y="276552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8440" y="32353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1640" y="268272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6280" y="31939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37240" y="2529000"/>
              <a:ext cx="79020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72080" y="32018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8720" y="3025800"/>
              <a:ext cx="825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80200" y="31989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1120" y="2776680"/>
            <a:ext cx="10051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246480"/>
            <a:ext cx="14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0400" y="2693880"/>
            <a:ext cx="1243080" cy="4572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r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5040" y="3205080"/>
            <a:ext cx="7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26000" y="2540160"/>
            <a:ext cx="7902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60840" y="3213000"/>
            <a:ext cx="7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07480" y="3036960"/>
            <a:ext cx="825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320976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21720" y="2789280"/>
            <a:ext cx="1220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77040" y="320688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533680" y="2443320"/>
            <a:ext cx="3013200" cy="1554120"/>
            <a:chOff x="2533680" y="2443320"/>
            <a:chExt cx="3013200" cy="1554120"/>
          </a:xfrm>
        </p:grpSpPr>
        <p:sp>
          <p:nvSpPr>
            <p:cNvPr id="77" name=""/>
            <p:cNvSpPr/>
            <p:nvPr/>
          </p:nvSpPr>
          <p:spPr>
            <a:xfrm>
              <a:off x="4026240" y="2443320"/>
              <a:ext cx="7689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33680" y="323532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6880" y="268272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40200" y="32385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63720" y="2759040"/>
            <a:ext cx="4743360" cy="830160"/>
            <a:chOff x="963720" y="2759040"/>
            <a:chExt cx="4743360" cy="830160"/>
          </a:xfrm>
        </p:grpSpPr>
        <p:sp>
          <p:nvSpPr>
            <p:cNvPr id="84" name=""/>
            <p:cNvSpPr/>
            <p:nvPr/>
          </p:nvSpPr>
          <p:spPr>
            <a:xfrm>
              <a:off x="2486880" y="3008520"/>
              <a:ext cx="8679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63720" y="331164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6920" y="27590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81480" y="33037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96800" y="3005280"/>
              <a:ext cx="8679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00760" y="33116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720040" y="2887560"/>
            <a:ext cx="1988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icer-catalogue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2160" y="3305160"/>
            <a:ext cx="70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08080" y="2635200"/>
            <a:ext cx="6620040" cy="1465560"/>
            <a:chOff x="1108080" y="2635200"/>
            <a:chExt cx="6620040" cy="1465560"/>
          </a:xfrm>
        </p:grpSpPr>
        <p:grpSp>
          <p:nvGrpSpPr>
            <p:cNvPr id="94" name=""/>
            <p:cNvGrpSpPr/>
            <p:nvPr/>
          </p:nvGrpSpPr>
          <p:grpSpPr>
            <a:xfrm>
              <a:off x="1108080" y="2635200"/>
              <a:ext cx="4632120" cy="1465560"/>
              <a:chOff x="1108080" y="2635200"/>
              <a:chExt cx="4632120" cy="1465560"/>
            </a:xfrm>
          </p:grpSpPr>
          <p:sp>
            <p:nvSpPr>
              <p:cNvPr id="95" name=""/>
              <p:cNvSpPr/>
              <p:nvPr/>
            </p:nvSpPr>
            <p:spPr>
              <a:xfrm>
                <a:off x="2590920" y="2840040"/>
                <a:ext cx="768960" cy="10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juic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d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$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108080" y="3387600"/>
                <a:ext cx="14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08160" y="2835360"/>
                <a:ext cx="124272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uicers.x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92280" y="3379680"/>
                <a:ext cx="70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29920" y="2635200"/>
                <a:ext cx="865080" cy="146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T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st 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uic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33880" y="3387600"/>
                <a:ext cx="70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767920" y="2965320"/>
              <a:ext cx="12096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338292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3360" y="2690640"/>
            <a:ext cx="8651880" cy="1465560"/>
            <a:chOff x="333360" y="2690640"/>
            <a:chExt cx="8651880" cy="1465560"/>
          </a:xfrm>
        </p:grpSpPr>
        <p:sp>
          <p:nvSpPr>
            <p:cNvPr id="105" name=""/>
            <p:cNvSpPr/>
            <p:nvPr/>
          </p:nvSpPr>
          <p:spPr>
            <a:xfrm>
              <a:off x="3727800" y="2895480"/>
              <a:ext cx="7689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360" y="3432240"/>
              <a:ext cx="14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3440" y="287964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9160" y="343548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66440" y="2690640"/>
              <a:ext cx="86508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0760" y="344340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08280" y="3014640"/>
              <a:ext cx="11422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x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0360" y="34322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0360" y="296532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78920" y="34513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73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9400" y="2971800"/>
            <a:ext cx="9119880" cy="3706920"/>
            <a:chOff x="149400" y="2971800"/>
            <a:chExt cx="9119880" cy="3706920"/>
          </a:xfrm>
        </p:grpSpPr>
        <p:sp>
          <p:nvSpPr>
            <p:cNvPr id="117" name=""/>
            <p:cNvSpPr/>
            <p:nvPr/>
          </p:nvSpPr>
          <p:spPr>
            <a:xfrm>
              <a:off x="3518280" y="3751200"/>
              <a:ext cx="7689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400" y="4335480"/>
              <a:ext cx="145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120" y="3782880"/>
              <a:ext cx="1243080" cy="457200"/>
            </a:xfrm>
            <a:prstGeom prst="foldedCorner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9640" y="429084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6920" y="3546360"/>
              <a:ext cx="86508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62880" y="5305320"/>
              <a:ext cx="552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4320" y="3917880"/>
              <a:ext cx="11422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icers.x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05040" y="4846680"/>
              <a:ext cx="13345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icers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62960" y="530532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33720" y="5262480"/>
              <a:ext cx="3240" cy="6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6040" y="4290840"/>
              <a:ext cx="70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9720" y="3340080"/>
              <a:ext cx="4653000" cy="19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3600" y="29718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5760" y="53262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9800" y="5854680"/>
              <a:ext cx="10051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8760" y="4248000"/>
              <a:ext cx="17640" cy="20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4640" y="6256440"/>
              <a:ext cx="22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2720" y="42465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8:06:58Z</dcterms:created>
  <dc:creator>Roger L. Costello</dc:creator>
  <dc:description/>
  <dc:language>en-US</dc:language>
  <cp:lastModifiedBy>User</cp:lastModifiedBy>
  <dcterms:modified xsi:type="dcterms:W3CDTF">2009-06-08T16:05:58Z</dcterms:modified>
  <cp:revision>23</cp:revision>
  <dc:subject/>
  <dc:title>Lab images</dc:title>
</cp:coreProperties>
</file>