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BEA3-0DAF-414D-A170-8B867BC7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BBA7-D91D-4318-BF26-C17E49CA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F083-317E-4473-96B2-5C999D7D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E5D3-BFAD-4209-9EBA-99D6772D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1A02-11C6-4EC0-813C-1F75A2DE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8431-1B95-4384-82C1-7BC11E1C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62DB-624A-41C0-AFBF-408ECBF0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26FF-C4E1-40D1-806B-4E1385F7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83C4-F413-45D5-8892-B0B2202C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4B61-5EC6-44E9-A46C-3DB63D6D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60CC-7CD6-478A-BCDB-73DB0180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9E3B-8A93-417D-B625-5663D06B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22840" y="1792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5533-6254-4048-80B1-B308E5D19BF9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localhost:8080/exist/index.xml" TargetMode="External"/><Relationship Id="rId2" Type="http://schemas.openxmlformats.org/officeDocument/2006/relationships/hyperlink" Target="http://localhost:8080/exist/index.xml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rpbourret.com/xml/UseCases.htm#gotxml" TargetMode="External"/><Relationship Id="rId2" Type="http://schemas.openxmlformats.org/officeDocument/2006/relationships/hyperlink" Target="http://www.rpbourret.com/xml/UseCases.htm#review" TargetMode="External"/><Relationship Id="rId3" Type="http://schemas.openxmlformats.org/officeDocument/2006/relationships/hyperlink" Target="http://www.rpbourret.com/xml/UseCases.htm#document" TargetMode="External"/><Relationship Id="rId4" Type="http://schemas.openxmlformats.org/officeDocument/2006/relationships/hyperlink" Target="http://www.rpbourret.com/xml/UseCases.htm#docreal" TargetMode="External"/><Relationship Id="rId5" Type="http://schemas.openxmlformats.org/officeDocument/2006/relationships/hyperlink" Target="http://www.rpbourret.com/xml/UseCases.htm#docinside" TargetMode="External"/><Relationship Id="rId6" Type="http://schemas.openxmlformats.org/officeDocument/2006/relationships/hyperlink" Target="http://www.rpbourret.com/xml/UseCases.htm#docmanage" TargetMode="External"/><Relationship Id="rId7" Type="http://schemas.openxmlformats.org/officeDocument/2006/relationships/hyperlink" Target="http://www.rpbourret.com/xml/UseCases.htm#docfind" TargetMode="External"/><Relationship Id="rId8" Type="http://schemas.openxmlformats.org/officeDocument/2006/relationships/hyperlink" Target="http://www.rpbourret.com/xml/UseCases.htm#docretrieve" TargetMode="External"/><Relationship Id="rId9" Type="http://schemas.openxmlformats.org/officeDocument/2006/relationships/hyperlink" Target="http://www.rpbourret.com/xml/UseCases.htm#docreuse" TargetMode="External"/><Relationship Id="rId10" Type="http://schemas.openxmlformats.org/officeDocument/2006/relationships/hyperlink" Target="http://www.rpbourret.com/xml/UseCases.htm#docwhy" TargetMode="External"/><Relationship Id="rId11" Type="http://schemas.openxmlformats.org/officeDocument/2006/relationships/hyperlink" Target="http://www.rpbourret.com/xml/UseCases.htm#docpeek" TargetMode="External"/><Relationship Id="rId12" Type="http://schemas.openxmlformats.org/officeDocument/2006/relationships/hyperlink" Target="http://www.rpbourret.com/xml/UseCases.htm#integrate" TargetMode="External"/><Relationship Id="rId13" Type="http://schemas.openxmlformats.org/officeDocument/2006/relationships/hyperlink" Target="http://www.rpbourret.com/xml/UseCases.htm#integratereal" TargetMode="External"/><Relationship Id="rId14" Type="http://schemas.openxmlformats.org/officeDocument/2006/relationships/hyperlink" Target="http://www.rpbourret.com/xml/UseCases.htm#integrateinside" TargetMode="External"/><Relationship Id="rId15" Type="http://schemas.openxmlformats.org/officeDocument/2006/relationships/hyperlink" Target="http://www.rpbourret.com/xml/UseCases.htm#integratearchitecture" TargetMode="External"/><Relationship Id="rId16" Type="http://schemas.openxmlformats.org/officeDocument/2006/relationships/hyperlink" Target="http://www.rpbourret.com/xml/UseCases.htm#integratedifferences" TargetMode="External"/><Relationship Id="rId17" Type="http://schemas.openxmlformats.org/officeDocument/2006/relationships/hyperlink" Target="http://www.rpbourret.com/xml/UseCases.htm#integratewhy" TargetMode="External"/><Relationship Id="rId18" Type="http://schemas.openxmlformats.org/officeDocument/2006/relationships/hyperlink" Target="http://www.rpbourret.com/xml/UseCases.htm#integratepeek" TargetMode="External"/><Relationship Id="rId19" Type="http://schemas.openxmlformats.org/officeDocument/2006/relationships/hyperlink" Target="http://www.rpbourret.com/xml/UseCases.htm#semi" TargetMode="External"/><Relationship Id="rId20" Type="http://schemas.openxmlformats.org/officeDocument/2006/relationships/hyperlink" Target="http://www.rpbourret.com/xml/UseCases.htm#semireal" TargetMode="External"/><Relationship Id="rId21" Type="http://schemas.openxmlformats.org/officeDocument/2006/relationships/hyperlink" Target="http://www.rpbourret.com/xml/UseCases.htm#semiinside" TargetMode="External"/><Relationship Id="rId22" Type="http://schemas.openxmlformats.org/officeDocument/2006/relationships/hyperlink" Target="http://www.rpbourret.com/xml/UseCases.htm#semiwhy" TargetMode="External"/><Relationship Id="rId23" Type="http://schemas.openxmlformats.org/officeDocument/2006/relationships/hyperlink" Target="http://www.rpbourret.com/xml/UseCases.htm#semipeek" TargetMode="External"/><Relationship Id="rId24" Type="http://schemas.openxmlformats.org/officeDocument/2006/relationships/hyperlink" Target="http://www.rpbourret.com/xml/UseCases.htm#evolve" TargetMode="External"/><Relationship Id="rId25" Type="http://schemas.openxmlformats.org/officeDocument/2006/relationships/hyperlink" Target="http://www.rpbourret.com/xml/UseCases.htm#evolvereal" TargetMode="External"/><Relationship Id="rId26" Type="http://schemas.openxmlformats.org/officeDocument/2006/relationships/hyperlink" Target="http://www.rpbourret.com/xml/UseCases.htm#evolveinside" TargetMode="External"/><Relationship Id="rId27" Type="http://schemas.openxmlformats.org/officeDocument/2006/relationships/hyperlink" Target="http://www.rpbourret.com/xml/UseCases.htm#evolvewhy" TargetMode="External"/><Relationship Id="rId28" Type="http://schemas.openxmlformats.org/officeDocument/2006/relationships/hyperlink" Target="http://www.rpbourret.com/xml/UseCases.htm#evolvepeek" TargetMode="External"/><Relationship Id="rId29" Type="http://schemas.openxmlformats.org/officeDocument/2006/relationships/hyperlink" Target="http://www.rpbourret.com/xml/UseCases.htm#long" TargetMode="External"/><Relationship Id="rId30" Type="http://schemas.openxmlformats.org/officeDocument/2006/relationships/hyperlink" Target="http://www.rpbourret.com/xml/UseCases.htm#large" TargetMode="External"/><Relationship Id="rId31" Type="http://schemas.openxmlformats.org/officeDocument/2006/relationships/hyperlink" Target="http://www.rpbourret.com/xml/UseCases.htm#hierarchical" TargetMode="External"/><Relationship Id="rId32" Type="http://schemas.openxmlformats.org/officeDocument/2006/relationships/hyperlink" Target="http://www.rpbourret.com/xml/UseCases.htm#other" TargetMode="External"/><Relationship Id="rId33" Type="http://schemas.openxmlformats.org/officeDocument/2006/relationships/hyperlink" Target="http://www.rpbourret.com/xml/UseCases.htm#final" TargetMode="External"/><Relationship Id="rId34" Type="http://schemas.openxmlformats.org/officeDocument/2006/relationships/hyperlink" Target="http://www.rpbourret.com/xml/UseCases.htm#conclusion" TargetMode="External"/><Relationship Id="rId35" Type="http://schemas.openxmlformats.org/officeDocument/2006/relationships/hyperlink" Target="http://www.rpbourret.com/xml/UseCases.htm#thanks" TargetMode="External"/><Relationship Id="rId36" Type="http://schemas.openxmlformats.org/officeDocument/2006/relationships/hyperlink" Target="http://www.rpbourret.com/xml/UseCases.htm#resources" TargetMode="External"/><Relationship Id="rId3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pbourret.com/xml/XMLAndDatabases.htm#intro" TargetMode="External"/><Relationship Id="rId2" Type="http://schemas.openxmlformats.org/officeDocument/2006/relationships/hyperlink" Target="http://www.rpbourret.com/xml/XMLAndDatabases.htm#isxmladatabase" TargetMode="External"/><Relationship Id="rId3" Type="http://schemas.openxmlformats.org/officeDocument/2006/relationships/hyperlink" Target="http://www.rpbourret.com/xml/XMLAndDatabases.htm#why" TargetMode="External"/><Relationship Id="rId4" Type="http://schemas.openxmlformats.org/officeDocument/2006/relationships/hyperlink" Target="http://www.rpbourret.com/xml/XMLAndDatabases.htm#datavdocs" TargetMode="External"/><Relationship Id="rId5" Type="http://schemas.openxmlformats.org/officeDocument/2006/relationships/hyperlink" Target="http://www.rpbourret.com/xml/XMLAndDatabases.htm#datacentric" TargetMode="External"/><Relationship Id="rId6" Type="http://schemas.openxmlformats.org/officeDocument/2006/relationships/hyperlink" Target="http://www.rpbourret.com/xml/XMLAndDatabases.htm#doccentric" TargetMode="External"/><Relationship Id="rId7" Type="http://schemas.openxmlformats.org/officeDocument/2006/relationships/hyperlink" Target="http://www.rpbourret.com/xml/XMLAndDatabases.htm#storedocdata" TargetMode="External"/><Relationship Id="rId8" Type="http://schemas.openxmlformats.org/officeDocument/2006/relationships/hyperlink" Target="http://www.rpbourret.com/xml/XMLAndDatabases.htm#storeretrievedata" TargetMode="External"/><Relationship Id="rId9" Type="http://schemas.openxmlformats.org/officeDocument/2006/relationships/hyperlink" Target="http://www.rpbourret.com/xml/XMLAndDatabases.htm#mapping" TargetMode="External"/><Relationship Id="rId10" Type="http://schemas.openxmlformats.org/officeDocument/2006/relationships/hyperlink" Target="http://www.rpbourret.com/xml/XMLAndDatabases.htm#tablemapping" TargetMode="External"/><Relationship Id="rId11" Type="http://schemas.openxmlformats.org/officeDocument/2006/relationships/hyperlink" Target="http://www.rpbourret.com/xml/XMLAndDatabases.htm#objectrelational" TargetMode="External"/><Relationship Id="rId12" Type="http://schemas.openxmlformats.org/officeDocument/2006/relationships/hyperlink" Target="http://www.rpbourret.com/xml/XMLAndDatabases.htm#query" TargetMode="External"/><Relationship Id="rId13" Type="http://schemas.openxmlformats.org/officeDocument/2006/relationships/hyperlink" Target="http://www.rpbourret.com/xml/XMLAndDatabases.htm#templatebased" TargetMode="External"/><Relationship Id="rId14" Type="http://schemas.openxmlformats.org/officeDocument/2006/relationships/hyperlink" Target="http://www.rpbourret.com/xml/XMLAndDatabases.htm#sqlquery" TargetMode="External"/><Relationship Id="rId15" Type="http://schemas.openxmlformats.org/officeDocument/2006/relationships/hyperlink" Target="http://www.rpbourret.com/xml/XMLAndDatabases.htm#xmlquery" TargetMode="External"/><Relationship Id="rId16" Type="http://schemas.openxmlformats.org/officeDocument/2006/relationships/hyperlink" Target="http://www.rpbourret.com/xml/XMLAndDatabases.htm#datainnative" TargetMode="External"/><Relationship Id="rId17" Type="http://schemas.openxmlformats.org/officeDocument/2006/relationships/hyperlink" Target="http://www.rpbourret.com/xml/XMLAndDatabases.htm#datatypesetc" TargetMode="External"/><Relationship Id="rId18" Type="http://schemas.openxmlformats.org/officeDocument/2006/relationships/hyperlink" Target="http://www.rpbourret.com/xml/XMLAndDatabases.htm#datatypes" TargetMode="External"/><Relationship Id="rId19" Type="http://schemas.openxmlformats.org/officeDocument/2006/relationships/hyperlink" Target="http://www.rpbourret.com/xml/XMLAndDatabases.htm#binary" TargetMode="External"/><Relationship Id="rId20" Type="http://schemas.openxmlformats.org/officeDocument/2006/relationships/hyperlink" Target="http://www.rpbourret.com/xml/XMLAndDatabases.htm#null" TargetMode="External"/><Relationship Id="rId21" Type="http://schemas.openxmlformats.org/officeDocument/2006/relationships/hyperlink" Target="http://www.rpbourret.com/xml/XMLAndDatabases.htm#charactersets" TargetMode="External"/><Relationship Id="rId22" Type="http://schemas.openxmlformats.org/officeDocument/2006/relationships/hyperlink" Target="http://www.rpbourret.com/xml/XMLAndDatabases.htm#processinginstr" TargetMode="External"/><Relationship Id="rId23" Type="http://schemas.openxmlformats.org/officeDocument/2006/relationships/hyperlink" Target="http://www.rpbourret.com/xml/XMLAndDatabases.htm#storingmarkup" TargetMode="External"/><Relationship Id="rId24" Type="http://schemas.openxmlformats.org/officeDocument/2006/relationships/hyperlink" Target="http://www.rpbourret.com/xml/XMLAndDatabases.htm#generating" TargetMode="External"/><Relationship Id="rId25" Type="http://schemas.openxmlformats.org/officeDocument/2006/relationships/hyperlink" Target="http://www.rpbourret.com/xml/XMLAndDatabases.htm#storingretrievingdocs" TargetMode="External"/><Relationship Id="rId26" Type="http://schemas.openxmlformats.org/officeDocument/2006/relationships/hyperlink" Target="http://www.rpbourret.com/xml/XMLAndDatabases.htm#filesystem" TargetMode="External"/><Relationship Id="rId27" Type="http://schemas.openxmlformats.org/officeDocument/2006/relationships/hyperlink" Target="http://www.rpbourret.com/xml/XMLAndDatabases.htm#blob" TargetMode="External"/><Relationship Id="rId28" Type="http://schemas.openxmlformats.org/officeDocument/2006/relationships/hyperlink" Target="http://www.rpbourret.com/xml/XMLAndDatabases.htm#blob" TargetMode="External"/><Relationship Id="rId29" Type="http://schemas.openxmlformats.org/officeDocument/2006/relationships/hyperlink" Target="http://www.rpbourret.com/xml/XMLAndDatabases.htm#nativedb" TargetMode="External"/><Relationship Id="rId30" Type="http://schemas.openxmlformats.org/officeDocument/2006/relationships/hyperlink" Target="http://www.rpbourret.com/xml/XMLAndDatabases.htm#nativedefinition" TargetMode="External"/><Relationship Id="rId31" Type="http://schemas.openxmlformats.org/officeDocument/2006/relationships/hyperlink" Target="http://www.rpbourret.com/xml/XMLAndDatabases.htm#nativearchitecture" TargetMode="External"/><Relationship Id="rId32" Type="http://schemas.openxmlformats.org/officeDocument/2006/relationships/hyperlink" Target="http://www.rpbourret.com/xml/XMLAndDatabases.htm#nativetext" TargetMode="External"/><Relationship Id="rId33" Type="http://schemas.openxmlformats.org/officeDocument/2006/relationships/hyperlink" Target="http://www.rpbourret.com/xml/XMLAndDatabases.htm#nativemodel" TargetMode="External"/><Relationship Id="rId34" Type="http://schemas.openxmlformats.org/officeDocument/2006/relationships/hyperlink" Target="http://www.rpbourret.com/xml/XMLAndDatabases.htm#nativefeatures" TargetMode="External"/><Relationship Id="rId35" Type="http://schemas.openxmlformats.org/officeDocument/2006/relationships/hyperlink" Target="http://www.rpbourret.com/xml/XMLAndDatabases.htm#nativecollection" TargetMode="External"/><Relationship Id="rId3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xist-db.org/" TargetMode="External"/><Relationship Id="rId2" Type="http://schemas.openxmlformats.org/officeDocument/2006/relationships/hyperlink" Target="http://exist-db.org/" TargetMode="External"/><Relationship Id="rId3" Type="http://schemas.openxmlformats.org/officeDocument/2006/relationships/hyperlink" Target="http://demo.exist-db.org/exist/sandbox/sandbox.xql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XQuery XML Datab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7164360" y="6342120"/>
            <a:ext cx="19591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imes New Roman"/>
              </a:rPr>
              <a:t>Roger L. Cost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imes New Roman"/>
              </a:rPr>
              <a:t>16 June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13005" r="25001" b="1668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ing eX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your C: folder create a new folder, eXis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C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eX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XQuery folder is a subfolder, eXist-exe-file. Open it. Double click on the .exe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cond prompt will ask: Select the installation path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: C:\eX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password for user ‘admin’ enter: ad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se packs to install: Core, Javadocs (we don’t need Sour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eX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it’s finished installing, start the databa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 Program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ist XML Databas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ist Database Startu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lternatively, double click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up.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c:\eXist\b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ze the DOS window that is generated by starting the database (don’t close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a browser and enter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ocalhost:8080/exist/index.x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the Admin page. The link to it is on the left side. You need to scroll down to see the link. Remember the password is: ad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onfigure an eXist datasource in Oxyg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Oxygen. Go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tions -&gt; Preferences -&gt; Data Sour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In the Data Sources panel click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his name for this data source: eXist-DB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the driver type combo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 the Add button and add the following eXist specific files. They are located in the eXist installation root directory (c:\eXist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.j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/core/xmldb.j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/core/xmlrpc-client-3.1.1.j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/core/xmlrpc-common-3.1.1.j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/core/ws-commons-util-1.0.2.j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finish the data source 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onfigure an eXist connection in Oxyg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160020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Oxygen. Go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tions -&gt; Preferences -&gt; Data Sour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In the Connections panel click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his name for this connection: eXist-Connection Select eXist-DB from the Data Source combo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 in the Connection Detai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DB URI: use this value: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mldb:exist://localhost:8080/exist/xmlr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: use this valu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word: use this valu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ion: use this valu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finish the connection 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ist Coll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 organizes all documents in hierarchical collec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s are like directories. They are used to group related documents toge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last slide you set the default collection name to /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a new Collec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the Data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on Oxygen's Database Perspective: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sp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-click on db, and select Add a collec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0" r="31499" b="65953"/>
          <a:stretch/>
        </p:blipFill>
        <p:spPr>
          <a:xfrm>
            <a:off x="452520" y="3365640"/>
            <a:ext cx="835164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a new Collec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the Data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in example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0" t="0" r="35989" b="61217"/>
          <a:stretch/>
        </p:blipFill>
        <p:spPr>
          <a:xfrm>
            <a:off x="360360" y="2359080"/>
            <a:ext cx="780408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t a Resource (XML File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o the Col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-click on example01, and select Add Resourc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0" t="0" r="32644" b="61313"/>
          <a:stretch/>
        </p:blipFill>
        <p:spPr>
          <a:xfrm>
            <a:off x="498600" y="2874960"/>
            <a:ext cx="821196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t a Resource (XML File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o the Col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FitnessCenter.xml in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query/eXist-examples/example01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0" t="0" r="36356" b="60338"/>
          <a:stretch/>
        </p:blipFill>
        <p:spPr>
          <a:xfrm>
            <a:off x="493560" y="2811600"/>
            <a:ext cx="775980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Query 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Query is an XML query langua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used to efficiently and easily extract information from Native XML Databases (NX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used to query XML views of relational da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iting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clicking on FitnessCenter.xml allows you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and edit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0" t="0" r="30976" b="61656"/>
          <a:stretch/>
        </p:blipFill>
        <p:spPr>
          <a:xfrm>
            <a:off x="490680" y="2768760"/>
            <a:ext cx="8415360" cy="3740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flipH="1">
            <a:off x="2125800" y="2021040"/>
            <a:ext cx="1931760" cy="276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 an XQuery on the X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and drop FitnessCenter.xq into Oxygen. Modify the XQuery to use the doc() function (i.e., use an explicit inpu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0" t="0" r="28322" b="62162"/>
          <a:stretch/>
        </p:blipFill>
        <p:spPr>
          <a:xfrm>
            <a:off x="152280" y="3166920"/>
            <a:ext cx="8739360" cy="3691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087800" y="5326200"/>
            <a:ext cx="2108160" cy="581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56280" y="4162320"/>
            <a:ext cx="1322280" cy="366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21360" y="1967040"/>
            <a:ext cx="47772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65520" y="2344680"/>
            <a:ext cx="576360" cy="307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y the Transfor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55920"/>
            <a:ext cx="8229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wrench icon then click on the edit butt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26746" b="55665"/>
          <a:stretch/>
        </p:blipFill>
        <p:spPr>
          <a:xfrm>
            <a:off x="66600" y="2486160"/>
            <a:ext cx="8931240" cy="4324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056040" y="1941480"/>
            <a:ext cx="3074760" cy="12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878440" y="1959120"/>
            <a:ext cx="1098720" cy="458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y the Transfor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eXist-Connection in the Transform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-down bo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25054" b="54314"/>
          <a:stretch/>
        </p:blipFill>
        <p:spPr>
          <a:xfrm>
            <a:off x="0" y="2401920"/>
            <a:ext cx="9137520" cy="4456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773680" y="1994040"/>
            <a:ext cx="244440" cy="46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cute the XQu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red triang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0" r="27891" b="56691"/>
          <a:stretch/>
        </p:blipFill>
        <p:spPr>
          <a:xfrm>
            <a:off x="174600" y="2368440"/>
            <a:ext cx="8791560" cy="4224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032360" y="1986120"/>
            <a:ext cx="202860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w the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25001" b="44745"/>
          <a:stretch/>
        </p:blipFill>
        <p:spPr>
          <a:xfrm>
            <a:off x="0" y="1332000"/>
            <a:ext cx="9144000" cy="5389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H="1">
            <a:off x="2052720" y="1165320"/>
            <a:ext cx="342432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 to Restart eX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that you shut down your computer for the day. Tomorrow you Open Oxygen and try to run an XQuery on FitnessCenter.xml in the eXist databa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get an error.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 you need to restart eXi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open Oxy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 Program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ist XML Databas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ist Database Startu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lternatively, double click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up.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c:\eXist\b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Query Update in eX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 supports XQuery update in a slightly non-standard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st precede each update operation with update, e.g.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06520" y="3743280"/>
            <a:ext cx="62215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$i in doc('FitnessCenter.xml')//(*|@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name node $i as lower-case(name($i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7986600" y="5873760"/>
            <a:ext cx="954360" cy="733320"/>
          </a:xfrm>
          <a:prstGeom prst="cloudCallout">
            <a:avLst>
              <a:gd name="adj1" fmla="val -51333"/>
              <a:gd name="adj2" fmla="val 7381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8128800" y="607392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base System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pporting XQu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database systems offer XQuery suppor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tive XML Databas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keley DB X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AG Tam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ning Data Tiger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um xDb (X-Hive/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lational Databas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D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SQL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XML Database (NXD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ve XML databases have an XML-based internal model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.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ir fundamental unit of storage is XM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able Oxygen XML to use a database, you need to download the database's .jar files and then point Oxygen to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nstructions on configuring each database, select the Oxygen Help menu and search for this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ative XML Database (NXD) Sup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Cases for Native XML Data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240" y="1128240"/>
            <a:ext cx="3315240" cy="57283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1.0 Got XML?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2.0 A very quick review of native XML databases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3.0 Storing and querying document-centric XML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3.1 Documents in the real world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3.2 Inside the applications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3.2.1 Managing documents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3.2.2 Finding documents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3.2.3 Retrieving information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3.2.4 Reusing content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3.3 Why you need a native XML database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3.4 A peek into the future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4.0 Data integration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4.1 Data integration in the real world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4.2 Inside the applications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4.2.1 Query architectures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4.2.2 Handling differences in schemas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4.3 Why you need a native XML database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4.4 A peek into the future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5.0 Working with semi-structured data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5.1 Semi-structured data in the real world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5.2 Inside the applications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5.3 Why you need a native XML database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5.4 A peek into the future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6.0 Schema evolution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6.1 Schema evolution in the real world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6.2 Inside the applications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6.3 Why you need a native XML database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6.4 A peek into the future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7.0 Long-running transactions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8.0 Handling large documents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9.0 Hierarchical data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10.0 Other uses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11.0 A final peek into the future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12.0 Conclusion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13.0 Thanks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14.0 Resources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76880" y="6308640"/>
            <a:ext cx="372420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rpbourret.com/xml/UseCase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820440"/>
            <a:ext cx="318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ML and Datab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47280" y="196560"/>
            <a:ext cx="4744800" cy="6489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1.0 Introduc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2.0 Is XML a Database?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3.0 Why Use a Database?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4.0 Data versus Documen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4.1 Data-Centric Documen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4.2 Document-Centric Documen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4.3 Data, Documents, and Databas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5.0 Storing and Retrieving Dat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5.1 Mapping Document Schemas to Database Schema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5.1.1 Table-Based Mappi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5.1.2 Object-Relational Mappi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5.2 Query Languag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5.2.1 Template-Based Query Languag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5.2.2 SQL-Based Query Languag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5.2.3 XML Query Languag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5.3 Storing Data in a Native XML Databas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5.4 Data Types, Null Values, Character Sets, and All That Stuff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5.4.1 Data Typ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5.4.2 Binary Dat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5.4.3 Null Dat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5.4.4 Character Se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5.4.5 Processing Instructions and Commen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5.4.6 Storing Markup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5.5 Generating XML Schemas from Relational Schemas and Vice Vers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6.0 Storing and Retrieving Documen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6.1 Storing Documents in the File Syste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6.2 Storing Documents in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BLOB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6.3 Native XML Databas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6.3.1 What is a Native XML Database?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6.3.2 Native XML Database Archite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6.3.2.1 Text-Based Native XML Databas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6.3.2.2 Model-Based Native XML Databas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6.3.3 Features of Native XML Databas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6.3.3.1 Document Collectio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.3.2 Query Langua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.3.3 Updates and Delet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.3.4 Transactions, Locking, and Concurren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.3.5 Application Programming Interfaces (APIs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.3.6 Round-Tripp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.3.7 Remote Dat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.3.8 Index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9680" y="6121440"/>
            <a:ext cx="443736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rpbourret.com/xml/XMLAndDatabase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Mail -- An email search site built on XQu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27120" y="3119400"/>
            <a:ext cx="2792880" cy="459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markmail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25001" b="2968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 native XML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open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info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xist-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b.o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to see some sample XQueries run against an eXist database?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out the eXist sandbox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demo.exist-db.org/exist/sandbox/sandbox.xq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drop-down box labeled "Paste example" select "Find books by author". Examine the XQuery then press the Send but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3:05:11Z</dcterms:created>
  <dc:creator>Roger L. Costello</dc:creator>
  <dc:description>Copyright 2009. The MITRE Corporation. All Rights Reserved.</dc:description>
  <cp:keywords>XQuery Database XML XML Database XQuery Update</cp:keywords>
  <dc:language>en-US</dc:language>
  <cp:lastModifiedBy>User</cp:lastModifiedBy>
  <dcterms:modified xsi:type="dcterms:W3CDTF">2010-06-16T22:30:09Z</dcterms:modified>
  <cp:revision>63</cp:revision>
  <dc:subject/>
  <dc:title>Querying XML Databases</dc:title>
</cp:coreProperties>
</file>