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5CD-31FC-446E-9CD0-6682298DE169}" type="slidenum">
              <a:rPr b="0" lang="en-US" sz="1200" spc="-1" strike="noStrike">
                <a:solidFill>
                  <a:srgbClr val="91919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example.org/" TargetMode="External"/><Relationship Id="rId2" Type="http://schemas.openxmlformats.org/officeDocument/2006/relationships/hyperlink" Target="http://www.example.org/" TargetMode="External"/><Relationship Id="rId3" Type="http://schemas.openxmlformats.org/officeDocument/2006/relationships/hyperlink" Target="http://www.example.org/" TargetMode="Externa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7164360" y="6342120"/>
            <a:ext cx="1959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Times New Roman"/>
              </a:rPr>
              <a:t>Roger L. Cost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Times New Roman"/>
              </a:rPr>
              <a:t>16 Jun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XQuery Update</a:t>
            </a:r>
            <a:br>
              <a:rPr sz="16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w3.org/TR/xquery-update-10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Oxyge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wrench icon, Select Transformation Scenario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itle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the value of &lt;Name&gt; with concat('Mr. '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327640" y="2625840"/>
            <a:ext cx="297648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562040" y="2090880"/>
            <a:ext cx="600084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value of node $i/Nam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at('Mr. ', data($i/Na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564012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813204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change to the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far, all the update primitives change the XML document. They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ing Expres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does not. It operates on a copy of the nodes in the XML document and updates that copy. Transform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Updating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updated copy is then displayed on, say, your DOS window. This is useful for seeing what your updates would do, without committing yourself to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1164240" y="2743200"/>
            <a:ext cx="672156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var1 := node1, $var2 := node2, $var3 := nod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-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the value of &lt;Name&gt; with concat('Mr. '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327640" y="2625840"/>
            <a:ext cx="297648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r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Straight Arrow Connector 5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619280" y="425520"/>
            <a:ext cx="5829120" cy="302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$n := $i/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value of node $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at('Mr. ', data($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$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5861" t="50671" r="27347" b="14003"/>
          <a:stretch/>
        </p:blipFill>
        <p:spPr>
          <a:xfrm>
            <a:off x="1276200" y="4381560"/>
            <a:ext cx="6515280" cy="201924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4"/>
          <p:cNvCxnSpPr/>
          <p:nvPr/>
        </p:nvCxnSpPr>
        <p:spPr>
          <a:xfrm flipH="1">
            <a:off x="4304520" y="363816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2819520" y="3790800"/>
            <a:ext cx="4057560" cy="80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2305080" y="1892160"/>
            <a:ext cx="58291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$n := $i/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value of node $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at('Mr. ', data($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$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Straight Arrow Connector 3"/>
          <p:cNvCxnSpPr/>
          <p:nvPr/>
        </p:nvCxnSpPr>
        <p:spPr>
          <a:xfrm>
            <a:off x="1866960" y="3257640"/>
            <a:ext cx="7052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8" name="TextBox 4"/>
          <p:cNvSpPr/>
          <p:nvPr/>
        </p:nvSpPr>
        <p:spPr>
          <a:xfrm>
            <a:off x="152280" y="302904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copy of som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V="1">
            <a:off x="4531320" y="4649400"/>
            <a:ext cx="3960" cy="74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0" name="TextBox 8"/>
          <p:cNvSpPr/>
          <p:nvPr/>
        </p:nvSpPr>
        <p:spPr>
          <a:xfrm>
            <a:off x="4324320" y="5391000"/>
            <a:ext cx="455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pdate primitives in here can only operate on the copied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4012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813204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28151" b="29687"/>
          <a:stretch/>
        </p:blipFill>
        <p:spPr>
          <a:xfrm>
            <a:off x="0" y="0"/>
            <a:ext cx="87598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6689520" y="5160600"/>
            <a:ext cx="950760" cy="56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6240" y="546084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Oxyge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associate the .xu file extension to the XQuery editor. Go to Options &gt; Preferences &gt; File Types and add a new association there with xu as the extension and XQuery Editor as the editor.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0560" y="57240"/>
            <a:ext cx="7562880" cy="674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3603600" y="4392360"/>
            <a:ext cx="690480" cy="99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2240" y="5218200"/>
            <a:ext cx="39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he xu file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XQuery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up your XML fil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 XML doesn't create a backup of your XML files (in their next release they wil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fore executing an update, backup your XML fi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ename element/attribute nam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43180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Query.ppt you saw how to transform all element and attribute names to low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605840" y="41083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next sli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20600" y="660240"/>
            <a:ext cx="334980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607000" y="660240"/>
            <a:ext cx="338760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Straight Arrow Connector 5"/>
          <p:cNvCxnSpPr/>
          <p:nvPr/>
        </p:nvCxnSpPr>
        <p:spPr>
          <a:xfrm flipV="1">
            <a:off x="3508200" y="1773000"/>
            <a:ext cx="578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 Box 3"/>
          <p:cNvSpPr/>
          <p:nvPr/>
        </p:nvSpPr>
        <p:spPr>
          <a:xfrm>
            <a:off x="4121640" y="1542960"/>
            <a:ext cx="77220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14"/>
          <p:cNvCxnSpPr/>
          <p:nvPr/>
        </p:nvCxnSpPr>
        <p:spPr>
          <a:xfrm flipV="1">
            <a:off x="4986000" y="1775520"/>
            <a:ext cx="5785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Rectangle 15"/>
          <p:cNvSpPr/>
          <p:nvPr/>
        </p:nvSpPr>
        <p:spPr>
          <a:xfrm>
            <a:off x="2286000" y="3613320"/>
            <a:ext cx="4572000" cy="313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e namespace ex = "http://www.example.org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e function ex:identity-plus-lcase ($seq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$i in $seq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($i[self::*]) 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ment {lower-case(name($i))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$j in $i/@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 {lower-case(name($j))} {data($j)}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:identity-plus-lcase($i/child::node(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xt {$i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:identity-plus-lcase(doc('FitnessCenter.xml')/root()/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Straight Arrow Connector 19"/>
          <p:cNvCxnSpPr/>
          <p:nvPr/>
        </p:nvCxnSpPr>
        <p:spPr>
          <a:xfrm flipH="1" flipV="1">
            <a:off x="4552200" y="2015280"/>
            <a:ext cx="1080" cy="159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the probl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XQuer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0720"/>
            <a:ext cx="777240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is solved much more easily with XQuery Up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visit each element and attribute in the tree and rename it to low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1920" y="434808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next sli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20600" y="660240"/>
            <a:ext cx="334980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V="1">
            <a:off x="3507840" y="1773000"/>
            <a:ext cx="1343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 Box 3"/>
          <p:cNvSpPr/>
          <p:nvPr/>
        </p:nvSpPr>
        <p:spPr>
          <a:xfrm>
            <a:off x="4903920" y="1542960"/>
            <a:ext cx="11728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38560" y="3949560"/>
            <a:ext cx="53640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(*|@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 flipH="1" flipV="1">
            <a:off x="5504760" y="2294640"/>
            <a:ext cx="1080" cy="159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3499560" y="1977120"/>
            <a:ext cx="134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3"/>
          <p:cNvSpPr/>
          <p:nvPr/>
        </p:nvSpPr>
        <p:spPr>
          <a:xfrm>
            <a:off x="3845880" y="1996920"/>
            <a:ext cx="76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ntent Placeholder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utorial assumes that you kno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63600" y="2828880"/>
            <a:ext cx="53658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(*|@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629160" y="186696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each element and attribut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205520" y="2264400"/>
            <a:ext cx="200160" cy="662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16920 h 662040"/>
              <a:gd name="textAreaBottom" fmla="*/ 64512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63600" y="2828880"/>
            <a:ext cx="536580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(*|@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91040" y="4533840"/>
            <a:ext cx="51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the node to the same name, but lowe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143160" y="1828440"/>
            <a:ext cx="452520" cy="4049640"/>
          </a:xfrm>
          <a:custGeom>
            <a:avLst/>
            <a:gdLst>
              <a:gd name="textAreaLeft" fmla="*/ 289080 w 452520"/>
              <a:gd name="textAreaRight" fmla="*/ 452880 w 452520"/>
              <a:gd name="textAreaTop" fmla="*/ 105480 h 4049640"/>
              <a:gd name="textAreaBottom" fmla="*/ 3944160 h 40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e o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next slide I show how to rename all the elements and attributes in two XML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130400" y="6602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913360" y="1542960"/>
            <a:ext cx="11728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676840" y="3949560"/>
            <a:ext cx="1714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Straight Arrow Connector 9"/>
          <p:cNvCxnSpPr/>
          <p:nvPr/>
        </p:nvCxnSpPr>
        <p:spPr>
          <a:xfrm flipH="1" flipV="1">
            <a:off x="6514560" y="2294640"/>
            <a:ext cx="1080" cy="159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/>
          <p:nvPr/>
        </p:nvCxnSpPr>
        <p:spPr>
          <a:xfrm flipH="1">
            <a:off x="4509360" y="1900800"/>
            <a:ext cx="134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13"/>
          <p:cNvSpPr/>
          <p:nvPr/>
        </p:nvSpPr>
        <p:spPr>
          <a:xfrm>
            <a:off x="4855680" y="1920960"/>
            <a:ext cx="761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522080" y="289548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nessCenter1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130400" y="346068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1522080" y="56959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nessCenter2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Straight Arrow Connector 15"/>
          <p:cNvCxnSpPr/>
          <p:nvPr/>
        </p:nvCxnSpPr>
        <p:spPr>
          <a:xfrm flipH="1">
            <a:off x="4495320" y="2305080"/>
            <a:ext cx="1391040" cy="144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7503120" y="65800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1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28600" y="2325600"/>
            <a:ext cx="86486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('FitnessCenter1.xml')//(*|@*) | doc('FitnessCenter2.xml')//(*|@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all the XML fi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f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Path 2.0 doc() function is used to select on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Path 2.0 collection() function is used to select a bunch of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's how to select all *.xml files in a subfolder called "dir"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933480" y="5527800"/>
            <a:ext cx="7791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('dir?select=*.xml;recurse=yes;on-error=ignore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e all the elements and attributes in all *.xml files in the subfolder "files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" y="3016080"/>
            <a:ext cx="82105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collection('dir?select=*.xml;recurse=yes;on-error=ignore')//(*|@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02400" y="65800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1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AX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vious slide is the correct way to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t won't work in SAXON 9.2.0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XON has a b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x the bug, append onto collection(…) this: /doc(document-uri(.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33520" y="5905440"/>
            <a:ext cx="811512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$i in collection('dir?select=*.xml;recurse=yes;on-error=ignore'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doc(document-uri(.)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(*|@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name node $i as lower-case(name($i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Confl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26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you rename a node to lower-case. Then you rename the same node to upper-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be the result? Answer: you will get an "update conflict" err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93880" y="46497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date conflict: two attempts to rename the same &lt;FitnessCenter&gt; element()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503120" y="65800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1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e nod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ame-ex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identify a single element or attribute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-ex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yield a value of type xsd:Q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vs XQuer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XQu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ables you to select nodes from XML documents, and then output new documents containing the nod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XM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Que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w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ely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XQuery 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ables you to change an XML document, in-pla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XML    XQuery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Straight Arrow Connector 4"/>
          <p:cNvCxnSpPr/>
          <p:nvPr/>
        </p:nvCxnSpPr>
        <p:spPr>
          <a:xfrm flipV="1">
            <a:off x="2444760" y="5223600"/>
            <a:ext cx="317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Straight Arrow Connector 8"/>
          <p:cNvCxnSpPr/>
          <p:nvPr/>
        </p:nvCxnSpPr>
        <p:spPr>
          <a:xfrm flipH="1" flipV="1">
            <a:off x="2440800" y="5373360"/>
            <a:ext cx="321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 re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each node in FitnessCenter.xml is in no namespace. That is, the namespace URI for each node is "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each node to  have the same local name, but the namespace URI is http://www.gy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770040" y="5923080"/>
            <a:ext cx="1698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169520" y="5938920"/>
            <a:ext cx="4591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itnessCenter xmlns="http://www.gym.com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Straight Arrow Connector 6"/>
          <p:cNvCxnSpPr/>
          <p:nvPr/>
        </p:nvCxnSpPr>
        <p:spPr>
          <a:xfrm flipV="1">
            <a:off x="2633400" y="6112800"/>
            <a:ext cx="139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TextBox 7"/>
          <p:cNvSpPr/>
          <p:nvPr/>
        </p:nvSpPr>
        <p:spPr>
          <a:xfrm>
            <a:off x="2935440" y="5759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's how to do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640" y="2644920"/>
            <a:ext cx="8006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QName('http://www.gym.com', local-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Name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efix:local-na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QName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ocal-na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07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XPath 2.0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turn a value of type xsd:Q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43000" y="3441600"/>
            <a:ext cx="86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ame('http://www.gym.com', 'FitnessCenter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FitnessCenter in the gym namespace, with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Name('http://www.gym.com', 'gym:FitnessCenter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gym:FitnessCenter, where the prefi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to the gym 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503120" y="65800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2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85640" y="2644920"/>
            <a:ext cx="8006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QName('http://www.gym.com', local-name($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395520" y="4365720"/>
            <a:ext cx="51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the node to the same name, but in the gym 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653720" y="275040"/>
            <a:ext cx="452520" cy="6775560"/>
          </a:xfrm>
          <a:custGeom>
            <a:avLst/>
            <a:gdLst>
              <a:gd name="textAreaLeft" fmla="*/ 289080 w 452520"/>
              <a:gd name="textAreaRight" fmla="*/ 452880 w 452520"/>
              <a:gd name="textAreaTop" fmla="*/ 176400 h 6775560"/>
              <a:gd name="textAreaBottom" fmla="*/ 6599160 h 677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't do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85640" y="2644920"/>
            <a:ext cx="8006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doc('FitnessCenter.xml')/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rename node $i as QName('http://www.gym.com'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($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260720" y="3936960"/>
            <a:ext cx="67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's the error message you will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 name conflicts with existing namespace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6400" y="1925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() function returns both the namespace URI and the local name. (It just so happens the namespace URI is "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argument of the QName() function cannot contain a namespace URI, only local name or a prefix + local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ame the Level attribute to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501920" y="2625840"/>
            <a:ext cx="5738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doc('FitnessCenter.xml')//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rename node $i/@Level as 'level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e FitnessCenter to HealthCl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04840" y="2903400"/>
            <a:ext cx="8715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node doc('FitnessCenter.xml')/FitnessCenter as 'HealthClu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6192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12880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all Level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530360" y="2679840"/>
            <a:ext cx="61214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doc('FitnessCenter.xml')//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delete node $i/@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node inside, before, or after a specified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node by another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n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77800" y="2793960"/>
            <a:ext cx="6120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delete nodes doc('FitnessCenter.xml')//@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nod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od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no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ode-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239076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ant to delete one node, u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delet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ant to delete multiple nodes, u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delet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2808360" y="1593720"/>
            <a:ext cx="3984480" cy="307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239760" y="36766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his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49400" y="5403960"/>
            <a:ext cx="8864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ode doc('FitnessCenter.xml')//Member[child::Name eq 'Roger'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59120" y="3622680"/>
            <a:ext cx="174600" cy="731880"/>
          </a:xfrm>
          <a:custGeom>
            <a:avLst/>
            <a:gdLst>
              <a:gd name="textAreaLeft" fmla="*/ 111600 w 174600"/>
              <a:gd name="textAreaRight" fmla="*/ 174960 w 17460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808360" y="1593720"/>
            <a:ext cx="3984480" cy="307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g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558000" y="36385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his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9400" y="5403960"/>
            <a:ext cx="88642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node doc('FitnessCenter.xml')//Member[child::Name eq 'Roger']/Name/tex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750204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Straight Arrow Connector 7"/>
          <p:cNvCxnSpPr/>
          <p:nvPr/>
        </p:nvCxnSpPr>
        <p:spPr>
          <a:xfrm flipV="1">
            <a:off x="2518920" y="3899880"/>
            <a:ext cx="1307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you can de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slides showed how you can delet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no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no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120600" y="660240"/>
            <a:ext cx="334980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Straight Arrow Connector 5"/>
          <p:cNvCxnSpPr/>
          <p:nvPr/>
        </p:nvCxnSpPr>
        <p:spPr>
          <a:xfrm flipV="1">
            <a:off x="3507840" y="1773000"/>
            <a:ext cx="1343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 Box 3"/>
          <p:cNvSpPr/>
          <p:nvPr/>
        </p:nvSpPr>
        <p:spPr>
          <a:xfrm>
            <a:off x="4903920" y="1542960"/>
            <a:ext cx="11728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231920" y="3949560"/>
            <a:ext cx="776268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1 to count($source//M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node attribute {'id'} {$i} into $source//Member[$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Straight Arrow Connector 9"/>
          <p:cNvCxnSpPr/>
          <p:nvPr/>
        </p:nvCxnSpPr>
        <p:spPr>
          <a:xfrm flipH="1" flipV="1">
            <a:off x="5504760" y="2294640"/>
            <a:ext cx="1080" cy="159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2"/>
          <p:cNvCxnSpPr/>
          <p:nvPr/>
        </p:nvCxnSpPr>
        <p:spPr>
          <a:xfrm flipH="1">
            <a:off x="3499560" y="1977120"/>
            <a:ext cx="134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TextBox 13"/>
          <p:cNvSpPr/>
          <p:nvPr/>
        </p:nvSpPr>
        <p:spPr>
          <a:xfrm>
            <a:off x="3730680" y="1996920"/>
            <a:ext cx="98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sert @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sert @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sert @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926120" y="6580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an attribute into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06600" y="226548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27640" y="2268360"/>
            <a:ext cx="297648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 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="1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 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="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Straight Arrow Connector 7"/>
          <p:cNvCxnSpPr/>
          <p:nvPr/>
        </p:nvCxnSpPr>
        <p:spPr>
          <a:xfrm>
            <a:off x="4049280" y="3359160"/>
            <a:ext cx="1175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13204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s to in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two slides showed how to insert an attribute into an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insert an element A into an element B at different pl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ill become the first child of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will become the last child of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ill become the first preceding sibling of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ill become the first following sibling of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nod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lative pos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487240" y="2463840"/>
            <a:ext cx="375768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firs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las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960" y="2849400"/>
            <a:ext cx="13680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682720" y="2627280"/>
            <a:ext cx="995400" cy="128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379600" y="39434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nessCenter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754520" y="4467240"/>
            <a:ext cx="995400" cy="12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449960" y="57834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nessCenter.x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5280120" y="3693960"/>
            <a:ext cx="0" cy="77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3664080" y="3124080"/>
            <a:ext cx="100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3"/>
          <p:cNvCxnSpPr/>
          <p:nvPr/>
        </p:nvCxnSpPr>
        <p:spPr>
          <a:xfrm flipH="1">
            <a:off x="3676320" y="3358080"/>
            <a:ext cx="989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14"/>
          <p:cNvSpPr/>
          <p:nvPr/>
        </p:nvSpPr>
        <p:spPr>
          <a:xfrm>
            <a:off x="3861720" y="33210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837600" y="279072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&lt;id&gt; as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 of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27640" y="2641680"/>
            <a:ext cx="297648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1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2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3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5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Rectangle 6"/>
          <p:cNvSpPr/>
          <p:nvPr/>
        </p:nvSpPr>
        <p:spPr>
          <a:xfrm>
            <a:off x="839880" y="5549760"/>
            <a:ext cx="74088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$i in 1 to count($source//Me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 node element {'id'} {$i} as first into $source//Member[$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784640" y="577224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&lt;id&gt; as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 of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327640" y="2641680"/>
            <a:ext cx="297648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1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2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id&gt;3&lt;/i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Rectangle 5"/>
          <p:cNvSpPr/>
          <p:nvPr/>
        </p:nvSpPr>
        <p:spPr>
          <a:xfrm>
            <a:off x="839880" y="5549760"/>
            <a:ext cx="74088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$i in 1 to count($source//Me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 node element {'id'} {$i} as last into $source//Member[$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7784640" y="577224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&lt;Location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mber[1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327640" y="2641680"/>
            <a:ext cx="2976480" cy="29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Street&gt;201 Boylston St.&lt;/Stree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City&gt;Boston&lt;/Cit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1978200" y="2583000"/>
            <a:ext cx="5057640" cy="25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inser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reet&gt;201 Boylston St.&lt;/Str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ity&gt;Boston&lt;/C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$source//Member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7784640" y="633096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&lt;Location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mber[1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"return"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239920" y="2097000"/>
            <a:ext cx="4646520" cy="25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er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reet&gt;201 Boylston St.&lt;/Str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ity&gt;Boston&lt;/C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$source//Member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Arrow Connector 4"/>
          <p:cNvCxnSpPr/>
          <p:nvPr/>
        </p:nvCxnSpPr>
        <p:spPr>
          <a:xfrm flipV="1">
            <a:off x="1679400" y="3021840"/>
            <a:ext cx="766080" cy="84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Box 5"/>
          <p:cNvSpPr/>
          <p:nvPr/>
        </p:nvSpPr>
        <p:spPr>
          <a:xfrm>
            <a:off x="1194480" y="38815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's wh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requi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141560" y="2413080"/>
            <a:ext cx="69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how FLWOR is def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?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?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Straight Arrow Connector 4"/>
          <p:cNvCxnSpPr/>
          <p:nvPr/>
        </p:nvCxnSpPr>
        <p:spPr>
          <a:xfrm flipV="1">
            <a:off x="3899520" y="3190320"/>
            <a:ext cx="1080" cy="61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TextBox 5"/>
          <p:cNvSpPr/>
          <p:nvPr/>
        </p:nvSpPr>
        <p:spPr>
          <a:xfrm>
            <a:off x="3303360" y="38815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Straight Arrow Connector 6"/>
          <p:cNvCxnSpPr/>
          <p:nvPr/>
        </p:nvCxnSpPr>
        <p:spPr>
          <a:xfrm flipV="1">
            <a:off x="5469480" y="3193200"/>
            <a:ext cx="1080" cy="61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7"/>
          <p:cNvSpPr/>
          <p:nvPr/>
        </p:nvSpPr>
        <p:spPr>
          <a:xfrm>
            <a:off x="4873320" y="38847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9"/>
          <p:cNvCxnSpPr/>
          <p:nvPr/>
        </p:nvCxnSpPr>
        <p:spPr>
          <a:xfrm flipH="1" flipV="1">
            <a:off x="7090560" y="3190320"/>
            <a:ext cx="1080" cy="149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TextBox 10"/>
          <p:cNvSpPr/>
          <p:nvPr/>
        </p:nvSpPr>
        <p:spPr>
          <a:xfrm>
            <a:off x="6494400" y="4702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Straight Arrow Connector 11"/>
          <p:cNvCxnSpPr/>
          <p:nvPr/>
        </p:nvCxnSpPr>
        <p:spPr>
          <a:xfrm flipH="1" flipV="1">
            <a:off x="2502720" y="3174480"/>
            <a:ext cx="1080" cy="149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2"/>
          <p:cNvSpPr/>
          <p:nvPr/>
        </p:nvSpPr>
        <p:spPr>
          <a:xfrm>
            <a:off x="1046520" y="46864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you use "le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itle 3"/>
          <p:cNvSpPr/>
          <p:nvPr/>
        </p:nvSpPr>
        <p:spPr>
          <a:xfrm>
            <a:off x="685800" y="403200"/>
            <a:ext cx="80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&lt;Number-of-Members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f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last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06600" y="217188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327640" y="2174760"/>
            <a:ext cx="3181320" cy="23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-of-Members&gt;3&lt;/Number-of-Member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Straight Arrow Connector 5"/>
          <p:cNvCxnSpPr/>
          <p:nvPr/>
        </p:nvCxnSpPr>
        <p:spPr>
          <a:xfrm>
            <a:off x="4049280" y="3265560"/>
            <a:ext cx="1175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Rectangle 7"/>
          <p:cNvSpPr/>
          <p:nvPr/>
        </p:nvSpPr>
        <p:spPr>
          <a:xfrm>
            <a:off x="615960" y="4803840"/>
            <a:ext cx="77817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inser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-of-Members&gt;{count($source//Member)}&lt;/Number-of-Member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$source//Member[last(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7784640" y="500688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no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i.e., sequ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440" y="1980720"/>
            <a:ext cx="7954920" cy="21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far we inserted just one node. We used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insert nod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insert multiple nodes. Us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insert node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239200" y="4311720"/>
            <a:ext cx="3864240" cy="22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no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Y, 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firs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no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Y, 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las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no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Y, 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no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Y, Z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d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Member[1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27640" y="2641680"/>
            <a:ext cx="297648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Street&gt;201 Boylston St.&lt;/Stree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City&gt;Boston&lt;/Cit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Straight Arrow Connector 6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670040" y="1668600"/>
            <a:ext cx="5719680" cy="375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reet&gt;201 Boylston St.&lt;/Street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ity&gt;Boston&lt;/City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$source//Member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787824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Update Processor: SAX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9760" cy="31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XON is an XSLT processor, an XQuery processor, and an XQuery Update pro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reated a DOS batch file to enable you to invoke the SAXON XQuery Update processor.  In the examples folders you will find: run-saxon-1-arg.bat  Here's how to us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28080" y="5659560"/>
            <a:ext cx="428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saxon-1-arg FitnessCenter.x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s always in (…, …, 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214200" y="2340000"/>
            <a:ext cx="5720040" cy="375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reet&gt;201 Boylston St.&lt;/Street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ity&gt;Boston&lt;/City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&gt;MA&lt;/St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$source//Member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424560" y="3835440"/>
            <a:ext cx="242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ut the node sequence in parentheses, and separate each item with a com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3892680"/>
            <a:ext cx="252360" cy="1811160"/>
          </a:xfrm>
          <a:custGeom>
            <a:avLst/>
            <a:gdLst>
              <a:gd name="textAreaLeft" fmla="*/ 0 w 252360"/>
              <a:gd name="textAreaRight" fmla="*/ 91080 w 252360"/>
              <a:gd name="textAreaTop" fmla="*/ 47160 h 1811160"/>
              <a:gd name="textAreaBottom" fmla="*/ 1764000 h 18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2 attributes into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6600" y="226548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327640" y="2268360"/>
            <a:ext cx="331632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1" active="true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2" active="true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3" active="true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Straight Arrow Connector 5"/>
          <p:cNvCxnSpPr/>
          <p:nvPr/>
        </p:nvCxnSpPr>
        <p:spPr>
          <a:xfrm>
            <a:off x="4049280" y="3359160"/>
            <a:ext cx="11754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619280" y="1611360"/>
            <a:ext cx="5753160" cy="375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1 to count($source//Me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{'id'} {$i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{'active'} {'true'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$source//Member[$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787824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 @Level then insert it as the first child of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327640" y="2641680"/>
            <a:ext cx="297648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vel&gt;platinum&lt;/Leve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evel&gt;gold&lt;/Leve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evel&gt;platinum&lt;/Leve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361800" y="1382760"/>
            <a:ext cx="8325000" cy="411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doc('FitnessCenter.xml')//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name := name($i/@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value := data($i/@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ode $i/@Lev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 element {$name} {$value} as first into $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57172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813204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&lt;msg/&gt; with pr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06600" y="2638440"/>
            <a:ext cx="334944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msg/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msg/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msg/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5327640" y="2641680"/>
            <a:ext cx="2976480" cy="26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ks at Hanscom AF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ks in Bedfo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emark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ks in Hawai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Remark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Straight Arrow Connector 12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252360" y="2079720"/>
            <a:ext cx="862344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 node $source//Member[1]/Remark/msg with "Works at Hanscom AFB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 node $source//Member[2]/Remark/msg with "Works in Bedford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 node $source//Member[3]/Remark/msg with "Works in Hawaii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87824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t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&lt;Member&gt; with it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327640" y="3319560"/>
            <a:ext cx="29764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Data&gt;Jeff lightgrey&lt;/MemberDat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Data&gt;David lightblue&lt;/MemberDat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Data&gt;Roger lightyellow&lt;/MemberDat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819000" y="946080"/>
            <a:ext cx="7299360" cy="466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$M1 := $source//Member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$M2 := $source//Member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$M3 := $source//Member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node $M1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{'MemberData'} {normalize-space(data($M1)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node $M2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{'MemberData'} {normalize-space(data($M2)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node $M3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 {'MemberData'} {normalize-space(data($M3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87824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XON fl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772400" cy="31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to set these flags when invoking SAX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update: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ree:link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ckup:on (A backup of the file is made before it is updat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25320" y="5459400"/>
            <a:ext cx="818208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-classpath %CLASSPATH% net.sf.saxon.Quer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update:on -tree:linked -backup: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FitnessCenter.x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24800" y="6161040"/>
            <a:ext cx="68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se flags are already set in run-saxon-1-arg.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@level with @i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@level after &lt;FavoriteColor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606600" y="2638440"/>
            <a:ext cx="334944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5327640" y="2625840"/>
            <a:ext cx="2976480" cy="22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Jeff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evel level="platinum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David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evel level="gold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="Roger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Level level="platinum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971640" y="1420920"/>
            <a:ext cx="7181640" cy="375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de $i/@leve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{'id'} {data($i/Name)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ode $i/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 &lt;Level&gt;{$i/@level}&lt;/Leve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$i/Favorite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878240" y="6435720"/>
            <a:ext cx="111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order is 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971640" y="2030400"/>
            <a:ext cx="7181640" cy="375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ode $i/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de $i/@leve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{'id'} {data($i/Name)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 &lt;Level&gt;{$i/@level}&lt;/Leve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$i/Favorite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879320" y="6435720"/>
            <a:ext cx="1235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9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Straight Arrow Connector 5"/>
          <p:cNvCxnSpPr/>
          <p:nvPr/>
        </p:nvCxnSpPr>
        <p:spPr>
          <a:xfrm flipH="1">
            <a:off x="4361760" y="3371760"/>
            <a:ext cx="1562760" cy="24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9" name="TextBox 6"/>
          <p:cNvSpPr/>
          <p:nvPr/>
        </p:nvSpPr>
        <p:spPr>
          <a:xfrm>
            <a:off x="5901840" y="3143160"/>
            <a:ext cx="312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Name, then 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Straight Arrow Connector 8"/>
          <p:cNvCxnSpPr/>
          <p:nvPr/>
        </p:nvCxnSpPr>
        <p:spPr>
          <a:xfrm flipH="1">
            <a:off x="5962320" y="3581280"/>
            <a:ext cx="2534400" cy="82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an I delete an element and then use its va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1123920" y="2333520"/>
            <a:ext cx="7467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Below is an XQuery Update that first deletes a &lt;Name&gt; element and then replaces @level with the value of &lt;Name&gt;. How can that be? How can I use &lt;Name&gt; after it's been deleted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let $source := doc('FitnessCenter.xml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for $i in $source//Member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delete node $i/Na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replace node $i/@level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attribute {'id'} {data($i/Name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2209680" y="1214280"/>
            <a:ext cx="457200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updates do not apply during execution. Instead the query will just return a pending update list (during its creation the &lt;Name&gt; element is still there) and will then apply all up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209680" y="4059360"/>
            <a:ext cx="457200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 with Updates is a declarative language: "befor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"after" are meaningless -- the updates are applied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mulate Pending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 are applied when execution of the whole expression comple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 are accumulated into a "Pending Update List." At some point at the end of execution, Pending Updates are applied all at once, and the XML file is updated atom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For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600200" y="2476440"/>
            <a:ext cx="586728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$source := doc('FitnessCenter.xml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$i in $source//Member/Name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node &lt;Name&gt;{$i/text()}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$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76280" y="4705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-loop iterates over each &lt;Name&gt; element. Each iteration adds another &lt;Name&gt; element, i.e., it is a self-replicating loop. Will it ever st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7878600" y="6435720"/>
            <a:ext cx="1244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9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op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set of &lt;Name&gt; elements to be inse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the &lt;Name&gt;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tle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each Member's B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ody Mass Inde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6600" y="2638440"/>
            <a:ext cx="3349440" cy="329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09-10-01"&gt;36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09-12-01"&gt;32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10-01-04"&gt;25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27640" y="2625840"/>
            <a:ext cx="2976480" cy="374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09-10-01"&gt;36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09-12-01"&gt;32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gol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10-01-04"&gt;25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ember level="platinu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MI date="2010-01-01"&gt;10&lt;/BMI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MI-Value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Straight Arrow Connector 4"/>
          <p:cNvCxnSpPr/>
          <p:nvPr/>
        </p:nvCxnSpPr>
        <p:spPr>
          <a:xfrm>
            <a:off x="4049280" y="3731760"/>
            <a:ext cx="11754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TextBox 7"/>
          <p:cNvSpPr/>
          <p:nvPr/>
        </p:nvSpPr>
        <p:spPr>
          <a:xfrm>
            <a:off x="4152960" y="3867120"/>
            <a:ext cx="10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d a BMI record for Ro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52600" y="1257480"/>
            <a:ext cx="8076960" cy="405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namespace ex = "http://www.example.org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variable $source := doc('FitnessCenter.xml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&gt;{$BMI}&lt;/BMI-Values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insert-BMI($source//Member[3], &lt;BMI date='2010-01-01'&gt;10&lt;/BMI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7878600" y="6435720"/>
            <a:ext cx="1244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9-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Oxygen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 XML supports XQuery Update (because it is bundled with Saxon-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XQuery up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Options &gt; Preferences (see next sl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552600" y="209520"/>
            <a:ext cx="8076960" cy="405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namespace ex = "http://www.example.org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variable $source := doc('FitnessCenter.xml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&gt;{$BMI}&lt;/BMI-Values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insert-BMI($source//Member[3], &lt;BMI date='2010-01-01'&gt;10&lt;/BMI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2"/>
          <p:cNvSpPr/>
          <p:nvPr/>
        </p:nvSpPr>
        <p:spPr>
          <a:xfrm>
            <a:off x="1257480" y="1333440"/>
            <a:ext cx="1257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Straight Arrow Connector 4"/>
          <p:cNvCxnSpPr/>
          <p:nvPr/>
        </p:nvCxnSpPr>
        <p:spPr>
          <a:xfrm flipH="1" flipV="1">
            <a:off x="1885320" y="1942560"/>
            <a:ext cx="1080" cy="2858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5"/>
          <p:cNvSpPr/>
          <p:nvPr/>
        </p:nvSpPr>
        <p:spPr>
          <a:xfrm>
            <a:off x="1695600" y="485784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dy of a function contain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ing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 function must be declared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you forget to add this, you will get this err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body of a non-updating function must be a non-updating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552600" y="209520"/>
            <a:ext cx="8076960" cy="405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namespace ex = "http://www.example.org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variable $source := doc('FitnessCenter.xml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&gt;{$BMI}&lt;/BMI-Values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insert-BMI($source//Member[3], &lt;BMI date='2010-01-01'&gt;10&lt;/BMI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Straight Arrow Connector 3"/>
          <p:cNvCxnSpPr/>
          <p:nvPr/>
        </p:nvCxnSpPr>
        <p:spPr>
          <a:xfrm flipV="1">
            <a:off x="3808440" y="1733040"/>
            <a:ext cx="2851920" cy="2990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TextBox 4"/>
          <p:cNvSpPr/>
          <p:nvPr/>
        </p:nvSpPr>
        <p:spPr>
          <a:xfrm>
            <a:off x="3398760" y="4722840"/>
            <a:ext cx="57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no return type is specified (e.g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elemen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An updating function returns no value and therefore is not allowed to declare a return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n'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1816200"/>
            <a:ext cx="7981920" cy="405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namespace ex = "http://www.example.org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variable $source := doc('FitnessCenter.xml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 /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insert-BMI($source//Member[3], &lt;BMI date='2010-01-01'&gt;10&lt;/BMI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7879320" y="6435720"/>
            <a:ext cx="1235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 example19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571680" y="1886040"/>
            <a:ext cx="8076960" cy="22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&gt;{$BMI}&lt;/BMI-Values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571680" y="4235400"/>
            <a:ext cx="7981920" cy="22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 /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61" descr="j0397044.gif"/>
          <p:cNvPicPr/>
          <p:nvPr/>
        </p:nvPicPr>
        <p:blipFill>
          <a:blip r:embed="rId1"/>
          <a:stretch/>
        </p:blipFill>
        <p:spPr>
          <a:xfrm>
            <a:off x="7810560" y="200016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0" descr="j0432546.gif"/>
          <p:cNvPicPr/>
          <p:nvPr/>
        </p:nvPicPr>
        <p:blipFill>
          <a:blip r:embed="rId2"/>
          <a:stretch/>
        </p:blipFill>
        <p:spPr>
          <a:xfrm>
            <a:off x="7818480" y="4376880"/>
            <a:ext cx="5778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't Build on Previous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571680" y="2330280"/>
            <a:ext cx="7981920" cy="22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updating function ex:insert-BMI ($person, $B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$person/BMI-Values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&lt;BMI-Values /&gt; as last into $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ode $BMI as last into $person/BMI-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60" descr="j0432546.gif"/>
          <p:cNvPicPr/>
          <p:nvPr/>
        </p:nvPicPr>
        <p:blipFill>
          <a:blip r:embed="rId1"/>
          <a:stretch/>
        </p:blipFill>
        <p:spPr>
          <a:xfrm>
            <a:off x="7818480" y="2471760"/>
            <a:ext cx="577800" cy="577800"/>
          </a:xfrm>
          <a:prstGeom prst="rect">
            <a:avLst/>
          </a:prstGeom>
          <a:ln w="0">
            <a:noFill/>
          </a:ln>
        </p:spPr>
      </p:pic>
      <p:cxnSp>
        <p:nvCxnSpPr>
          <p:cNvPr id="338" name="Straight Arrow Connector 5"/>
          <p:cNvCxnSpPr/>
          <p:nvPr/>
        </p:nvCxnSpPr>
        <p:spPr>
          <a:xfrm flipV="1">
            <a:off x="1160640" y="4230000"/>
            <a:ext cx="3600" cy="724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6"/>
          <p:cNvSpPr/>
          <p:nvPr/>
        </p:nvSpPr>
        <p:spPr>
          <a:xfrm>
            <a:off x="952560" y="495288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sert statement is trying to insert &lt;BMI&gt; af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MI-Values&gt; has been inserted. This is not allowed. The next slides explain w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and XQuery Update are declarative programming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Programming Requires a Different Mind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152280" y="2341440"/>
            <a:ext cx="8782200" cy="325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First, distinguish between imperative and declarative programm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Imperative: specify how to do it; prescrip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Declarative: specify what you want; descrip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Imperative programming is like a recipe: do this first, then that second, and so forth. Statement A must be executed before stateme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In declarative programming "before" and "after" are meaningless. Statements can be executed in any order, even in parall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PMingLiU"/>
              </a:rPr>
              <a:t>Below are two examples that illustrate--in a rather dramatic fashion--the differences between imperative and declarative progra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247680" y="198360"/>
            <a:ext cx="8591400" cy="648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XAMPL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Consider this XML document that contains the name and favorite color of members of a fitness c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itness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Jeff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grey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2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David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blue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3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Roge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yellow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Fitness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Note that each member has an id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 want to change the document so that each member is identified by his name. I want to chang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Jeff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grey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o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Jeff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grey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192240" y="169560"/>
            <a:ext cx="8800920" cy="629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Here's some pseudo code that shows how to accomplish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For each &lt;Member&gt; el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1. replace @id with the value of 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2. delete 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Some key things to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A. In my preamble I said "... pseudo code that shows how to ..." That's pr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B. There is a definite order of actions -- delete &lt;Name&gt; only after extracting its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is is all very imperative. Is declarative programming not useful for this applic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 fact declarative programming is well suited for this application. Let's recast the pseudo-code into the declarative minds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For each &lt;Member&gt; elemen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new document has the id attribute's value re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with what was previously the value of the &lt;Name&gt; elem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&lt;Name&gt; element no longer ex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Here is a key thing to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new pseudo-code is a description of the new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t is not a recipe for what actions to 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us, in declarative programming it would be perfectly fine to "delete &lt;Name&gt;" fir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For each &lt;Member&gt; el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1. delete 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2. replace @id with the value of 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 an imperative mindset, this would be nonsensical -- you cannot delete &lt;Name&gt; and then later use it. In a declarative mindset, it is perfectly fine - you are stating facts about the new document. Order is irrelev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163440" y="106200"/>
            <a:ext cx="8790120" cy="666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XAMPL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Consider this new version of the fitness center, where some members have a record of their Body Mass Index (BM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itness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Jeff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grey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-Valu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 date="2009-10-01"&gt;36&lt;/BM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 date="2009-12-01"&gt;32&lt;/BM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BMI-Valu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2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David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blue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-Valu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 date="2010-01-04"&gt;25&lt;/BM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BMI-Valu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id="3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Roge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yellow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Fitness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Note that each &lt;BMI&gt; element is nested within a &lt;BMI-Values&gt;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 want to insert this &lt;BMI&gt; element into the Roger me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 date='2010-01-01'&gt;10&lt;/BM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imperative approach would be to execute this sequence of a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1. If there is no &lt;BMI-Values&gt; element then add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2. Insert the new &lt;BMI&gt; element into the &lt;BMI-Values&gt;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0560" y="57240"/>
            <a:ext cx="7562880" cy="674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5867280" y="1285920"/>
            <a:ext cx="198720" cy="15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271764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o thi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190440" y="532800"/>
            <a:ext cx="8790120" cy="520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at approach won't work for declarative programming. Express it declaratively and you can see w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 the new document the &lt;Member&gt; will have a &lt;BMI-Valu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lement if it didn't already. The new &lt;BMI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will be nested within the &lt;BMI-Values&gt;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Look at this &lt;Member&gt; el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Member level="platin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Name&gt;Roge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FavoriteColor&gt;lightyellow&lt;/FavoriteCol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/Memb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How can we declare that in the new document the &lt;BMI&gt; element will be nested within the &lt;BMI-Values&gt; element, since there is no &lt;BMI-Values&gt; element? We can'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lesson learned in this second examp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 declarative programming you cannot bui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on top of previous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declarative approach to this examp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The new document has nested within the &lt;Member&gt; elem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new &lt;BMI-Values&gt; element (and nested within it the new &lt;BM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lement), where the &lt;Member&gt; element previously had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&lt;BMI-Values&gt; element. Where the &lt;Member&gt; element did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have a &lt;BMI-Values&gt; element, the new document has nested wi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t the new &lt;BMI&gt; ele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150840" y="356760"/>
            <a:ext cx="8761320" cy="538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XQuery and XQuery Update are declarative programming languages. Below I show how to express the above examples in the XQuery Update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XAMPL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let $source := doc('FitnessCenter.xml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for $i in $source//Member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delete node $i/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replace node $i/@id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attribute {'id'} {data($i/Name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XAMPL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declare namespace ex = "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Courier New"/>
                <a:ea typeface="PMingLiU"/>
                <a:hlinkClick r:id="rId1"/>
              </a:rPr>
              <a:t>http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Courier New"/>
                <a:ea typeface="PMingLiU"/>
                <a:hlinkClick r:id="rId2"/>
              </a:rPr>
              <a:t>://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Courier New"/>
                <a:ea typeface="PMingLiU"/>
                <a:hlinkClick r:id="rId3"/>
              </a:rPr>
              <a:t>www.example.or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declare variable $source := doc('FitnessCenter.xml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declare updating function ex:insert-BMI ($person, $B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f (empty($person/BMI-Values)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sert node &lt;BMI-Values&gt;{$BMI}&lt;/BMI-Values&gt; as last into $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insert node $BMI as last into $person/BMI-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PMingLiU"/>
              </a:rPr>
              <a:t>ex:insert-BMI($source//Member[3], &lt;BMI date='2010-01-01'&gt;10&lt;/BMI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way of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571680" y="1900080"/>
            <a:ext cx="7848360" cy="344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main constructs used in programming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oo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have always thought of these constructs in terms of "Do this, then that." That is, I thought these are imperative constructs only. But now I understand that these are also declarative constru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's how to declaratively think about the constr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6"/>
          <p:cNvSpPr/>
          <p:nvPr/>
        </p:nvSpPr>
        <p:spPr>
          <a:xfrm>
            <a:off x="625320" y="658800"/>
            <a:ext cx="7848720" cy="28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ys of Thinking about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Loop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$i in //Member return A, B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ative: loop through each &lt;Member&gt; element and do actions A, B,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: this A, B, C description applies to each &lt;Member&gt;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639720" y="671400"/>
            <a:ext cx="7848720" cy="405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ys of Thinking about Conditional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Condition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empty(//Member[999])) then A el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ative: if there is no 999th &lt;Member&gt; element then do action A, else do action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:  this description A is for the case where the old document does not contain a 999th &lt;Member&gt; element. And this description B is for the case where the old document _does_ contain a 999th &lt;Member&gt;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5"/>
          <p:cNvSpPr/>
          <p:nvPr/>
        </p:nvSpPr>
        <p:spPr>
          <a:xfrm>
            <a:off x="515880" y="671400"/>
            <a:ext cx="7848720" cy="466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ys of Thinking about a Sequence of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Sequen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node $i/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node $i/@id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{'id'} {data($i/Name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ative: delete the &lt;Name&gt; element, then replace the value of the id attribute with the value of the &lt;Name&gt; element. (Obviously, this is nonsensical in imperative programmin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: in the new document there will be no &lt;Name&gt; element. In the new document the id attribute's value will be the value of the &lt;Name&gt; element in the old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6"/>
          <p:cNvSpPr/>
          <p:nvPr/>
        </p:nvSpPr>
        <p:spPr>
          <a:xfrm>
            <a:off x="693720" y="671400"/>
            <a:ext cx="784872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cap: declarative programming focuses on describing what you want in the new document, relative to what was in the old document. How a machine takes that declarative description and accomplishes it, is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nod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replace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its descendant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tle 1"/>
          <p:cNvSpPr/>
          <p:nvPr/>
        </p:nvSpPr>
        <p:spPr>
          <a:xfrm>
            <a:off x="685800" y="45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value of nod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ext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Content Placeholder 2"/>
          <p:cNvSpPr/>
          <p:nvPr/>
        </p:nvSpPr>
        <p:spPr>
          <a:xfrm>
            <a:off x="685800" y="2135160"/>
            <a:ext cx="77724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repla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alue 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 is a leaf node then its value is replac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 is a non-leaf node then its subtree is replac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element node, only the string value of the element node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't replace a node's valu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element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2063880" y="2333520"/>
            <a:ext cx="45226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Roger Costello&lt;/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4024800" y="2947680"/>
            <a:ext cx="1080" cy="185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2" name="TextBox 7"/>
          <p:cNvSpPr/>
          <p:nvPr/>
        </p:nvSpPr>
        <p:spPr>
          <a:xfrm>
            <a:off x="4087800" y="3013200"/>
            <a:ext cx="44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 value of 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element sequ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Given&gt;Roger&lt;/Give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urname&gt;Costello&lt;/Sur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2064960" y="4929120"/>
            <a:ext cx="46202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Given&gt;Roger&lt;/Given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urname&gt;Costello&lt;&lt;/Sur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uth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60" descr="j0432546.gif"/>
          <p:cNvPicPr/>
          <p:nvPr/>
        </p:nvPicPr>
        <p:blipFill>
          <a:blip r:embed="rId1"/>
          <a:stretch/>
        </p:blipFill>
        <p:spPr>
          <a:xfrm>
            <a:off x="6016680" y="5003640"/>
            <a:ext cx="57780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0:42:01Z</dcterms:created>
  <dc:creator>Roger L. Costello</dc:creator>
  <dc:description>Copyright 2009. The MITRE Corporation. All Rights Reserved.</dc:description>
  <cp:keywords>XQuery Update Tutorial XQuery XML language</cp:keywords>
  <dc:language>en-US</dc:language>
  <cp:lastModifiedBy>User</cp:lastModifiedBy>
  <dcterms:modified xsi:type="dcterms:W3CDTF">2010-06-16T22:30:27Z</dcterms:modified>
  <cp:revision>1827</cp:revision>
  <dc:subject/>
  <dc:title>Tutorial on XQuery Update</dc:title>
</cp:coreProperties>
</file>